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carbrake.wav" ContentType="audio/x-wav"/>
  <Override PartName="/ppt/media/image16.wmf" ContentType="image/x-wmf"/>
  <Override PartName="/ppt/media/image6.wmf" ContentType="image/x-wmf"/>
  <Override PartName="/ppt/media/image5.wmf" ContentType="image/x-wmf"/>
  <Override PartName="/ppt/media/image4.wmf" ContentType="image/x-wmf"/>
  <Override PartName="/ppt/media/laser.wav" ContentType="audio/x-wav"/>
  <Override PartName="/ppt/media/image12.wmf" ContentType="image/x-wmf"/>
  <Override PartName="/ppt/media/image3.wmf" ContentType="image/x-wmf"/>
  <Override PartName="/ppt/media/image2.wmf" ContentType="image/x-wmf"/>
  <Override PartName="/ppt/media/image17.wmf" ContentType="image/x-wmf"/>
  <Override PartName="/ppt/media/image15.wmf" ContentType="image/x-wmf"/>
  <Override PartName="/ppt/media/drumroll.wav" ContentType="audio/x-wav"/>
  <Override PartName="/ppt/media/image14.wmf" ContentType="image/x-wmf"/>
  <Override PartName="/ppt/media/whoosh.wav" ContentType="audio/x-wav"/>
  <Override PartName="/ppt/media/image13.wmf" ContentType="image/x-wmf"/>
  <Override PartName="/ppt/media/image8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10.wmf" ContentType="image/x-wmf"/>
  <Override PartName="/ppt/media/chimes.wav" ContentType="audio/x-wav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  <p:custShowLst>
    <p:custShow name="Custom Show 1" id="0">
      <p:sldLst>
        <p:sld r:id="rId5"/>
        <p:sld r:id="rId7"/>
        <p:sld r:id="rId8"/>
        <p:sld r:id="rId22"/>
        <p:sld r:id="rId23"/>
      </p:sldLst>
    </p:custShow>
    <p:custShow name="Custom Show 2" id="1">
      <p:sldLst>
        <p:sld r:id="rId5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609A-6FD6-45E9-9A8D-A13D5B4B6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8E7C-CDDE-45C8-BE46-9417ACF61F67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96FF-19AE-4820-8E91-09FDDE5F1115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F396-6E6E-457D-A174-03C88BE30928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0DEE-2F51-4917-A63B-B0D1E34E2770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4F35-CE5B-4AE8-B2F1-9F2585743DAE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CF8B-9978-4800-979D-30C3EA0850FF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FD83-EF63-4DA0-9924-5EA2F9718088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8707-03DD-4090-8022-93CCE4DB521C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AAF1-B607-4E0B-824E-4DB5F2846245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FC88-7E2E-47A0-B3CB-D5480CB2F7F2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2EEA-C2F2-4DD4-88BB-B61FB67FB914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9C09-42D9-4322-BF8D-1A213A0411B6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6BD-D732-48C6-932F-7B27FEB1D530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16D3-0ED7-4485-9CC9-8492B52A92BA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06FB-DD2C-40D9-8694-E354B08244E0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0871-17D5-4DDD-B582-5B70A21BDF45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424D-AFBD-4996-9688-DAEE31DF1728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EE2C-1E39-4C2A-ADC3-759898E48C3E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BA3B-1A1D-4BA7-B2AF-FDD2C99845E2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88E-DDDE-497E-85A9-BB90D925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79B-7965-46BC-AFC5-F5BBDBA4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082-8B2D-4E6E-8D34-436132E3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1DC-ABF9-4E5D-A8BA-06BB882D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CB98-B936-4AB7-B1F2-42F416BC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E534-1164-4168-AEFB-8BBEAF88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3502-ABA8-4803-83B7-52949C0D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A7D8-B7FA-4DA1-94B6-50484743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2DB3-73A1-4B9F-9CF9-7CD151F2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327E-EE32-440A-BB0A-7A63D833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649D-9589-4C71-8CB4-CF88362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725-7748-4028-B6F6-FB89CE97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D359-954E-4973-BF22-F141902E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16AC-3626-4E38-ABA5-558A4DE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7CC6-417D-4112-8C14-EFD9975F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27A7-A9C6-4BCE-9BB7-61D11EE6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98A7-0D00-4090-8713-D1A0753B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E33-EC96-4415-B2CA-72B21056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19E-0677-4FE4-9768-FB921DA5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BB5-DCD6-4B6B-A27A-67F50823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094-2C94-4C3F-B5FF-E40584C3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CEC-F70B-4364-AE7B-5DC906B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E7C-AE01-484C-A52C-5858DAE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E7A-C18F-4410-B1F5-4D64BE30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EFAA-BC94-441D-BB7D-B12D418F5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3144-F23A-45D2-895D-A0C4728B1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8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projcto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CFD3-823F-441F-9FDD-7A5FD73DF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cc"/>
                </a:solidFill>
                <a:latin typeface="Times New Roman"/>
              </a:rPr>
              <a:t>El Subjuntivo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52120" y="4572000"/>
            <a:ext cx="5715000" cy="8049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¿Cómo y cuándo lo usamo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E54-9E6E-4B05-A8A0-73CE0F1E6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2" descr="c:\Program Files\Microsoft Office\Clipart\standard\stddir2\bs01244_.wmf"/>
          <p:cNvPicPr/>
          <p:nvPr/>
        </p:nvPicPr>
        <p:blipFill>
          <a:blip r:embed="rId1"/>
          <a:stretch/>
        </p:blipFill>
        <p:spPr>
          <a:xfrm>
            <a:off x="457200" y="228600"/>
            <a:ext cx="1795320" cy="2743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822040" y="425520"/>
            <a:ext cx="53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a “Puerta” al Subjuntivo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252600" y="1285920"/>
            <a:ext cx="431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 entrar en la “puerta,”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necesitan unas “llaves”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ortantes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2121480" y="3549600"/>
            <a:ext cx="4851360" cy="645120"/>
            <a:chOff x="2121480" y="3549600"/>
            <a:chExt cx="4851360" cy="645120"/>
          </a:xfrm>
        </p:grpSpPr>
        <p:sp>
          <p:nvSpPr>
            <p:cNvPr id="158" name="Text Box 5"/>
            <p:cNvSpPr/>
            <p:nvPr/>
          </p:nvSpPr>
          <p:spPr>
            <a:xfrm>
              <a:off x="2957760" y="3549600"/>
              <a:ext cx="401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un verbo “especial”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2121480" y="3641400"/>
              <a:ext cx="887400" cy="553320"/>
              <a:chOff x="2121480" y="3641400"/>
              <a:chExt cx="887400" cy="553320"/>
            </a:xfrm>
          </p:grpSpPr>
          <p:sp>
            <p:nvSpPr>
              <p:cNvPr id="160" name="Freeform 7"/>
              <p:cNvSpPr/>
              <p:nvPr/>
            </p:nvSpPr>
            <p:spPr>
              <a:xfrm flipH="1" rot="19783200">
                <a:off x="2278440" y="3991320"/>
                <a:ext cx="217800" cy="155880"/>
              </a:xfrm>
              <a:custGeom>
                <a:avLst/>
                <a:gdLst>
                  <a:gd name="textAreaLeft" fmla="*/ -360 w 217800"/>
                  <a:gd name="textAreaRight" fmla="*/ 217800 w 2178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426" h="1021">
                    <a:moveTo>
                      <a:pt x="0" y="74"/>
                    </a:moveTo>
                    <a:lnTo>
                      <a:pt x="331" y="63"/>
                    </a:lnTo>
                    <a:lnTo>
                      <a:pt x="381" y="432"/>
                    </a:lnTo>
                    <a:lnTo>
                      <a:pt x="609" y="614"/>
                    </a:lnTo>
                    <a:lnTo>
                      <a:pt x="875" y="614"/>
                    </a:lnTo>
                    <a:lnTo>
                      <a:pt x="1069" y="333"/>
                    </a:lnTo>
                    <a:lnTo>
                      <a:pt x="1114" y="0"/>
                    </a:lnTo>
                    <a:lnTo>
                      <a:pt x="1409" y="29"/>
                    </a:lnTo>
                    <a:lnTo>
                      <a:pt x="1426" y="327"/>
                    </a:lnTo>
                    <a:lnTo>
                      <a:pt x="1219" y="747"/>
                    </a:lnTo>
                    <a:lnTo>
                      <a:pt x="759" y="1021"/>
                    </a:lnTo>
                    <a:lnTo>
                      <a:pt x="306" y="863"/>
                    </a:lnTo>
                    <a:lnTo>
                      <a:pt x="44" y="49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 rot="19783200">
                <a:off x="2145600" y="3900960"/>
                <a:ext cx="304920" cy="178920"/>
              </a:xfrm>
              <a:custGeom>
                <a:avLst/>
                <a:gdLst>
                  <a:gd name="textAreaLeft" fmla="*/ -360 w 304920"/>
                  <a:gd name="textAreaRight" fmla="*/ 304920 w 3049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999" h="1172">
                    <a:moveTo>
                      <a:pt x="0" y="930"/>
                    </a:moveTo>
                    <a:lnTo>
                      <a:pt x="373" y="922"/>
                    </a:lnTo>
                    <a:lnTo>
                      <a:pt x="436" y="498"/>
                    </a:lnTo>
                    <a:lnTo>
                      <a:pt x="647" y="306"/>
                    </a:lnTo>
                    <a:lnTo>
                      <a:pt x="875" y="361"/>
                    </a:lnTo>
                    <a:lnTo>
                      <a:pt x="1078" y="527"/>
                    </a:lnTo>
                    <a:lnTo>
                      <a:pt x="1137" y="905"/>
                    </a:lnTo>
                    <a:lnTo>
                      <a:pt x="1464" y="898"/>
                    </a:lnTo>
                    <a:lnTo>
                      <a:pt x="1493" y="1172"/>
                    </a:lnTo>
                    <a:lnTo>
                      <a:pt x="1689" y="1080"/>
                    </a:lnTo>
                    <a:lnTo>
                      <a:pt x="1742" y="905"/>
                    </a:lnTo>
                    <a:lnTo>
                      <a:pt x="1890" y="913"/>
                    </a:lnTo>
                    <a:lnTo>
                      <a:pt x="1999" y="814"/>
                    </a:lnTo>
                    <a:lnTo>
                      <a:pt x="1919" y="603"/>
                    </a:lnTo>
                    <a:lnTo>
                      <a:pt x="1689" y="603"/>
                    </a:lnTo>
                    <a:lnTo>
                      <a:pt x="1510" y="445"/>
                    </a:lnTo>
                    <a:lnTo>
                      <a:pt x="1299" y="348"/>
                    </a:lnTo>
                    <a:lnTo>
                      <a:pt x="1040" y="91"/>
                    </a:lnTo>
                    <a:lnTo>
                      <a:pt x="639" y="0"/>
                    </a:lnTo>
                    <a:lnTo>
                      <a:pt x="268" y="91"/>
                    </a:lnTo>
                    <a:lnTo>
                      <a:pt x="90" y="428"/>
                    </a:lnTo>
                    <a:lnTo>
                      <a:pt x="0" y="831"/>
                    </a:lnTo>
                    <a:lnTo>
                      <a:pt x="0" y="9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 flipH="1" rot="19783200">
                <a:off x="2774520" y="3834720"/>
                <a:ext cx="34560" cy="9756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28" h="639">
                    <a:moveTo>
                      <a:pt x="0" y="59"/>
                    </a:moveTo>
                    <a:lnTo>
                      <a:pt x="46" y="639"/>
                    </a:lnTo>
                    <a:lnTo>
                      <a:pt x="228" y="428"/>
                    </a:lnTo>
                    <a:lnTo>
                      <a:pt x="165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 rot="19783200">
                <a:off x="2435400" y="3763800"/>
                <a:ext cx="541080" cy="222480"/>
              </a:xfrm>
              <a:custGeom>
                <a:avLst/>
                <a:gdLst>
                  <a:gd name="textAreaLeft" fmla="*/ -360 w 541080"/>
                  <a:gd name="textAreaRight" fmla="*/ 541080 w 54108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546" h="1458">
                    <a:moveTo>
                      <a:pt x="0" y="595"/>
                    </a:moveTo>
                    <a:lnTo>
                      <a:pt x="257" y="722"/>
                    </a:lnTo>
                    <a:lnTo>
                      <a:pt x="278" y="1424"/>
                    </a:lnTo>
                    <a:lnTo>
                      <a:pt x="552" y="1458"/>
                    </a:lnTo>
                    <a:lnTo>
                      <a:pt x="618" y="1200"/>
                    </a:lnTo>
                    <a:lnTo>
                      <a:pt x="839" y="1192"/>
                    </a:lnTo>
                    <a:lnTo>
                      <a:pt x="922" y="1449"/>
                    </a:lnTo>
                    <a:lnTo>
                      <a:pt x="1207" y="1441"/>
                    </a:lnTo>
                    <a:lnTo>
                      <a:pt x="1217" y="722"/>
                    </a:lnTo>
                    <a:lnTo>
                      <a:pt x="3092" y="574"/>
                    </a:lnTo>
                    <a:lnTo>
                      <a:pt x="3337" y="789"/>
                    </a:lnTo>
                    <a:lnTo>
                      <a:pt x="3546" y="785"/>
                    </a:lnTo>
                    <a:lnTo>
                      <a:pt x="3464" y="216"/>
                    </a:lnTo>
                    <a:lnTo>
                      <a:pt x="3432" y="0"/>
                    </a:lnTo>
                    <a:lnTo>
                      <a:pt x="3215" y="59"/>
                    </a:lnTo>
                    <a:lnTo>
                      <a:pt x="3088" y="291"/>
                    </a:lnTo>
                    <a:lnTo>
                      <a:pt x="2232" y="279"/>
                    </a:lnTo>
                    <a:lnTo>
                      <a:pt x="1055" y="346"/>
                    </a:lnTo>
                    <a:lnTo>
                      <a:pt x="187" y="378"/>
                    </a:lnTo>
                    <a:lnTo>
                      <a:pt x="17" y="445"/>
                    </a:lnTo>
                    <a:lnTo>
                      <a:pt x="0" y="595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 flipH="1" rot="19783200">
                <a:off x="2201040" y="3826440"/>
                <a:ext cx="423000" cy="200880"/>
              </a:xfrm>
              <a:custGeom>
                <a:avLst/>
                <a:gdLst>
                  <a:gd name="textAreaLeft" fmla="*/ -360 w 423000"/>
                  <a:gd name="textAreaRight" fmla="*/ 423000 w 42300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2770" h="1314">
                    <a:moveTo>
                      <a:pt x="7" y="848"/>
                    </a:moveTo>
                    <a:lnTo>
                      <a:pt x="59" y="840"/>
                    </a:lnTo>
                    <a:lnTo>
                      <a:pt x="112" y="835"/>
                    </a:lnTo>
                    <a:lnTo>
                      <a:pt x="165" y="831"/>
                    </a:lnTo>
                    <a:lnTo>
                      <a:pt x="219" y="827"/>
                    </a:lnTo>
                    <a:lnTo>
                      <a:pt x="272" y="821"/>
                    </a:lnTo>
                    <a:lnTo>
                      <a:pt x="325" y="819"/>
                    </a:lnTo>
                    <a:lnTo>
                      <a:pt x="378" y="816"/>
                    </a:lnTo>
                    <a:lnTo>
                      <a:pt x="431" y="816"/>
                    </a:lnTo>
                    <a:lnTo>
                      <a:pt x="483" y="812"/>
                    </a:lnTo>
                    <a:lnTo>
                      <a:pt x="536" y="810"/>
                    </a:lnTo>
                    <a:lnTo>
                      <a:pt x="589" y="806"/>
                    </a:lnTo>
                    <a:lnTo>
                      <a:pt x="643" y="806"/>
                    </a:lnTo>
                    <a:lnTo>
                      <a:pt x="696" y="804"/>
                    </a:lnTo>
                    <a:lnTo>
                      <a:pt x="749" y="804"/>
                    </a:lnTo>
                    <a:lnTo>
                      <a:pt x="802" y="802"/>
                    </a:lnTo>
                    <a:lnTo>
                      <a:pt x="857" y="802"/>
                    </a:lnTo>
                    <a:lnTo>
                      <a:pt x="865" y="768"/>
                    </a:lnTo>
                    <a:lnTo>
                      <a:pt x="876" y="738"/>
                    </a:lnTo>
                    <a:lnTo>
                      <a:pt x="890" y="707"/>
                    </a:lnTo>
                    <a:lnTo>
                      <a:pt x="907" y="679"/>
                    </a:lnTo>
                    <a:lnTo>
                      <a:pt x="924" y="650"/>
                    </a:lnTo>
                    <a:lnTo>
                      <a:pt x="947" y="624"/>
                    </a:lnTo>
                    <a:lnTo>
                      <a:pt x="970" y="601"/>
                    </a:lnTo>
                    <a:lnTo>
                      <a:pt x="998" y="580"/>
                    </a:lnTo>
                    <a:lnTo>
                      <a:pt x="1023" y="561"/>
                    </a:lnTo>
                    <a:lnTo>
                      <a:pt x="1053" y="546"/>
                    </a:lnTo>
                    <a:lnTo>
                      <a:pt x="1082" y="532"/>
                    </a:lnTo>
                    <a:lnTo>
                      <a:pt x="1114" y="527"/>
                    </a:lnTo>
                    <a:lnTo>
                      <a:pt x="1144" y="521"/>
                    </a:lnTo>
                    <a:lnTo>
                      <a:pt x="1179" y="523"/>
                    </a:lnTo>
                    <a:lnTo>
                      <a:pt x="1211" y="528"/>
                    </a:lnTo>
                    <a:lnTo>
                      <a:pt x="1247" y="542"/>
                    </a:lnTo>
                    <a:lnTo>
                      <a:pt x="1255" y="544"/>
                    </a:lnTo>
                    <a:lnTo>
                      <a:pt x="1259" y="538"/>
                    </a:lnTo>
                    <a:lnTo>
                      <a:pt x="1274" y="525"/>
                    </a:lnTo>
                    <a:lnTo>
                      <a:pt x="1346" y="346"/>
                    </a:lnTo>
                    <a:lnTo>
                      <a:pt x="1445" y="207"/>
                    </a:lnTo>
                    <a:lnTo>
                      <a:pt x="1563" y="104"/>
                    </a:lnTo>
                    <a:lnTo>
                      <a:pt x="1698" y="40"/>
                    </a:lnTo>
                    <a:lnTo>
                      <a:pt x="1838" y="4"/>
                    </a:lnTo>
                    <a:lnTo>
                      <a:pt x="1987" y="0"/>
                    </a:lnTo>
                    <a:lnTo>
                      <a:pt x="2135" y="26"/>
                    </a:lnTo>
                    <a:lnTo>
                      <a:pt x="2280" y="82"/>
                    </a:lnTo>
                    <a:lnTo>
                      <a:pt x="2411" y="159"/>
                    </a:lnTo>
                    <a:lnTo>
                      <a:pt x="2530" y="264"/>
                    </a:lnTo>
                    <a:lnTo>
                      <a:pt x="2631" y="390"/>
                    </a:lnTo>
                    <a:lnTo>
                      <a:pt x="2709" y="540"/>
                    </a:lnTo>
                    <a:lnTo>
                      <a:pt x="2757" y="705"/>
                    </a:lnTo>
                    <a:lnTo>
                      <a:pt x="2770" y="892"/>
                    </a:lnTo>
                    <a:lnTo>
                      <a:pt x="2747" y="1093"/>
                    </a:lnTo>
                    <a:lnTo>
                      <a:pt x="2683" y="1310"/>
                    </a:lnTo>
                    <a:lnTo>
                      <a:pt x="2624" y="1264"/>
                    </a:lnTo>
                    <a:lnTo>
                      <a:pt x="2631" y="1219"/>
                    </a:lnTo>
                    <a:lnTo>
                      <a:pt x="2639" y="1173"/>
                    </a:lnTo>
                    <a:lnTo>
                      <a:pt x="2643" y="1126"/>
                    </a:lnTo>
                    <a:lnTo>
                      <a:pt x="2648" y="1080"/>
                    </a:lnTo>
                    <a:lnTo>
                      <a:pt x="2648" y="1030"/>
                    </a:lnTo>
                    <a:lnTo>
                      <a:pt x="2648" y="985"/>
                    </a:lnTo>
                    <a:lnTo>
                      <a:pt x="2646" y="935"/>
                    </a:lnTo>
                    <a:lnTo>
                      <a:pt x="2645" y="890"/>
                    </a:lnTo>
                    <a:lnTo>
                      <a:pt x="2637" y="840"/>
                    </a:lnTo>
                    <a:lnTo>
                      <a:pt x="2629" y="793"/>
                    </a:lnTo>
                    <a:lnTo>
                      <a:pt x="2618" y="747"/>
                    </a:lnTo>
                    <a:lnTo>
                      <a:pt x="2608" y="701"/>
                    </a:lnTo>
                    <a:lnTo>
                      <a:pt x="2591" y="656"/>
                    </a:lnTo>
                    <a:lnTo>
                      <a:pt x="2576" y="614"/>
                    </a:lnTo>
                    <a:lnTo>
                      <a:pt x="2557" y="574"/>
                    </a:lnTo>
                    <a:lnTo>
                      <a:pt x="2538" y="536"/>
                    </a:lnTo>
                    <a:lnTo>
                      <a:pt x="2487" y="557"/>
                    </a:lnTo>
                    <a:lnTo>
                      <a:pt x="2491" y="536"/>
                    </a:lnTo>
                    <a:lnTo>
                      <a:pt x="2494" y="517"/>
                    </a:lnTo>
                    <a:lnTo>
                      <a:pt x="2496" y="496"/>
                    </a:lnTo>
                    <a:lnTo>
                      <a:pt x="2500" y="477"/>
                    </a:lnTo>
                    <a:lnTo>
                      <a:pt x="2500" y="466"/>
                    </a:lnTo>
                    <a:lnTo>
                      <a:pt x="2502" y="456"/>
                    </a:lnTo>
                    <a:lnTo>
                      <a:pt x="2502" y="445"/>
                    </a:lnTo>
                    <a:lnTo>
                      <a:pt x="2504" y="435"/>
                    </a:lnTo>
                    <a:lnTo>
                      <a:pt x="2504" y="414"/>
                    </a:lnTo>
                    <a:lnTo>
                      <a:pt x="2504" y="395"/>
                    </a:lnTo>
                    <a:lnTo>
                      <a:pt x="2496" y="384"/>
                    </a:lnTo>
                    <a:lnTo>
                      <a:pt x="2489" y="376"/>
                    </a:lnTo>
                    <a:lnTo>
                      <a:pt x="2481" y="371"/>
                    </a:lnTo>
                    <a:lnTo>
                      <a:pt x="2475" y="371"/>
                    </a:lnTo>
                    <a:lnTo>
                      <a:pt x="2460" y="371"/>
                    </a:lnTo>
                    <a:lnTo>
                      <a:pt x="2449" y="380"/>
                    </a:lnTo>
                    <a:lnTo>
                      <a:pt x="2435" y="390"/>
                    </a:lnTo>
                    <a:lnTo>
                      <a:pt x="2422" y="405"/>
                    </a:lnTo>
                    <a:lnTo>
                      <a:pt x="2411" y="420"/>
                    </a:lnTo>
                    <a:lnTo>
                      <a:pt x="2401" y="437"/>
                    </a:lnTo>
                    <a:lnTo>
                      <a:pt x="2401" y="308"/>
                    </a:lnTo>
                    <a:lnTo>
                      <a:pt x="2388" y="298"/>
                    </a:lnTo>
                    <a:lnTo>
                      <a:pt x="2376" y="291"/>
                    </a:lnTo>
                    <a:lnTo>
                      <a:pt x="2369" y="285"/>
                    </a:lnTo>
                    <a:lnTo>
                      <a:pt x="2363" y="279"/>
                    </a:lnTo>
                    <a:lnTo>
                      <a:pt x="2352" y="272"/>
                    </a:lnTo>
                    <a:lnTo>
                      <a:pt x="2346" y="270"/>
                    </a:lnTo>
                    <a:lnTo>
                      <a:pt x="2337" y="274"/>
                    </a:lnTo>
                    <a:lnTo>
                      <a:pt x="2329" y="285"/>
                    </a:lnTo>
                    <a:lnTo>
                      <a:pt x="2321" y="293"/>
                    </a:lnTo>
                    <a:lnTo>
                      <a:pt x="2316" y="306"/>
                    </a:lnTo>
                    <a:lnTo>
                      <a:pt x="2306" y="319"/>
                    </a:lnTo>
                    <a:lnTo>
                      <a:pt x="2297" y="338"/>
                    </a:lnTo>
                    <a:lnTo>
                      <a:pt x="2259" y="213"/>
                    </a:lnTo>
                    <a:lnTo>
                      <a:pt x="2241" y="211"/>
                    </a:lnTo>
                    <a:lnTo>
                      <a:pt x="2230" y="205"/>
                    </a:lnTo>
                    <a:lnTo>
                      <a:pt x="2221" y="198"/>
                    </a:lnTo>
                    <a:lnTo>
                      <a:pt x="2213" y="194"/>
                    </a:lnTo>
                    <a:lnTo>
                      <a:pt x="2203" y="190"/>
                    </a:lnTo>
                    <a:lnTo>
                      <a:pt x="2194" y="196"/>
                    </a:lnTo>
                    <a:lnTo>
                      <a:pt x="2186" y="201"/>
                    </a:lnTo>
                    <a:lnTo>
                      <a:pt x="2179" y="211"/>
                    </a:lnTo>
                    <a:lnTo>
                      <a:pt x="2169" y="220"/>
                    </a:lnTo>
                    <a:lnTo>
                      <a:pt x="2160" y="237"/>
                    </a:lnTo>
                    <a:lnTo>
                      <a:pt x="2131" y="171"/>
                    </a:lnTo>
                    <a:lnTo>
                      <a:pt x="2118" y="169"/>
                    </a:lnTo>
                    <a:lnTo>
                      <a:pt x="2105" y="167"/>
                    </a:lnTo>
                    <a:lnTo>
                      <a:pt x="2089" y="163"/>
                    </a:lnTo>
                    <a:lnTo>
                      <a:pt x="2074" y="161"/>
                    </a:lnTo>
                    <a:lnTo>
                      <a:pt x="2059" y="154"/>
                    </a:lnTo>
                    <a:lnTo>
                      <a:pt x="2046" y="148"/>
                    </a:lnTo>
                    <a:lnTo>
                      <a:pt x="2034" y="139"/>
                    </a:lnTo>
                    <a:lnTo>
                      <a:pt x="2027" y="129"/>
                    </a:lnTo>
                    <a:lnTo>
                      <a:pt x="2021" y="133"/>
                    </a:lnTo>
                    <a:lnTo>
                      <a:pt x="2015" y="142"/>
                    </a:lnTo>
                    <a:lnTo>
                      <a:pt x="2008" y="156"/>
                    </a:lnTo>
                    <a:lnTo>
                      <a:pt x="2000" y="171"/>
                    </a:lnTo>
                    <a:lnTo>
                      <a:pt x="1991" y="184"/>
                    </a:lnTo>
                    <a:lnTo>
                      <a:pt x="1983" y="198"/>
                    </a:lnTo>
                    <a:lnTo>
                      <a:pt x="1977" y="205"/>
                    </a:lnTo>
                    <a:lnTo>
                      <a:pt x="1977" y="209"/>
                    </a:lnTo>
                    <a:lnTo>
                      <a:pt x="1914" y="135"/>
                    </a:lnTo>
                    <a:lnTo>
                      <a:pt x="1878" y="133"/>
                    </a:lnTo>
                    <a:lnTo>
                      <a:pt x="1844" y="137"/>
                    </a:lnTo>
                    <a:lnTo>
                      <a:pt x="1808" y="140"/>
                    </a:lnTo>
                    <a:lnTo>
                      <a:pt x="1772" y="150"/>
                    </a:lnTo>
                    <a:lnTo>
                      <a:pt x="1734" y="159"/>
                    </a:lnTo>
                    <a:lnTo>
                      <a:pt x="1696" y="173"/>
                    </a:lnTo>
                    <a:lnTo>
                      <a:pt x="1658" y="188"/>
                    </a:lnTo>
                    <a:lnTo>
                      <a:pt x="1624" y="207"/>
                    </a:lnTo>
                    <a:lnTo>
                      <a:pt x="1587" y="224"/>
                    </a:lnTo>
                    <a:lnTo>
                      <a:pt x="1553" y="247"/>
                    </a:lnTo>
                    <a:lnTo>
                      <a:pt x="1523" y="270"/>
                    </a:lnTo>
                    <a:lnTo>
                      <a:pt x="1496" y="298"/>
                    </a:lnTo>
                    <a:lnTo>
                      <a:pt x="1470" y="325"/>
                    </a:lnTo>
                    <a:lnTo>
                      <a:pt x="1449" y="355"/>
                    </a:lnTo>
                    <a:lnTo>
                      <a:pt x="1432" y="386"/>
                    </a:lnTo>
                    <a:lnTo>
                      <a:pt x="1420" y="420"/>
                    </a:lnTo>
                    <a:lnTo>
                      <a:pt x="1451" y="433"/>
                    </a:lnTo>
                    <a:lnTo>
                      <a:pt x="1452" y="422"/>
                    </a:lnTo>
                    <a:lnTo>
                      <a:pt x="1456" y="411"/>
                    </a:lnTo>
                    <a:lnTo>
                      <a:pt x="1460" y="401"/>
                    </a:lnTo>
                    <a:lnTo>
                      <a:pt x="1466" y="393"/>
                    </a:lnTo>
                    <a:lnTo>
                      <a:pt x="1477" y="376"/>
                    </a:lnTo>
                    <a:lnTo>
                      <a:pt x="1492" y="361"/>
                    </a:lnTo>
                    <a:lnTo>
                      <a:pt x="1506" y="346"/>
                    </a:lnTo>
                    <a:lnTo>
                      <a:pt x="1523" y="333"/>
                    </a:lnTo>
                    <a:lnTo>
                      <a:pt x="1540" y="319"/>
                    </a:lnTo>
                    <a:lnTo>
                      <a:pt x="1557" y="308"/>
                    </a:lnTo>
                    <a:lnTo>
                      <a:pt x="1529" y="433"/>
                    </a:lnTo>
                    <a:lnTo>
                      <a:pt x="1536" y="422"/>
                    </a:lnTo>
                    <a:lnTo>
                      <a:pt x="1548" y="411"/>
                    </a:lnTo>
                    <a:lnTo>
                      <a:pt x="1555" y="399"/>
                    </a:lnTo>
                    <a:lnTo>
                      <a:pt x="1567" y="390"/>
                    </a:lnTo>
                    <a:lnTo>
                      <a:pt x="1576" y="378"/>
                    </a:lnTo>
                    <a:lnTo>
                      <a:pt x="1586" y="371"/>
                    </a:lnTo>
                    <a:lnTo>
                      <a:pt x="1597" y="361"/>
                    </a:lnTo>
                    <a:lnTo>
                      <a:pt x="1608" y="353"/>
                    </a:lnTo>
                    <a:lnTo>
                      <a:pt x="1620" y="344"/>
                    </a:lnTo>
                    <a:lnTo>
                      <a:pt x="1631" y="336"/>
                    </a:lnTo>
                    <a:lnTo>
                      <a:pt x="1643" y="329"/>
                    </a:lnTo>
                    <a:lnTo>
                      <a:pt x="1654" y="323"/>
                    </a:lnTo>
                    <a:lnTo>
                      <a:pt x="1665" y="315"/>
                    </a:lnTo>
                    <a:lnTo>
                      <a:pt x="1679" y="310"/>
                    </a:lnTo>
                    <a:lnTo>
                      <a:pt x="1692" y="306"/>
                    </a:lnTo>
                    <a:lnTo>
                      <a:pt x="1707" y="304"/>
                    </a:lnTo>
                    <a:lnTo>
                      <a:pt x="1692" y="315"/>
                    </a:lnTo>
                    <a:lnTo>
                      <a:pt x="1681" y="329"/>
                    </a:lnTo>
                    <a:lnTo>
                      <a:pt x="1669" y="342"/>
                    </a:lnTo>
                    <a:lnTo>
                      <a:pt x="1658" y="357"/>
                    </a:lnTo>
                    <a:lnTo>
                      <a:pt x="1646" y="369"/>
                    </a:lnTo>
                    <a:lnTo>
                      <a:pt x="1639" y="384"/>
                    </a:lnTo>
                    <a:lnTo>
                      <a:pt x="1629" y="399"/>
                    </a:lnTo>
                    <a:lnTo>
                      <a:pt x="1622" y="416"/>
                    </a:lnTo>
                    <a:lnTo>
                      <a:pt x="1612" y="431"/>
                    </a:lnTo>
                    <a:lnTo>
                      <a:pt x="1605" y="447"/>
                    </a:lnTo>
                    <a:lnTo>
                      <a:pt x="1597" y="464"/>
                    </a:lnTo>
                    <a:lnTo>
                      <a:pt x="1591" y="481"/>
                    </a:lnTo>
                    <a:lnTo>
                      <a:pt x="1582" y="498"/>
                    </a:lnTo>
                    <a:lnTo>
                      <a:pt x="1574" y="517"/>
                    </a:lnTo>
                    <a:lnTo>
                      <a:pt x="1567" y="536"/>
                    </a:lnTo>
                    <a:lnTo>
                      <a:pt x="1561" y="557"/>
                    </a:lnTo>
                    <a:lnTo>
                      <a:pt x="1563" y="566"/>
                    </a:lnTo>
                    <a:lnTo>
                      <a:pt x="1568" y="576"/>
                    </a:lnTo>
                    <a:lnTo>
                      <a:pt x="1574" y="585"/>
                    </a:lnTo>
                    <a:lnTo>
                      <a:pt x="1582" y="591"/>
                    </a:lnTo>
                    <a:lnTo>
                      <a:pt x="1631" y="513"/>
                    </a:lnTo>
                    <a:lnTo>
                      <a:pt x="1686" y="450"/>
                    </a:lnTo>
                    <a:lnTo>
                      <a:pt x="1741" y="399"/>
                    </a:lnTo>
                    <a:lnTo>
                      <a:pt x="1800" y="363"/>
                    </a:lnTo>
                    <a:lnTo>
                      <a:pt x="1859" y="334"/>
                    </a:lnTo>
                    <a:lnTo>
                      <a:pt x="1918" y="319"/>
                    </a:lnTo>
                    <a:lnTo>
                      <a:pt x="1977" y="315"/>
                    </a:lnTo>
                    <a:lnTo>
                      <a:pt x="2038" y="323"/>
                    </a:lnTo>
                    <a:lnTo>
                      <a:pt x="2093" y="338"/>
                    </a:lnTo>
                    <a:lnTo>
                      <a:pt x="2148" y="365"/>
                    </a:lnTo>
                    <a:lnTo>
                      <a:pt x="2198" y="401"/>
                    </a:lnTo>
                    <a:lnTo>
                      <a:pt x="2249" y="447"/>
                    </a:lnTo>
                    <a:lnTo>
                      <a:pt x="2291" y="498"/>
                    </a:lnTo>
                    <a:lnTo>
                      <a:pt x="2331" y="561"/>
                    </a:lnTo>
                    <a:lnTo>
                      <a:pt x="2365" y="629"/>
                    </a:lnTo>
                    <a:lnTo>
                      <a:pt x="2395" y="707"/>
                    </a:lnTo>
                    <a:lnTo>
                      <a:pt x="2318" y="732"/>
                    </a:lnTo>
                    <a:lnTo>
                      <a:pt x="2302" y="665"/>
                    </a:lnTo>
                    <a:lnTo>
                      <a:pt x="2278" y="604"/>
                    </a:lnTo>
                    <a:lnTo>
                      <a:pt x="2238" y="549"/>
                    </a:lnTo>
                    <a:lnTo>
                      <a:pt x="2192" y="500"/>
                    </a:lnTo>
                    <a:lnTo>
                      <a:pt x="2137" y="458"/>
                    </a:lnTo>
                    <a:lnTo>
                      <a:pt x="2078" y="430"/>
                    </a:lnTo>
                    <a:lnTo>
                      <a:pt x="2015" y="412"/>
                    </a:lnTo>
                    <a:lnTo>
                      <a:pt x="1952" y="411"/>
                    </a:lnTo>
                    <a:lnTo>
                      <a:pt x="1890" y="422"/>
                    </a:lnTo>
                    <a:lnTo>
                      <a:pt x="1833" y="454"/>
                    </a:lnTo>
                    <a:lnTo>
                      <a:pt x="1781" y="508"/>
                    </a:lnTo>
                    <a:lnTo>
                      <a:pt x="1738" y="584"/>
                    </a:lnTo>
                    <a:lnTo>
                      <a:pt x="1703" y="681"/>
                    </a:lnTo>
                    <a:lnTo>
                      <a:pt x="1683" y="808"/>
                    </a:lnTo>
                    <a:lnTo>
                      <a:pt x="1675" y="962"/>
                    </a:lnTo>
                    <a:lnTo>
                      <a:pt x="1686" y="1147"/>
                    </a:lnTo>
                    <a:lnTo>
                      <a:pt x="1591" y="1164"/>
                    </a:lnTo>
                    <a:lnTo>
                      <a:pt x="1574" y="932"/>
                    </a:lnTo>
                    <a:lnTo>
                      <a:pt x="1546" y="928"/>
                    </a:lnTo>
                    <a:lnTo>
                      <a:pt x="1532" y="945"/>
                    </a:lnTo>
                    <a:lnTo>
                      <a:pt x="1523" y="962"/>
                    </a:lnTo>
                    <a:lnTo>
                      <a:pt x="1513" y="981"/>
                    </a:lnTo>
                    <a:lnTo>
                      <a:pt x="1506" y="1002"/>
                    </a:lnTo>
                    <a:lnTo>
                      <a:pt x="1496" y="1021"/>
                    </a:lnTo>
                    <a:lnTo>
                      <a:pt x="1489" y="1040"/>
                    </a:lnTo>
                    <a:lnTo>
                      <a:pt x="1479" y="1059"/>
                    </a:lnTo>
                    <a:lnTo>
                      <a:pt x="1470" y="1080"/>
                    </a:lnTo>
                    <a:lnTo>
                      <a:pt x="1462" y="1057"/>
                    </a:lnTo>
                    <a:lnTo>
                      <a:pt x="1458" y="1034"/>
                    </a:lnTo>
                    <a:lnTo>
                      <a:pt x="1452" y="1008"/>
                    </a:lnTo>
                    <a:lnTo>
                      <a:pt x="1452" y="983"/>
                    </a:lnTo>
                    <a:lnTo>
                      <a:pt x="1451" y="956"/>
                    </a:lnTo>
                    <a:lnTo>
                      <a:pt x="1451" y="930"/>
                    </a:lnTo>
                    <a:lnTo>
                      <a:pt x="1452" y="901"/>
                    </a:lnTo>
                    <a:lnTo>
                      <a:pt x="1456" y="876"/>
                    </a:lnTo>
                    <a:lnTo>
                      <a:pt x="1456" y="848"/>
                    </a:lnTo>
                    <a:lnTo>
                      <a:pt x="1460" y="825"/>
                    </a:lnTo>
                    <a:lnTo>
                      <a:pt x="1462" y="802"/>
                    </a:lnTo>
                    <a:lnTo>
                      <a:pt x="1466" y="783"/>
                    </a:lnTo>
                    <a:lnTo>
                      <a:pt x="1475" y="736"/>
                    </a:lnTo>
                    <a:lnTo>
                      <a:pt x="1416" y="840"/>
                    </a:lnTo>
                    <a:lnTo>
                      <a:pt x="1375" y="703"/>
                    </a:lnTo>
                    <a:lnTo>
                      <a:pt x="1403" y="553"/>
                    </a:lnTo>
                    <a:lnTo>
                      <a:pt x="1375" y="553"/>
                    </a:lnTo>
                    <a:lnTo>
                      <a:pt x="1361" y="587"/>
                    </a:lnTo>
                    <a:lnTo>
                      <a:pt x="1352" y="622"/>
                    </a:lnTo>
                    <a:lnTo>
                      <a:pt x="1344" y="658"/>
                    </a:lnTo>
                    <a:lnTo>
                      <a:pt x="1338" y="698"/>
                    </a:lnTo>
                    <a:lnTo>
                      <a:pt x="1333" y="736"/>
                    </a:lnTo>
                    <a:lnTo>
                      <a:pt x="1329" y="774"/>
                    </a:lnTo>
                    <a:lnTo>
                      <a:pt x="1327" y="814"/>
                    </a:lnTo>
                    <a:lnTo>
                      <a:pt x="1327" y="854"/>
                    </a:lnTo>
                    <a:lnTo>
                      <a:pt x="1325" y="892"/>
                    </a:lnTo>
                    <a:lnTo>
                      <a:pt x="1325" y="932"/>
                    </a:lnTo>
                    <a:lnTo>
                      <a:pt x="1327" y="972"/>
                    </a:lnTo>
                    <a:lnTo>
                      <a:pt x="1329" y="1011"/>
                    </a:lnTo>
                    <a:lnTo>
                      <a:pt x="1331" y="1048"/>
                    </a:lnTo>
                    <a:lnTo>
                      <a:pt x="1335" y="1086"/>
                    </a:lnTo>
                    <a:lnTo>
                      <a:pt x="1336" y="1122"/>
                    </a:lnTo>
                    <a:lnTo>
                      <a:pt x="1342" y="1160"/>
                    </a:lnTo>
                    <a:lnTo>
                      <a:pt x="1255" y="1164"/>
                    </a:lnTo>
                    <a:lnTo>
                      <a:pt x="1249" y="1150"/>
                    </a:lnTo>
                    <a:lnTo>
                      <a:pt x="1247" y="1139"/>
                    </a:lnTo>
                    <a:lnTo>
                      <a:pt x="1245" y="1127"/>
                    </a:lnTo>
                    <a:lnTo>
                      <a:pt x="1245" y="1116"/>
                    </a:lnTo>
                    <a:lnTo>
                      <a:pt x="1240" y="1105"/>
                    </a:lnTo>
                    <a:lnTo>
                      <a:pt x="1238" y="1095"/>
                    </a:lnTo>
                    <a:lnTo>
                      <a:pt x="1238" y="1084"/>
                    </a:lnTo>
                    <a:lnTo>
                      <a:pt x="1238" y="1074"/>
                    </a:lnTo>
                    <a:lnTo>
                      <a:pt x="1238" y="1053"/>
                    </a:lnTo>
                    <a:lnTo>
                      <a:pt x="1238" y="1034"/>
                    </a:lnTo>
                    <a:lnTo>
                      <a:pt x="1238" y="1015"/>
                    </a:lnTo>
                    <a:lnTo>
                      <a:pt x="1238" y="998"/>
                    </a:lnTo>
                    <a:lnTo>
                      <a:pt x="1201" y="989"/>
                    </a:lnTo>
                    <a:lnTo>
                      <a:pt x="1169" y="1069"/>
                    </a:lnTo>
                    <a:lnTo>
                      <a:pt x="1160" y="1050"/>
                    </a:lnTo>
                    <a:lnTo>
                      <a:pt x="1154" y="1032"/>
                    </a:lnTo>
                    <a:lnTo>
                      <a:pt x="1152" y="1011"/>
                    </a:lnTo>
                    <a:lnTo>
                      <a:pt x="1152" y="992"/>
                    </a:lnTo>
                    <a:lnTo>
                      <a:pt x="1152" y="970"/>
                    </a:lnTo>
                    <a:lnTo>
                      <a:pt x="1156" y="949"/>
                    </a:lnTo>
                    <a:lnTo>
                      <a:pt x="1158" y="928"/>
                    </a:lnTo>
                    <a:lnTo>
                      <a:pt x="1163" y="911"/>
                    </a:lnTo>
                    <a:lnTo>
                      <a:pt x="1167" y="890"/>
                    </a:lnTo>
                    <a:lnTo>
                      <a:pt x="1171" y="873"/>
                    </a:lnTo>
                    <a:lnTo>
                      <a:pt x="1173" y="857"/>
                    </a:lnTo>
                    <a:lnTo>
                      <a:pt x="1175" y="846"/>
                    </a:lnTo>
                    <a:lnTo>
                      <a:pt x="1175" y="833"/>
                    </a:lnTo>
                    <a:lnTo>
                      <a:pt x="1175" y="827"/>
                    </a:lnTo>
                    <a:lnTo>
                      <a:pt x="1173" y="821"/>
                    </a:lnTo>
                    <a:lnTo>
                      <a:pt x="1169" y="823"/>
                    </a:lnTo>
                    <a:lnTo>
                      <a:pt x="1150" y="838"/>
                    </a:lnTo>
                    <a:lnTo>
                      <a:pt x="1139" y="856"/>
                    </a:lnTo>
                    <a:lnTo>
                      <a:pt x="1133" y="865"/>
                    </a:lnTo>
                    <a:lnTo>
                      <a:pt x="1127" y="876"/>
                    </a:lnTo>
                    <a:lnTo>
                      <a:pt x="1122" y="888"/>
                    </a:lnTo>
                    <a:lnTo>
                      <a:pt x="1118" y="899"/>
                    </a:lnTo>
                    <a:lnTo>
                      <a:pt x="1112" y="909"/>
                    </a:lnTo>
                    <a:lnTo>
                      <a:pt x="1108" y="920"/>
                    </a:lnTo>
                    <a:lnTo>
                      <a:pt x="1103" y="932"/>
                    </a:lnTo>
                    <a:lnTo>
                      <a:pt x="1099" y="943"/>
                    </a:lnTo>
                    <a:lnTo>
                      <a:pt x="1078" y="981"/>
                    </a:lnTo>
                    <a:lnTo>
                      <a:pt x="1080" y="934"/>
                    </a:lnTo>
                    <a:lnTo>
                      <a:pt x="1080" y="914"/>
                    </a:lnTo>
                    <a:lnTo>
                      <a:pt x="1080" y="897"/>
                    </a:lnTo>
                    <a:lnTo>
                      <a:pt x="1078" y="876"/>
                    </a:lnTo>
                    <a:lnTo>
                      <a:pt x="1076" y="856"/>
                    </a:lnTo>
                    <a:lnTo>
                      <a:pt x="1076" y="835"/>
                    </a:lnTo>
                    <a:lnTo>
                      <a:pt x="1076" y="817"/>
                    </a:lnTo>
                    <a:lnTo>
                      <a:pt x="1074" y="798"/>
                    </a:lnTo>
                    <a:lnTo>
                      <a:pt x="1074" y="783"/>
                    </a:lnTo>
                    <a:lnTo>
                      <a:pt x="1074" y="770"/>
                    </a:lnTo>
                    <a:lnTo>
                      <a:pt x="1074" y="760"/>
                    </a:lnTo>
                    <a:lnTo>
                      <a:pt x="1066" y="779"/>
                    </a:lnTo>
                    <a:lnTo>
                      <a:pt x="1059" y="800"/>
                    </a:lnTo>
                    <a:lnTo>
                      <a:pt x="1055" y="810"/>
                    </a:lnTo>
                    <a:lnTo>
                      <a:pt x="1051" y="821"/>
                    </a:lnTo>
                    <a:lnTo>
                      <a:pt x="1047" y="831"/>
                    </a:lnTo>
                    <a:lnTo>
                      <a:pt x="1044" y="842"/>
                    </a:lnTo>
                    <a:lnTo>
                      <a:pt x="1032" y="861"/>
                    </a:lnTo>
                    <a:lnTo>
                      <a:pt x="1023" y="880"/>
                    </a:lnTo>
                    <a:lnTo>
                      <a:pt x="1011" y="897"/>
                    </a:lnTo>
                    <a:lnTo>
                      <a:pt x="998" y="914"/>
                    </a:lnTo>
                    <a:lnTo>
                      <a:pt x="998" y="905"/>
                    </a:lnTo>
                    <a:lnTo>
                      <a:pt x="998" y="897"/>
                    </a:lnTo>
                    <a:lnTo>
                      <a:pt x="998" y="886"/>
                    </a:lnTo>
                    <a:lnTo>
                      <a:pt x="1000" y="875"/>
                    </a:lnTo>
                    <a:lnTo>
                      <a:pt x="1000" y="859"/>
                    </a:lnTo>
                    <a:lnTo>
                      <a:pt x="1002" y="848"/>
                    </a:lnTo>
                    <a:lnTo>
                      <a:pt x="1002" y="833"/>
                    </a:lnTo>
                    <a:lnTo>
                      <a:pt x="1004" y="821"/>
                    </a:lnTo>
                    <a:lnTo>
                      <a:pt x="1002" y="808"/>
                    </a:lnTo>
                    <a:lnTo>
                      <a:pt x="1002" y="795"/>
                    </a:lnTo>
                    <a:lnTo>
                      <a:pt x="998" y="783"/>
                    </a:lnTo>
                    <a:lnTo>
                      <a:pt x="996" y="776"/>
                    </a:lnTo>
                    <a:lnTo>
                      <a:pt x="987" y="762"/>
                    </a:lnTo>
                    <a:lnTo>
                      <a:pt x="973" y="760"/>
                    </a:lnTo>
                    <a:lnTo>
                      <a:pt x="966" y="787"/>
                    </a:lnTo>
                    <a:lnTo>
                      <a:pt x="960" y="817"/>
                    </a:lnTo>
                    <a:lnTo>
                      <a:pt x="954" y="848"/>
                    </a:lnTo>
                    <a:lnTo>
                      <a:pt x="952" y="880"/>
                    </a:lnTo>
                    <a:lnTo>
                      <a:pt x="949" y="913"/>
                    </a:lnTo>
                    <a:lnTo>
                      <a:pt x="949" y="947"/>
                    </a:lnTo>
                    <a:lnTo>
                      <a:pt x="949" y="979"/>
                    </a:lnTo>
                    <a:lnTo>
                      <a:pt x="952" y="1013"/>
                    </a:lnTo>
                    <a:lnTo>
                      <a:pt x="954" y="1044"/>
                    </a:lnTo>
                    <a:lnTo>
                      <a:pt x="960" y="1076"/>
                    </a:lnTo>
                    <a:lnTo>
                      <a:pt x="968" y="1107"/>
                    </a:lnTo>
                    <a:lnTo>
                      <a:pt x="981" y="1139"/>
                    </a:lnTo>
                    <a:lnTo>
                      <a:pt x="992" y="1167"/>
                    </a:lnTo>
                    <a:lnTo>
                      <a:pt x="1009" y="1196"/>
                    </a:lnTo>
                    <a:lnTo>
                      <a:pt x="1027" y="1223"/>
                    </a:lnTo>
                    <a:lnTo>
                      <a:pt x="1049" y="1247"/>
                    </a:lnTo>
                    <a:lnTo>
                      <a:pt x="937" y="1314"/>
                    </a:lnTo>
                    <a:lnTo>
                      <a:pt x="895" y="1255"/>
                    </a:lnTo>
                    <a:lnTo>
                      <a:pt x="165" y="1289"/>
                    </a:lnTo>
                    <a:lnTo>
                      <a:pt x="160" y="1192"/>
                    </a:lnTo>
                    <a:lnTo>
                      <a:pt x="198" y="1188"/>
                    </a:lnTo>
                    <a:lnTo>
                      <a:pt x="238" y="1186"/>
                    </a:lnTo>
                    <a:lnTo>
                      <a:pt x="277" y="1185"/>
                    </a:lnTo>
                    <a:lnTo>
                      <a:pt x="319" y="1185"/>
                    </a:lnTo>
                    <a:lnTo>
                      <a:pt x="359" y="1183"/>
                    </a:lnTo>
                    <a:lnTo>
                      <a:pt x="399" y="1183"/>
                    </a:lnTo>
                    <a:lnTo>
                      <a:pt x="441" y="1181"/>
                    </a:lnTo>
                    <a:lnTo>
                      <a:pt x="483" y="1181"/>
                    </a:lnTo>
                    <a:lnTo>
                      <a:pt x="523" y="1177"/>
                    </a:lnTo>
                    <a:lnTo>
                      <a:pt x="563" y="1175"/>
                    </a:lnTo>
                    <a:lnTo>
                      <a:pt x="603" y="1171"/>
                    </a:lnTo>
                    <a:lnTo>
                      <a:pt x="644" y="1167"/>
                    </a:lnTo>
                    <a:lnTo>
                      <a:pt x="682" y="1160"/>
                    </a:lnTo>
                    <a:lnTo>
                      <a:pt x="722" y="1154"/>
                    </a:lnTo>
                    <a:lnTo>
                      <a:pt x="760" y="1145"/>
                    </a:lnTo>
                    <a:lnTo>
                      <a:pt x="800" y="1135"/>
                    </a:lnTo>
                    <a:lnTo>
                      <a:pt x="800" y="1086"/>
                    </a:lnTo>
                    <a:lnTo>
                      <a:pt x="762" y="1086"/>
                    </a:lnTo>
                    <a:lnTo>
                      <a:pt x="722" y="1088"/>
                    </a:lnTo>
                    <a:lnTo>
                      <a:pt x="677" y="1088"/>
                    </a:lnTo>
                    <a:lnTo>
                      <a:pt x="629" y="1089"/>
                    </a:lnTo>
                    <a:lnTo>
                      <a:pt x="578" y="1089"/>
                    </a:lnTo>
                    <a:lnTo>
                      <a:pt x="528" y="1089"/>
                    </a:lnTo>
                    <a:lnTo>
                      <a:pt x="475" y="1089"/>
                    </a:lnTo>
                    <a:lnTo>
                      <a:pt x="424" y="1089"/>
                    </a:lnTo>
                    <a:lnTo>
                      <a:pt x="371" y="1086"/>
                    </a:lnTo>
                    <a:lnTo>
                      <a:pt x="319" y="1082"/>
                    </a:lnTo>
                    <a:lnTo>
                      <a:pt x="268" y="1076"/>
                    </a:lnTo>
                    <a:lnTo>
                      <a:pt x="222" y="1072"/>
                    </a:lnTo>
                    <a:lnTo>
                      <a:pt x="175" y="1065"/>
                    </a:lnTo>
                    <a:lnTo>
                      <a:pt x="135" y="1055"/>
                    </a:lnTo>
                    <a:lnTo>
                      <a:pt x="99" y="1044"/>
                    </a:lnTo>
                    <a:lnTo>
                      <a:pt x="68" y="1034"/>
                    </a:lnTo>
                    <a:lnTo>
                      <a:pt x="99" y="1029"/>
                    </a:lnTo>
                    <a:lnTo>
                      <a:pt x="129" y="1025"/>
                    </a:lnTo>
                    <a:lnTo>
                      <a:pt x="160" y="1021"/>
                    </a:lnTo>
                    <a:lnTo>
                      <a:pt x="192" y="1017"/>
                    </a:lnTo>
                    <a:lnTo>
                      <a:pt x="222" y="1011"/>
                    </a:lnTo>
                    <a:lnTo>
                      <a:pt x="253" y="1008"/>
                    </a:lnTo>
                    <a:lnTo>
                      <a:pt x="283" y="1004"/>
                    </a:lnTo>
                    <a:lnTo>
                      <a:pt x="315" y="1002"/>
                    </a:lnTo>
                    <a:lnTo>
                      <a:pt x="344" y="996"/>
                    </a:lnTo>
                    <a:lnTo>
                      <a:pt x="376" y="992"/>
                    </a:lnTo>
                    <a:lnTo>
                      <a:pt x="405" y="989"/>
                    </a:lnTo>
                    <a:lnTo>
                      <a:pt x="437" y="987"/>
                    </a:lnTo>
                    <a:lnTo>
                      <a:pt x="468" y="983"/>
                    </a:lnTo>
                    <a:lnTo>
                      <a:pt x="500" y="981"/>
                    </a:lnTo>
                    <a:lnTo>
                      <a:pt x="530" y="977"/>
                    </a:lnTo>
                    <a:lnTo>
                      <a:pt x="563" y="977"/>
                    </a:lnTo>
                    <a:lnTo>
                      <a:pt x="566" y="935"/>
                    </a:lnTo>
                    <a:lnTo>
                      <a:pt x="2" y="943"/>
                    </a:lnTo>
                    <a:lnTo>
                      <a:pt x="0" y="930"/>
                    </a:lnTo>
                    <a:lnTo>
                      <a:pt x="0" y="918"/>
                    </a:lnTo>
                    <a:lnTo>
                      <a:pt x="0" y="907"/>
                    </a:lnTo>
                    <a:lnTo>
                      <a:pt x="0" y="895"/>
                    </a:lnTo>
                    <a:lnTo>
                      <a:pt x="0" y="882"/>
                    </a:lnTo>
                    <a:lnTo>
                      <a:pt x="2" y="869"/>
                    </a:lnTo>
                    <a:lnTo>
                      <a:pt x="4" y="857"/>
                    </a:lnTo>
                    <a:lnTo>
                      <a:pt x="7" y="8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 flipH="1" rot="19783200">
                <a:off x="2622600" y="3746160"/>
                <a:ext cx="363600" cy="186480"/>
              </a:xfrm>
              <a:custGeom>
                <a:avLst/>
                <a:gdLst>
                  <a:gd name="textAreaLeft" fmla="*/ 360 w 363600"/>
                  <a:gd name="textAreaRight" fmla="*/ 364320 w 36360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384" h="1223">
                    <a:moveTo>
                      <a:pt x="0" y="242"/>
                    </a:moveTo>
                    <a:lnTo>
                      <a:pt x="6" y="211"/>
                    </a:lnTo>
                    <a:lnTo>
                      <a:pt x="17" y="188"/>
                    </a:lnTo>
                    <a:lnTo>
                      <a:pt x="27" y="167"/>
                    </a:lnTo>
                    <a:lnTo>
                      <a:pt x="40" y="152"/>
                    </a:lnTo>
                    <a:lnTo>
                      <a:pt x="53" y="137"/>
                    </a:lnTo>
                    <a:lnTo>
                      <a:pt x="72" y="126"/>
                    </a:lnTo>
                    <a:lnTo>
                      <a:pt x="91" y="116"/>
                    </a:lnTo>
                    <a:lnTo>
                      <a:pt x="116" y="110"/>
                    </a:lnTo>
                    <a:lnTo>
                      <a:pt x="141" y="103"/>
                    </a:lnTo>
                    <a:lnTo>
                      <a:pt x="171" y="97"/>
                    </a:lnTo>
                    <a:lnTo>
                      <a:pt x="205" y="93"/>
                    </a:lnTo>
                    <a:lnTo>
                      <a:pt x="245" y="91"/>
                    </a:lnTo>
                    <a:lnTo>
                      <a:pt x="287" y="88"/>
                    </a:lnTo>
                    <a:lnTo>
                      <a:pt x="335" y="84"/>
                    </a:lnTo>
                    <a:lnTo>
                      <a:pt x="388" y="80"/>
                    </a:lnTo>
                    <a:lnTo>
                      <a:pt x="449" y="78"/>
                    </a:lnTo>
                    <a:lnTo>
                      <a:pt x="468" y="74"/>
                    </a:lnTo>
                    <a:lnTo>
                      <a:pt x="525" y="72"/>
                    </a:lnTo>
                    <a:lnTo>
                      <a:pt x="610" y="69"/>
                    </a:lnTo>
                    <a:lnTo>
                      <a:pt x="726" y="65"/>
                    </a:lnTo>
                    <a:lnTo>
                      <a:pt x="861" y="59"/>
                    </a:lnTo>
                    <a:lnTo>
                      <a:pt x="1015" y="53"/>
                    </a:lnTo>
                    <a:lnTo>
                      <a:pt x="1181" y="48"/>
                    </a:lnTo>
                    <a:lnTo>
                      <a:pt x="1354" y="42"/>
                    </a:lnTo>
                    <a:lnTo>
                      <a:pt x="1527" y="34"/>
                    </a:lnTo>
                    <a:lnTo>
                      <a:pt x="1696" y="27"/>
                    </a:lnTo>
                    <a:lnTo>
                      <a:pt x="1858" y="21"/>
                    </a:lnTo>
                    <a:lnTo>
                      <a:pt x="2010" y="15"/>
                    </a:lnTo>
                    <a:lnTo>
                      <a:pt x="2141" y="10"/>
                    </a:lnTo>
                    <a:lnTo>
                      <a:pt x="2251" y="4"/>
                    </a:lnTo>
                    <a:lnTo>
                      <a:pt x="2333" y="0"/>
                    </a:lnTo>
                    <a:lnTo>
                      <a:pt x="2384" y="0"/>
                    </a:lnTo>
                    <a:lnTo>
                      <a:pt x="2360" y="95"/>
                    </a:lnTo>
                    <a:lnTo>
                      <a:pt x="2327" y="97"/>
                    </a:lnTo>
                    <a:lnTo>
                      <a:pt x="2297" y="99"/>
                    </a:lnTo>
                    <a:lnTo>
                      <a:pt x="2265" y="101"/>
                    </a:lnTo>
                    <a:lnTo>
                      <a:pt x="2232" y="103"/>
                    </a:lnTo>
                    <a:lnTo>
                      <a:pt x="2198" y="103"/>
                    </a:lnTo>
                    <a:lnTo>
                      <a:pt x="2164" y="105"/>
                    </a:lnTo>
                    <a:lnTo>
                      <a:pt x="2130" y="105"/>
                    </a:lnTo>
                    <a:lnTo>
                      <a:pt x="2095" y="107"/>
                    </a:lnTo>
                    <a:lnTo>
                      <a:pt x="2059" y="107"/>
                    </a:lnTo>
                    <a:lnTo>
                      <a:pt x="2023" y="107"/>
                    </a:lnTo>
                    <a:lnTo>
                      <a:pt x="1989" y="107"/>
                    </a:lnTo>
                    <a:lnTo>
                      <a:pt x="1957" y="107"/>
                    </a:lnTo>
                    <a:lnTo>
                      <a:pt x="1922" y="107"/>
                    </a:lnTo>
                    <a:lnTo>
                      <a:pt x="1890" y="107"/>
                    </a:lnTo>
                    <a:lnTo>
                      <a:pt x="1858" y="107"/>
                    </a:lnTo>
                    <a:lnTo>
                      <a:pt x="1829" y="109"/>
                    </a:lnTo>
                    <a:lnTo>
                      <a:pt x="1833" y="137"/>
                    </a:lnTo>
                    <a:lnTo>
                      <a:pt x="2015" y="154"/>
                    </a:lnTo>
                    <a:lnTo>
                      <a:pt x="1936" y="162"/>
                    </a:lnTo>
                    <a:lnTo>
                      <a:pt x="1856" y="171"/>
                    </a:lnTo>
                    <a:lnTo>
                      <a:pt x="1778" y="179"/>
                    </a:lnTo>
                    <a:lnTo>
                      <a:pt x="1702" y="186"/>
                    </a:lnTo>
                    <a:lnTo>
                      <a:pt x="1622" y="190"/>
                    </a:lnTo>
                    <a:lnTo>
                      <a:pt x="1544" y="196"/>
                    </a:lnTo>
                    <a:lnTo>
                      <a:pt x="1466" y="200"/>
                    </a:lnTo>
                    <a:lnTo>
                      <a:pt x="1388" y="206"/>
                    </a:lnTo>
                    <a:lnTo>
                      <a:pt x="1308" y="207"/>
                    </a:lnTo>
                    <a:lnTo>
                      <a:pt x="1228" y="211"/>
                    </a:lnTo>
                    <a:lnTo>
                      <a:pt x="1150" y="213"/>
                    </a:lnTo>
                    <a:lnTo>
                      <a:pt x="1072" y="217"/>
                    </a:lnTo>
                    <a:lnTo>
                      <a:pt x="993" y="219"/>
                    </a:lnTo>
                    <a:lnTo>
                      <a:pt x="915" y="223"/>
                    </a:lnTo>
                    <a:lnTo>
                      <a:pt x="837" y="226"/>
                    </a:lnTo>
                    <a:lnTo>
                      <a:pt x="759" y="232"/>
                    </a:lnTo>
                    <a:lnTo>
                      <a:pt x="753" y="226"/>
                    </a:lnTo>
                    <a:lnTo>
                      <a:pt x="747" y="219"/>
                    </a:lnTo>
                    <a:lnTo>
                      <a:pt x="745" y="209"/>
                    </a:lnTo>
                    <a:lnTo>
                      <a:pt x="747" y="204"/>
                    </a:lnTo>
                    <a:lnTo>
                      <a:pt x="975" y="169"/>
                    </a:lnTo>
                    <a:lnTo>
                      <a:pt x="975" y="154"/>
                    </a:lnTo>
                    <a:lnTo>
                      <a:pt x="936" y="147"/>
                    </a:lnTo>
                    <a:lnTo>
                      <a:pt x="898" y="143"/>
                    </a:lnTo>
                    <a:lnTo>
                      <a:pt x="859" y="137"/>
                    </a:lnTo>
                    <a:lnTo>
                      <a:pt x="821" y="137"/>
                    </a:lnTo>
                    <a:lnTo>
                      <a:pt x="782" y="135"/>
                    </a:lnTo>
                    <a:lnTo>
                      <a:pt x="742" y="135"/>
                    </a:lnTo>
                    <a:lnTo>
                      <a:pt x="702" y="135"/>
                    </a:lnTo>
                    <a:lnTo>
                      <a:pt x="662" y="137"/>
                    </a:lnTo>
                    <a:lnTo>
                      <a:pt x="620" y="137"/>
                    </a:lnTo>
                    <a:lnTo>
                      <a:pt x="580" y="141"/>
                    </a:lnTo>
                    <a:lnTo>
                      <a:pt x="540" y="143"/>
                    </a:lnTo>
                    <a:lnTo>
                      <a:pt x="500" y="147"/>
                    </a:lnTo>
                    <a:lnTo>
                      <a:pt x="460" y="148"/>
                    </a:lnTo>
                    <a:lnTo>
                      <a:pt x="424" y="154"/>
                    </a:lnTo>
                    <a:lnTo>
                      <a:pt x="386" y="156"/>
                    </a:lnTo>
                    <a:lnTo>
                      <a:pt x="352" y="162"/>
                    </a:lnTo>
                    <a:lnTo>
                      <a:pt x="348" y="171"/>
                    </a:lnTo>
                    <a:lnTo>
                      <a:pt x="350" y="186"/>
                    </a:lnTo>
                    <a:lnTo>
                      <a:pt x="354" y="198"/>
                    </a:lnTo>
                    <a:lnTo>
                      <a:pt x="365" y="207"/>
                    </a:lnTo>
                    <a:lnTo>
                      <a:pt x="380" y="206"/>
                    </a:lnTo>
                    <a:lnTo>
                      <a:pt x="397" y="206"/>
                    </a:lnTo>
                    <a:lnTo>
                      <a:pt x="415" y="206"/>
                    </a:lnTo>
                    <a:lnTo>
                      <a:pt x="434" y="206"/>
                    </a:lnTo>
                    <a:lnTo>
                      <a:pt x="451" y="204"/>
                    </a:lnTo>
                    <a:lnTo>
                      <a:pt x="470" y="204"/>
                    </a:lnTo>
                    <a:lnTo>
                      <a:pt x="489" y="204"/>
                    </a:lnTo>
                    <a:lnTo>
                      <a:pt x="510" y="204"/>
                    </a:lnTo>
                    <a:lnTo>
                      <a:pt x="527" y="204"/>
                    </a:lnTo>
                    <a:lnTo>
                      <a:pt x="546" y="204"/>
                    </a:lnTo>
                    <a:lnTo>
                      <a:pt x="565" y="204"/>
                    </a:lnTo>
                    <a:lnTo>
                      <a:pt x="584" y="204"/>
                    </a:lnTo>
                    <a:lnTo>
                      <a:pt x="603" y="204"/>
                    </a:lnTo>
                    <a:lnTo>
                      <a:pt x="622" y="204"/>
                    </a:lnTo>
                    <a:lnTo>
                      <a:pt x="641" y="206"/>
                    </a:lnTo>
                    <a:lnTo>
                      <a:pt x="660" y="207"/>
                    </a:lnTo>
                    <a:lnTo>
                      <a:pt x="667" y="228"/>
                    </a:lnTo>
                    <a:lnTo>
                      <a:pt x="633" y="234"/>
                    </a:lnTo>
                    <a:lnTo>
                      <a:pt x="599" y="240"/>
                    </a:lnTo>
                    <a:lnTo>
                      <a:pt x="565" y="244"/>
                    </a:lnTo>
                    <a:lnTo>
                      <a:pt x="532" y="247"/>
                    </a:lnTo>
                    <a:lnTo>
                      <a:pt x="498" y="247"/>
                    </a:lnTo>
                    <a:lnTo>
                      <a:pt x="466" y="249"/>
                    </a:lnTo>
                    <a:lnTo>
                      <a:pt x="434" y="249"/>
                    </a:lnTo>
                    <a:lnTo>
                      <a:pt x="401" y="251"/>
                    </a:lnTo>
                    <a:lnTo>
                      <a:pt x="367" y="251"/>
                    </a:lnTo>
                    <a:lnTo>
                      <a:pt x="333" y="251"/>
                    </a:lnTo>
                    <a:lnTo>
                      <a:pt x="299" y="253"/>
                    </a:lnTo>
                    <a:lnTo>
                      <a:pt x="266" y="255"/>
                    </a:lnTo>
                    <a:lnTo>
                      <a:pt x="232" y="257"/>
                    </a:lnTo>
                    <a:lnTo>
                      <a:pt x="200" y="261"/>
                    </a:lnTo>
                    <a:lnTo>
                      <a:pt x="166" y="266"/>
                    </a:lnTo>
                    <a:lnTo>
                      <a:pt x="133" y="274"/>
                    </a:lnTo>
                    <a:lnTo>
                      <a:pt x="129" y="280"/>
                    </a:lnTo>
                    <a:lnTo>
                      <a:pt x="133" y="297"/>
                    </a:lnTo>
                    <a:lnTo>
                      <a:pt x="137" y="312"/>
                    </a:lnTo>
                    <a:lnTo>
                      <a:pt x="141" y="320"/>
                    </a:lnTo>
                    <a:lnTo>
                      <a:pt x="369" y="312"/>
                    </a:lnTo>
                    <a:lnTo>
                      <a:pt x="228" y="358"/>
                    </a:lnTo>
                    <a:lnTo>
                      <a:pt x="232" y="390"/>
                    </a:lnTo>
                    <a:lnTo>
                      <a:pt x="266" y="390"/>
                    </a:lnTo>
                    <a:lnTo>
                      <a:pt x="302" y="394"/>
                    </a:lnTo>
                    <a:lnTo>
                      <a:pt x="339" y="396"/>
                    </a:lnTo>
                    <a:lnTo>
                      <a:pt x="375" y="399"/>
                    </a:lnTo>
                    <a:lnTo>
                      <a:pt x="409" y="401"/>
                    </a:lnTo>
                    <a:lnTo>
                      <a:pt x="445" y="403"/>
                    </a:lnTo>
                    <a:lnTo>
                      <a:pt x="481" y="405"/>
                    </a:lnTo>
                    <a:lnTo>
                      <a:pt x="517" y="409"/>
                    </a:lnTo>
                    <a:lnTo>
                      <a:pt x="551" y="409"/>
                    </a:lnTo>
                    <a:lnTo>
                      <a:pt x="588" y="411"/>
                    </a:lnTo>
                    <a:lnTo>
                      <a:pt x="622" y="411"/>
                    </a:lnTo>
                    <a:lnTo>
                      <a:pt x="658" y="413"/>
                    </a:lnTo>
                    <a:lnTo>
                      <a:pt x="692" y="413"/>
                    </a:lnTo>
                    <a:lnTo>
                      <a:pt x="728" y="413"/>
                    </a:lnTo>
                    <a:lnTo>
                      <a:pt x="764" y="411"/>
                    </a:lnTo>
                    <a:lnTo>
                      <a:pt x="801" y="411"/>
                    </a:lnTo>
                    <a:lnTo>
                      <a:pt x="901" y="327"/>
                    </a:lnTo>
                    <a:lnTo>
                      <a:pt x="909" y="394"/>
                    </a:lnTo>
                    <a:lnTo>
                      <a:pt x="1000" y="411"/>
                    </a:lnTo>
                    <a:lnTo>
                      <a:pt x="1046" y="516"/>
                    </a:lnTo>
                    <a:lnTo>
                      <a:pt x="1025" y="516"/>
                    </a:lnTo>
                    <a:lnTo>
                      <a:pt x="1006" y="516"/>
                    </a:lnTo>
                    <a:lnTo>
                      <a:pt x="985" y="516"/>
                    </a:lnTo>
                    <a:lnTo>
                      <a:pt x="968" y="516"/>
                    </a:lnTo>
                    <a:lnTo>
                      <a:pt x="949" y="514"/>
                    </a:lnTo>
                    <a:lnTo>
                      <a:pt x="930" y="514"/>
                    </a:lnTo>
                    <a:lnTo>
                      <a:pt x="911" y="514"/>
                    </a:lnTo>
                    <a:lnTo>
                      <a:pt x="894" y="514"/>
                    </a:lnTo>
                    <a:lnTo>
                      <a:pt x="875" y="512"/>
                    </a:lnTo>
                    <a:lnTo>
                      <a:pt x="856" y="510"/>
                    </a:lnTo>
                    <a:lnTo>
                      <a:pt x="837" y="508"/>
                    </a:lnTo>
                    <a:lnTo>
                      <a:pt x="818" y="508"/>
                    </a:lnTo>
                    <a:lnTo>
                      <a:pt x="799" y="506"/>
                    </a:lnTo>
                    <a:lnTo>
                      <a:pt x="780" y="506"/>
                    </a:lnTo>
                    <a:lnTo>
                      <a:pt x="761" y="506"/>
                    </a:lnTo>
                    <a:lnTo>
                      <a:pt x="744" y="506"/>
                    </a:lnTo>
                    <a:lnTo>
                      <a:pt x="732" y="512"/>
                    </a:lnTo>
                    <a:lnTo>
                      <a:pt x="730" y="523"/>
                    </a:lnTo>
                    <a:lnTo>
                      <a:pt x="732" y="535"/>
                    </a:lnTo>
                    <a:lnTo>
                      <a:pt x="738" y="544"/>
                    </a:lnTo>
                    <a:lnTo>
                      <a:pt x="947" y="586"/>
                    </a:lnTo>
                    <a:lnTo>
                      <a:pt x="920" y="588"/>
                    </a:lnTo>
                    <a:lnTo>
                      <a:pt x="894" y="590"/>
                    </a:lnTo>
                    <a:lnTo>
                      <a:pt x="867" y="590"/>
                    </a:lnTo>
                    <a:lnTo>
                      <a:pt x="842" y="592"/>
                    </a:lnTo>
                    <a:lnTo>
                      <a:pt x="816" y="590"/>
                    </a:lnTo>
                    <a:lnTo>
                      <a:pt x="789" y="588"/>
                    </a:lnTo>
                    <a:lnTo>
                      <a:pt x="763" y="586"/>
                    </a:lnTo>
                    <a:lnTo>
                      <a:pt x="738" y="586"/>
                    </a:lnTo>
                    <a:lnTo>
                      <a:pt x="709" y="582"/>
                    </a:lnTo>
                    <a:lnTo>
                      <a:pt x="683" y="580"/>
                    </a:lnTo>
                    <a:lnTo>
                      <a:pt x="656" y="580"/>
                    </a:lnTo>
                    <a:lnTo>
                      <a:pt x="631" y="580"/>
                    </a:lnTo>
                    <a:lnTo>
                      <a:pt x="605" y="580"/>
                    </a:lnTo>
                    <a:lnTo>
                      <a:pt x="580" y="582"/>
                    </a:lnTo>
                    <a:lnTo>
                      <a:pt x="557" y="586"/>
                    </a:lnTo>
                    <a:lnTo>
                      <a:pt x="534" y="593"/>
                    </a:lnTo>
                    <a:lnTo>
                      <a:pt x="553" y="601"/>
                    </a:lnTo>
                    <a:lnTo>
                      <a:pt x="574" y="611"/>
                    </a:lnTo>
                    <a:lnTo>
                      <a:pt x="597" y="616"/>
                    </a:lnTo>
                    <a:lnTo>
                      <a:pt x="622" y="624"/>
                    </a:lnTo>
                    <a:lnTo>
                      <a:pt x="645" y="628"/>
                    </a:lnTo>
                    <a:lnTo>
                      <a:pt x="671" y="633"/>
                    </a:lnTo>
                    <a:lnTo>
                      <a:pt x="696" y="639"/>
                    </a:lnTo>
                    <a:lnTo>
                      <a:pt x="725" y="645"/>
                    </a:lnTo>
                    <a:lnTo>
                      <a:pt x="749" y="647"/>
                    </a:lnTo>
                    <a:lnTo>
                      <a:pt x="776" y="652"/>
                    </a:lnTo>
                    <a:lnTo>
                      <a:pt x="804" y="656"/>
                    </a:lnTo>
                    <a:lnTo>
                      <a:pt x="833" y="662"/>
                    </a:lnTo>
                    <a:lnTo>
                      <a:pt x="861" y="666"/>
                    </a:lnTo>
                    <a:lnTo>
                      <a:pt x="890" y="671"/>
                    </a:lnTo>
                    <a:lnTo>
                      <a:pt x="918" y="677"/>
                    </a:lnTo>
                    <a:lnTo>
                      <a:pt x="947" y="685"/>
                    </a:lnTo>
                    <a:lnTo>
                      <a:pt x="917" y="687"/>
                    </a:lnTo>
                    <a:lnTo>
                      <a:pt x="888" y="690"/>
                    </a:lnTo>
                    <a:lnTo>
                      <a:pt x="858" y="694"/>
                    </a:lnTo>
                    <a:lnTo>
                      <a:pt x="829" y="698"/>
                    </a:lnTo>
                    <a:lnTo>
                      <a:pt x="799" y="700"/>
                    </a:lnTo>
                    <a:lnTo>
                      <a:pt x="770" y="702"/>
                    </a:lnTo>
                    <a:lnTo>
                      <a:pt x="740" y="704"/>
                    </a:lnTo>
                    <a:lnTo>
                      <a:pt x="711" y="706"/>
                    </a:lnTo>
                    <a:lnTo>
                      <a:pt x="681" y="706"/>
                    </a:lnTo>
                    <a:lnTo>
                      <a:pt x="650" y="706"/>
                    </a:lnTo>
                    <a:lnTo>
                      <a:pt x="620" y="706"/>
                    </a:lnTo>
                    <a:lnTo>
                      <a:pt x="591" y="706"/>
                    </a:lnTo>
                    <a:lnTo>
                      <a:pt x="561" y="704"/>
                    </a:lnTo>
                    <a:lnTo>
                      <a:pt x="531" y="702"/>
                    </a:lnTo>
                    <a:lnTo>
                      <a:pt x="502" y="700"/>
                    </a:lnTo>
                    <a:lnTo>
                      <a:pt x="474" y="698"/>
                    </a:lnTo>
                    <a:lnTo>
                      <a:pt x="470" y="730"/>
                    </a:lnTo>
                    <a:lnTo>
                      <a:pt x="877" y="776"/>
                    </a:lnTo>
                    <a:lnTo>
                      <a:pt x="850" y="776"/>
                    </a:lnTo>
                    <a:lnTo>
                      <a:pt x="825" y="780"/>
                    </a:lnTo>
                    <a:lnTo>
                      <a:pt x="799" y="782"/>
                    </a:lnTo>
                    <a:lnTo>
                      <a:pt x="776" y="786"/>
                    </a:lnTo>
                    <a:lnTo>
                      <a:pt x="749" y="787"/>
                    </a:lnTo>
                    <a:lnTo>
                      <a:pt x="725" y="791"/>
                    </a:lnTo>
                    <a:lnTo>
                      <a:pt x="698" y="793"/>
                    </a:lnTo>
                    <a:lnTo>
                      <a:pt x="675" y="799"/>
                    </a:lnTo>
                    <a:lnTo>
                      <a:pt x="648" y="801"/>
                    </a:lnTo>
                    <a:lnTo>
                      <a:pt x="624" y="805"/>
                    </a:lnTo>
                    <a:lnTo>
                      <a:pt x="597" y="808"/>
                    </a:lnTo>
                    <a:lnTo>
                      <a:pt x="572" y="812"/>
                    </a:lnTo>
                    <a:lnTo>
                      <a:pt x="546" y="816"/>
                    </a:lnTo>
                    <a:lnTo>
                      <a:pt x="523" y="820"/>
                    </a:lnTo>
                    <a:lnTo>
                      <a:pt x="496" y="825"/>
                    </a:lnTo>
                    <a:lnTo>
                      <a:pt x="474" y="831"/>
                    </a:lnTo>
                    <a:lnTo>
                      <a:pt x="470" y="867"/>
                    </a:lnTo>
                    <a:lnTo>
                      <a:pt x="631" y="852"/>
                    </a:lnTo>
                    <a:lnTo>
                      <a:pt x="460" y="913"/>
                    </a:lnTo>
                    <a:lnTo>
                      <a:pt x="456" y="947"/>
                    </a:lnTo>
                    <a:lnTo>
                      <a:pt x="527" y="989"/>
                    </a:lnTo>
                    <a:lnTo>
                      <a:pt x="428" y="1035"/>
                    </a:lnTo>
                    <a:lnTo>
                      <a:pt x="411" y="1141"/>
                    </a:lnTo>
                    <a:lnTo>
                      <a:pt x="416" y="1141"/>
                    </a:lnTo>
                    <a:lnTo>
                      <a:pt x="428" y="1141"/>
                    </a:lnTo>
                    <a:lnTo>
                      <a:pt x="439" y="1141"/>
                    </a:lnTo>
                    <a:lnTo>
                      <a:pt x="455" y="1143"/>
                    </a:lnTo>
                    <a:lnTo>
                      <a:pt x="470" y="1143"/>
                    </a:lnTo>
                    <a:lnTo>
                      <a:pt x="487" y="1147"/>
                    </a:lnTo>
                    <a:lnTo>
                      <a:pt x="504" y="1147"/>
                    </a:lnTo>
                    <a:lnTo>
                      <a:pt x="521" y="1151"/>
                    </a:lnTo>
                    <a:lnTo>
                      <a:pt x="536" y="1151"/>
                    </a:lnTo>
                    <a:lnTo>
                      <a:pt x="553" y="1151"/>
                    </a:lnTo>
                    <a:lnTo>
                      <a:pt x="569" y="1151"/>
                    </a:lnTo>
                    <a:lnTo>
                      <a:pt x="586" y="1153"/>
                    </a:lnTo>
                    <a:lnTo>
                      <a:pt x="597" y="1151"/>
                    </a:lnTo>
                    <a:lnTo>
                      <a:pt x="610" y="1151"/>
                    </a:lnTo>
                    <a:lnTo>
                      <a:pt x="620" y="1149"/>
                    </a:lnTo>
                    <a:lnTo>
                      <a:pt x="628" y="1147"/>
                    </a:lnTo>
                    <a:lnTo>
                      <a:pt x="628" y="909"/>
                    </a:lnTo>
                    <a:lnTo>
                      <a:pt x="647" y="903"/>
                    </a:lnTo>
                    <a:lnTo>
                      <a:pt x="667" y="902"/>
                    </a:lnTo>
                    <a:lnTo>
                      <a:pt x="686" y="902"/>
                    </a:lnTo>
                    <a:lnTo>
                      <a:pt x="707" y="902"/>
                    </a:lnTo>
                    <a:lnTo>
                      <a:pt x="726" y="902"/>
                    </a:lnTo>
                    <a:lnTo>
                      <a:pt x="747" y="902"/>
                    </a:lnTo>
                    <a:lnTo>
                      <a:pt x="766" y="903"/>
                    </a:lnTo>
                    <a:lnTo>
                      <a:pt x="789" y="905"/>
                    </a:lnTo>
                    <a:lnTo>
                      <a:pt x="808" y="905"/>
                    </a:lnTo>
                    <a:lnTo>
                      <a:pt x="829" y="907"/>
                    </a:lnTo>
                    <a:lnTo>
                      <a:pt x="850" y="909"/>
                    </a:lnTo>
                    <a:lnTo>
                      <a:pt x="871" y="911"/>
                    </a:lnTo>
                    <a:lnTo>
                      <a:pt x="890" y="911"/>
                    </a:lnTo>
                    <a:lnTo>
                      <a:pt x="913" y="911"/>
                    </a:lnTo>
                    <a:lnTo>
                      <a:pt x="932" y="911"/>
                    </a:lnTo>
                    <a:lnTo>
                      <a:pt x="955" y="913"/>
                    </a:lnTo>
                    <a:lnTo>
                      <a:pt x="964" y="924"/>
                    </a:lnTo>
                    <a:lnTo>
                      <a:pt x="972" y="936"/>
                    </a:lnTo>
                    <a:lnTo>
                      <a:pt x="977" y="949"/>
                    </a:lnTo>
                    <a:lnTo>
                      <a:pt x="985" y="964"/>
                    </a:lnTo>
                    <a:lnTo>
                      <a:pt x="989" y="980"/>
                    </a:lnTo>
                    <a:lnTo>
                      <a:pt x="993" y="995"/>
                    </a:lnTo>
                    <a:lnTo>
                      <a:pt x="994" y="1012"/>
                    </a:lnTo>
                    <a:lnTo>
                      <a:pt x="998" y="1029"/>
                    </a:lnTo>
                    <a:lnTo>
                      <a:pt x="998" y="1044"/>
                    </a:lnTo>
                    <a:lnTo>
                      <a:pt x="998" y="1061"/>
                    </a:lnTo>
                    <a:lnTo>
                      <a:pt x="998" y="1077"/>
                    </a:lnTo>
                    <a:lnTo>
                      <a:pt x="1000" y="1094"/>
                    </a:lnTo>
                    <a:lnTo>
                      <a:pt x="1000" y="1109"/>
                    </a:lnTo>
                    <a:lnTo>
                      <a:pt x="1002" y="1124"/>
                    </a:lnTo>
                    <a:lnTo>
                      <a:pt x="1004" y="1139"/>
                    </a:lnTo>
                    <a:lnTo>
                      <a:pt x="1008" y="1155"/>
                    </a:lnTo>
                    <a:lnTo>
                      <a:pt x="1067" y="1168"/>
                    </a:lnTo>
                    <a:lnTo>
                      <a:pt x="1074" y="1223"/>
                    </a:lnTo>
                    <a:lnTo>
                      <a:pt x="922" y="1223"/>
                    </a:lnTo>
                    <a:lnTo>
                      <a:pt x="915" y="1223"/>
                    </a:lnTo>
                    <a:lnTo>
                      <a:pt x="911" y="1223"/>
                    </a:lnTo>
                    <a:lnTo>
                      <a:pt x="907" y="1206"/>
                    </a:lnTo>
                    <a:lnTo>
                      <a:pt x="907" y="1189"/>
                    </a:lnTo>
                    <a:lnTo>
                      <a:pt x="907" y="1170"/>
                    </a:lnTo>
                    <a:lnTo>
                      <a:pt x="907" y="1151"/>
                    </a:lnTo>
                    <a:lnTo>
                      <a:pt x="907" y="1132"/>
                    </a:lnTo>
                    <a:lnTo>
                      <a:pt x="909" y="1115"/>
                    </a:lnTo>
                    <a:lnTo>
                      <a:pt x="907" y="1094"/>
                    </a:lnTo>
                    <a:lnTo>
                      <a:pt x="907" y="1075"/>
                    </a:lnTo>
                    <a:lnTo>
                      <a:pt x="905" y="1058"/>
                    </a:lnTo>
                    <a:lnTo>
                      <a:pt x="903" y="1040"/>
                    </a:lnTo>
                    <a:lnTo>
                      <a:pt x="896" y="1023"/>
                    </a:lnTo>
                    <a:lnTo>
                      <a:pt x="890" y="1008"/>
                    </a:lnTo>
                    <a:lnTo>
                      <a:pt x="879" y="995"/>
                    </a:lnTo>
                    <a:lnTo>
                      <a:pt x="867" y="983"/>
                    </a:lnTo>
                    <a:lnTo>
                      <a:pt x="858" y="983"/>
                    </a:lnTo>
                    <a:lnTo>
                      <a:pt x="848" y="991"/>
                    </a:lnTo>
                    <a:lnTo>
                      <a:pt x="837" y="1002"/>
                    </a:lnTo>
                    <a:lnTo>
                      <a:pt x="827" y="1018"/>
                    </a:lnTo>
                    <a:lnTo>
                      <a:pt x="816" y="1033"/>
                    </a:lnTo>
                    <a:lnTo>
                      <a:pt x="804" y="1050"/>
                    </a:lnTo>
                    <a:lnTo>
                      <a:pt x="793" y="1069"/>
                    </a:lnTo>
                    <a:lnTo>
                      <a:pt x="783" y="1092"/>
                    </a:lnTo>
                    <a:lnTo>
                      <a:pt x="772" y="1111"/>
                    </a:lnTo>
                    <a:lnTo>
                      <a:pt x="761" y="1132"/>
                    </a:lnTo>
                    <a:lnTo>
                      <a:pt x="751" y="1151"/>
                    </a:lnTo>
                    <a:lnTo>
                      <a:pt x="744" y="1172"/>
                    </a:lnTo>
                    <a:lnTo>
                      <a:pt x="734" y="1187"/>
                    </a:lnTo>
                    <a:lnTo>
                      <a:pt x="728" y="1202"/>
                    </a:lnTo>
                    <a:lnTo>
                      <a:pt x="721" y="1213"/>
                    </a:lnTo>
                    <a:lnTo>
                      <a:pt x="719" y="1223"/>
                    </a:lnTo>
                    <a:lnTo>
                      <a:pt x="337" y="1223"/>
                    </a:lnTo>
                    <a:lnTo>
                      <a:pt x="299" y="523"/>
                    </a:lnTo>
                    <a:lnTo>
                      <a:pt x="261" y="512"/>
                    </a:lnTo>
                    <a:lnTo>
                      <a:pt x="226" y="504"/>
                    </a:lnTo>
                    <a:lnTo>
                      <a:pt x="194" y="496"/>
                    </a:lnTo>
                    <a:lnTo>
                      <a:pt x="166" y="491"/>
                    </a:lnTo>
                    <a:lnTo>
                      <a:pt x="137" y="483"/>
                    </a:lnTo>
                    <a:lnTo>
                      <a:pt x="114" y="477"/>
                    </a:lnTo>
                    <a:lnTo>
                      <a:pt x="91" y="468"/>
                    </a:lnTo>
                    <a:lnTo>
                      <a:pt x="74" y="458"/>
                    </a:lnTo>
                    <a:lnTo>
                      <a:pt x="55" y="443"/>
                    </a:lnTo>
                    <a:lnTo>
                      <a:pt x="42" y="426"/>
                    </a:lnTo>
                    <a:lnTo>
                      <a:pt x="29" y="407"/>
                    </a:lnTo>
                    <a:lnTo>
                      <a:pt x="19" y="384"/>
                    </a:lnTo>
                    <a:lnTo>
                      <a:pt x="10" y="356"/>
                    </a:lnTo>
                    <a:lnTo>
                      <a:pt x="6" y="323"/>
                    </a:lnTo>
                    <a:lnTo>
                      <a:pt x="0" y="283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 rot="19783200">
                <a:off x="2846520" y="3669120"/>
                <a:ext cx="69840" cy="21240"/>
              </a:xfrm>
              <a:custGeom>
                <a:avLst/>
                <a:gdLst>
                  <a:gd name="textAreaLeft" fmla="*/ 360 w 69840"/>
                  <a:gd name="textAreaRight" fmla="*/ 70560 w 69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59" h="138">
                    <a:moveTo>
                      <a:pt x="6" y="58"/>
                    </a:moveTo>
                    <a:lnTo>
                      <a:pt x="130" y="0"/>
                    </a:lnTo>
                    <a:lnTo>
                      <a:pt x="459" y="70"/>
                    </a:lnTo>
                    <a:lnTo>
                      <a:pt x="308" y="125"/>
                    </a:lnTo>
                    <a:lnTo>
                      <a:pt x="295" y="127"/>
                    </a:lnTo>
                    <a:lnTo>
                      <a:pt x="278" y="131"/>
                    </a:lnTo>
                    <a:lnTo>
                      <a:pt x="257" y="133"/>
                    </a:lnTo>
                    <a:lnTo>
                      <a:pt x="234" y="136"/>
                    </a:lnTo>
                    <a:lnTo>
                      <a:pt x="206" y="136"/>
                    </a:lnTo>
                    <a:lnTo>
                      <a:pt x="179" y="138"/>
                    </a:lnTo>
                    <a:lnTo>
                      <a:pt x="153" y="138"/>
                    </a:lnTo>
                    <a:lnTo>
                      <a:pt x="126" y="138"/>
                    </a:lnTo>
                    <a:lnTo>
                      <a:pt x="97" y="133"/>
                    </a:lnTo>
                    <a:lnTo>
                      <a:pt x="73" y="129"/>
                    </a:lnTo>
                    <a:lnTo>
                      <a:pt x="48" y="123"/>
                    </a:lnTo>
                    <a:lnTo>
                      <a:pt x="31" y="116"/>
                    </a:lnTo>
                    <a:lnTo>
                      <a:pt x="16" y="102"/>
                    </a:lnTo>
                    <a:lnTo>
                      <a:pt x="6" y="91"/>
                    </a:lnTo>
                    <a:lnTo>
                      <a:pt x="0" y="76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 flipH="1" rot="19783200">
                <a:off x="2956680" y="3760200"/>
                <a:ext cx="17640" cy="8712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16" h="571">
                    <a:moveTo>
                      <a:pt x="33" y="0"/>
                    </a:moveTo>
                    <a:lnTo>
                      <a:pt x="46" y="29"/>
                    </a:lnTo>
                    <a:lnTo>
                      <a:pt x="59" y="57"/>
                    </a:lnTo>
                    <a:lnTo>
                      <a:pt x="69" y="88"/>
                    </a:lnTo>
                    <a:lnTo>
                      <a:pt x="78" y="120"/>
                    </a:lnTo>
                    <a:lnTo>
                      <a:pt x="82" y="151"/>
                    </a:lnTo>
                    <a:lnTo>
                      <a:pt x="86" y="183"/>
                    </a:lnTo>
                    <a:lnTo>
                      <a:pt x="88" y="215"/>
                    </a:lnTo>
                    <a:lnTo>
                      <a:pt x="92" y="250"/>
                    </a:lnTo>
                    <a:lnTo>
                      <a:pt x="92" y="282"/>
                    </a:lnTo>
                    <a:lnTo>
                      <a:pt x="92" y="314"/>
                    </a:lnTo>
                    <a:lnTo>
                      <a:pt x="92" y="347"/>
                    </a:lnTo>
                    <a:lnTo>
                      <a:pt x="96" y="379"/>
                    </a:lnTo>
                    <a:lnTo>
                      <a:pt x="96" y="409"/>
                    </a:lnTo>
                    <a:lnTo>
                      <a:pt x="101" y="442"/>
                    </a:lnTo>
                    <a:lnTo>
                      <a:pt x="107" y="474"/>
                    </a:lnTo>
                    <a:lnTo>
                      <a:pt x="116" y="506"/>
                    </a:lnTo>
                    <a:lnTo>
                      <a:pt x="82" y="571"/>
                    </a:lnTo>
                    <a:lnTo>
                      <a:pt x="67" y="571"/>
                    </a:lnTo>
                    <a:lnTo>
                      <a:pt x="56" y="571"/>
                    </a:lnTo>
                    <a:lnTo>
                      <a:pt x="44" y="546"/>
                    </a:lnTo>
                    <a:lnTo>
                      <a:pt x="35" y="514"/>
                    </a:lnTo>
                    <a:lnTo>
                      <a:pt x="25" y="472"/>
                    </a:lnTo>
                    <a:lnTo>
                      <a:pt x="18" y="426"/>
                    </a:lnTo>
                    <a:lnTo>
                      <a:pt x="12" y="375"/>
                    </a:lnTo>
                    <a:lnTo>
                      <a:pt x="8" y="326"/>
                    </a:lnTo>
                    <a:lnTo>
                      <a:pt x="2" y="270"/>
                    </a:lnTo>
                    <a:lnTo>
                      <a:pt x="2" y="217"/>
                    </a:lnTo>
                    <a:lnTo>
                      <a:pt x="0" y="166"/>
                    </a:lnTo>
                    <a:lnTo>
                      <a:pt x="4" y="120"/>
                    </a:lnTo>
                    <a:lnTo>
                      <a:pt x="6" y="77"/>
                    </a:lnTo>
                    <a:lnTo>
                      <a:pt x="14" y="42"/>
                    </a:lnTo>
                    <a:lnTo>
                      <a:pt x="21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 flipH="1" rot="19783200">
                <a:off x="2788920" y="3690720"/>
                <a:ext cx="81720" cy="133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34" h="88">
                    <a:moveTo>
                      <a:pt x="534" y="17"/>
                    </a:moveTo>
                    <a:lnTo>
                      <a:pt x="232" y="88"/>
                    </a:lnTo>
                    <a:lnTo>
                      <a:pt x="217" y="82"/>
                    </a:lnTo>
                    <a:lnTo>
                      <a:pt x="201" y="76"/>
                    </a:lnTo>
                    <a:lnTo>
                      <a:pt x="186" y="70"/>
                    </a:lnTo>
                    <a:lnTo>
                      <a:pt x="173" y="67"/>
                    </a:lnTo>
                    <a:lnTo>
                      <a:pt x="158" y="61"/>
                    </a:lnTo>
                    <a:lnTo>
                      <a:pt x="144" y="59"/>
                    </a:lnTo>
                    <a:lnTo>
                      <a:pt x="129" y="53"/>
                    </a:lnTo>
                    <a:lnTo>
                      <a:pt x="116" y="51"/>
                    </a:lnTo>
                    <a:lnTo>
                      <a:pt x="99" y="46"/>
                    </a:lnTo>
                    <a:lnTo>
                      <a:pt x="85" y="42"/>
                    </a:lnTo>
                    <a:lnTo>
                      <a:pt x="68" y="38"/>
                    </a:lnTo>
                    <a:lnTo>
                      <a:pt x="55" y="34"/>
                    </a:lnTo>
                    <a:lnTo>
                      <a:pt x="40" y="29"/>
                    </a:lnTo>
                    <a:lnTo>
                      <a:pt x="27" y="25"/>
                    </a:lnTo>
                    <a:lnTo>
                      <a:pt x="11" y="21"/>
                    </a:lnTo>
                    <a:lnTo>
                      <a:pt x="0" y="17"/>
                    </a:lnTo>
                    <a:lnTo>
                      <a:pt x="4" y="11"/>
                    </a:lnTo>
                    <a:lnTo>
                      <a:pt x="21" y="6"/>
                    </a:lnTo>
                    <a:lnTo>
                      <a:pt x="44" y="2"/>
                    </a:lnTo>
                    <a:lnTo>
                      <a:pt x="76" y="2"/>
                    </a:lnTo>
                    <a:lnTo>
                      <a:pt x="112" y="0"/>
                    </a:lnTo>
                    <a:lnTo>
                      <a:pt x="156" y="0"/>
                    </a:lnTo>
                    <a:lnTo>
                      <a:pt x="201" y="0"/>
                    </a:lnTo>
                    <a:lnTo>
                      <a:pt x="251" y="2"/>
                    </a:lnTo>
                    <a:lnTo>
                      <a:pt x="297" y="2"/>
                    </a:lnTo>
                    <a:lnTo>
                      <a:pt x="344" y="4"/>
                    </a:lnTo>
                    <a:lnTo>
                      <a:pt x="390" y="6"/>
                    </a:lnTo>
                    <a:lnTo>
                      <a:pt x="432" y="10"/>
                    </a:lnTo>
                    <a:lnTo>
                      <a:pt x="468" y="10"/>
                    </a:lnTo>
                    <a:lnTo>
                      <a:pt x="498" y="13"/>
                    </a:lnTo>
                    <a:lnTo>
                      <a:pt x="519" y="13"/>
                    </a:lnTo>
                    <a:lnTo>
                      <a:pt x="53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 flipH="1" rot="19783200">
                <a:off x="2787120" y="3789000"/>
                <a:ext cx="61560" cy="13968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04" h="915">
                    <a:moveTo>
                      <a:pt x="0" y="103"/>
                    </a:moveTo>
                    <a:lnTo>
                      <a:pt x="10" y="99"/>
                    </a:lnTo>
                    <a:lnTo>
                      <a:pt x="21" y="97"/>
                    </a:lnTo>
                    <a:lnTo>
                      <a:pt x="31" y="93"/>
                    </a:lnTo>
                    <a:lnTo>
                      <a:pt x="42" y="91"/>
                    </a:lnTo>
                    <a:lnTo>
                      <a:pt x="52" y="86"/>
                    </a:lnTo>
                    <a:lnTo>
                      <a:pt x="63" y="80"/>
                    </a:lnTo>
                    <a:lnTo>
                      <a:pt x="75" y="74"/>
                    </a:lnTo>
                    <a:lnTo>
                      <a:pt x="86" y="71"/>
                    </a:lnTo>
                    <a:lnTo>
                      <a:pt x="105" y="57"/>
                    </a:lnTo>
                    <a:lnTo>
                      <a:pt x="126" y="44"/>
                    </a:lnTo>
                    <a:lnTo>
                      <a:pt x="143" y="29"/>
                    </a:lnTo>
                    <a:lnTo>
                      <a:pt x="162" y="15"/>
                    </a:lnTo>
                    <a:lnTo>
                      <a:pt x="179" y="74"/>
                    </a:lnTo>
                    <a:lnTo>
                      <a:pt x="204" y="82"/>
                    </a:lnTo>
                    <a:lnTo>
                      <a:pt x="333" y="0"/>
                    </a:lnTo>
                    <a:lnTo>
                      <a:pt x="327" y="74"/>
                    </a:lnTo>
                    <a:lnTo>
                      <a:pt x="335" y="80"/>
                    </a:lnTo>
                    <a:lnTo>
                      <a:pt x="345" y="88"/>
                    </a:lnTo>
                    <a:lnTo>
                      <a:pt x="352" y="91"/>
                    </a:lnTo>
                    <a:lnTo>
                      <a:pt x="362" y="91"/>
                    </a:lnTo>
                    <a:lnTo>
                      <a:pt x="404" y="875"/>
                    </a:lnTo>
                    <a:lnTo>
                      <a:pt x="386" y="888"/>
                    </a:lnTo>
                    <a:lnTo>
                      <a:pt x="371" y="902"/>
                    </a:lnTo>
                    <a:lnTo>
                      <a:pt x="352" y="911"/>
                    </a:lnTo>
                    <a:lnTo>
                      <a:pt x="333" y="915"/>
                    </a:lnTo>
                    <a:lnTo>
                      <a:pt x="310" y="915"/>
                    </a:lnTo>
                    <a:lnTo>
                      <a:pt x="288" y="915"/>
                    </a:lnTo>
                    <a:lnTo>
                      <a:pt x="265" y="915"/>
                    </a:lnTo>
                    <a:lnTo>
                      <a:pt x="244" y="915"/>
                    </a:lnTo>
                    <a:lnTo>
                      <a:pt x="217" y="915"/>
                    </a:lnTo>
                    <a:lnTo>
                      <a:pt x="194" y="915"/>
                    </a:lnTo>
                    <a:lnTo>
                      <a:pt x="170" y="915"/>
                    </a:lnTo>
                    <a:lnTo>
                      <a:pt x="147" y="915"/>
                    </a:lnTo>
                    <a:lnTo>
                      <a:pt x="124" y="915"/>
                    </a:lnTo>
                    <a:lnTo>
                      <a:pt x="101" y="915"/>
                    </a:lnTo>
                    <a:lnTo>
                      <a:pt x="80" y="915"/>
                    </a:lnTo>
                    <a:lnTo>
                      <a:pt x="63" y="915"/>
                    </a:lnTo>
                    <a:lnTo>
                      <a:pt x="63" y="854"/>
                    </a:lnTo>
                    <a:lnTo>
                      <a:pt x="291" y="854"/>
                    </a:lnTo>
                    <a:lnTo>
                      <a:pt x="282" y="713"/>
                    </a:lnTo>
                    <a:lnTo>
                      <a:pt x="170" y="681"/>
                    </a:lnTo>
                    <a:lnTo>
                      <a:pt x="173" y="675"/>
                    </a:lnTo>
                    <a:lnTo>
                      <a:pt x="183" y="670"/>
                    </a:lnTo>
                    <a:lnTo>
                      <a:pt x="198" y="664"/>
                    </a:lnTo>
                    <a:lnTo>
                      <a:pt x="217" y="658"/>
                    </a:lnTo>
                    <a:lnTo>
                      <a:pt x="234" y="653"/>
                    </a:lnTo>
                    <a:lnTo>
                      <a:pt x="251" y="647"/>
                    </a:lnTo>
                    <a:lnTo>
                      <a:pt x="265" y="641"/>
                    </a:lnTo>
                    <a:lnTo>
                      <a:pt x="274" y="639"/>
                    </a:lnTo>
                    <a:lnTo>
                      <a:pt x="276" y="628"/>
                    </a:lnTo>
                    <a:lnTo>
                      <a:pt x="274" y="614"/>
                    </a:lnTo>
                    <a:lnTo>
                      <a:pt x="270" y="601"/>
                    </a:lnTo>
                    <a:lnTo>
                      <a:pt x="267" y="594"/>
                    </a:lnTo>
                    <a:lnTo>
                      <a:pt x="124" y="559"/>
                    </a:lnTo>
                    <a:lnTo>
                      <a:pt x="263" y="523"/>
                    </a:lnTo>
                    <a:lnTo>
                      <a:pt x="265" y="512"/>
                    </a:lnTo>
                    <a:lnTo>
                      <a:pt x="265" y="500"/>
                    </a:lnTo>
                    <a:lnTo>
                      <a:pt x="261" y="489"/>
                    </a:lnTo>
                    <a:lnTo>
                      <a:pt x="259" y="481"/>
                    </a:lnTo>
                    <a:lnTo>
                      <a:pt x="251" y="466"/>
                    </a:lnTo>
                    <a:lnTo>
                      <a:pt x="257" y="457"/>
                    </a:lnTo>
                    <a:lnTo>
                      <a:pt x="240" y="451"/>
                    </a:lnTo>
                    <a:lnTo>
                      <a:pt x="223" y="445"/>
                    </a:lnTo>
                    <a:lnTo>
                      <a:pt x="206" y="440"/>
                    </a:lnTo>
                    <a:lnTo>
                      <a:pt x="189" y="436"/>
                    </a:lnTo>
                    <a:lnTo>
                      <a:pt x="172" y="430"/>
                    </a:lnTo>
                    <a:lnTo>
                      <a:pt x="154" y="426"/>
                    </a:lnTo>
                    <a:lnTo>
                      <a:pt x="137" y="422"/>
                    </a:lnTo>
                    <a:lnTo>
                      <a:pt x="120" y="422"/>
                    </a:lnTo>
                    <a:lnTo>
                      <a:pt x="274" y="356"/>
                    </a:lnTo>
                    <a:lnTo>
                      <a:pt x="274" y="320"/>
                    </a:lnTo>
                    <a:lnTo>
                      <a:pt x="137" y="268"/>
                    </a:lnTo>
                    <a:lnTo>
                      <a:pt x="242" y="244"/>
                    </a:lnTo>
                    <a:lnTo>
                      <a:pt x="270" y="198"/>
                    </a:lnTo>
                    <a:lnTo>
                      <a:pt x="38" y="208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 flipH="1" rot="19783200">
                <a:off x="2669400" y="3650760"/>
                <a:ext cx="50040" cy="46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31" h="307">
                    <a:moveTo>
                      <a:pt x="28" y="0"/>
                    </a:moveTo>
                    <a:lnTo>
                      <a:pt x="51" y="2"/>
                    </a:lnTo>
                    <a:lnTo>
                      <a:pt x="76" y="10"/>
                    </a:lnTo>
                    <a:lnTo>
                      <a:pt x="99" y="21"/>
                    </a:lnTo>
                    <a:lnTo>
                      <a:pt x="123" y="38"/>
                    </a:lnTo>
                    <a:lnTo>
                      <a:pt x="144" y="56"/>
                    </a:lnTo>
                    <a:lnTo>
                      <a:pt x="167" y="77"/>
                    </a:lnTo>
                    <a:lnTo>
                      <a:pt x="188" y="99"/>
                    </a:lnTo>
                    <a:lnTo>
                      <a:pt x="209" y="124"/>
                    </a:lnTo>
                    <a:lnTo>
                      <a:pt x="226" y="147"/>
                    </a:lnTo>
                    <a:lnTo>
                      <a:pt x="245" y="173"/>
                    </a:lnTo>
                    <a:lnTo>
                      <a:pt x="260" y="196"/>
                    </a:lnTo>
                    <a:lnTo>
                      <a:pt x="277" y="223"/>
                    </a:lnTo>
                    <a:lnTo>
                      <a:pt x="291" y="244"/>
                    </a:lnTo>
                    <a:lnTo>
                      <a:pt x="306" y="267"/>
                    </a:lnTo>
                    <a:lnTo>
                      <a:pt x="317" y="288"/>
                    </a:lnTo>
                    <a:lnTo>
                      <a:pt x="331" y="307"/>
                    </a:lnTo>
                    <a:lnTo>
                      <a:pt x="315" y="295"/>
                    </a:lnTo>
                    <a:lnTo>
                      <a:pt x="296" y="282"/>
                    </a:lnTo>
                    <a:lnTo>
                      <a:pt x="270" y="265"/>
                    </a:lnTo>
                    <a:lnTo>
                      <a:pt x="243" y="248"/>
                    </a:lnTo>
                    <a:lnTo>
                      <a:pt x="209" y="225"/>
                    </a:lnTo>
                    <a:lnTo>
                      <a:pt x="177" y="204"/>
                    </a:lnTo>
                    <a:lnTo>
                      <a:pt x="142" y="179"/>
                    </a:lnTo>
                    <a:lnTo>
                      <a:pt x="110" y="156"/>
                    </a:lnTo>
                    <a:lnTo>
                      <a:pt x="78" y="130"/>
                    </a:lnTo>
                    <a:lnTo>
                      <a:pt x="51" y="107"/>
                    </a:lnTo>
                    <a:lnTo>
                      <a:pt x="28" y="84"/>
                    </a:lnTo>
                    <a:lnTo>
                      <a:pt x="11" y="63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7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 flipH="1" rot="19783200">
                <a:off x="2677680" y="3672000"/>
                <a:ext cx="48600" cy="4464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44640"/>
                  <a:gd name="textAreaBottom" fmla="*/ 44640 h 44640"/>
                </a:gdLst>
                <a:ahLst/>
                <a:rect l="textAreaLeft" t="textAreaTop" r="textAreaRight" b="textAreaBottom"/>
                <a:pathLst>
                  <a:path w="320" h="291">
                    <a:moveTo>
                      <a:pt x="2" y="0"/>
                    </a:moveTo>
                    <a:lnTo>
                      <a:pt x="19" y="15"/>
                    </a:lnTo>
                    <a:lnTo>
                      <a:pt x="37" y="32"/>
                    </a:lnTo>
                    <a:lnTo>
                      <a:pt x="56" y="47"/>
                    </a:lnTo>
                    <a:lnTo>
                      <a:pt x="75" y="64"/>
                    </a:lnTo>
                    <a:lnTo>
                      <a:pt x="92" y="80"/>
                    </a:lnTo>
                    <a:lnTo>
                      <a:pt x="113" y="95"/>
                    </a:lnTo>
                    <a:lnTo>
                      <a:pt x="132" y="110"/>
                    </a:lnTo>
                    <a:lnTo>
                      <a:pt x="152" y="127"/>
                    </a:lnTo>
                    <a:lnTo>
                      <a:pt x="171" y="141"/>
                    </a:lnTo>
                    <a:lnTo>
                      <a:pt x="192" y="156"/>
                    </a:lnTo>
                    <a:lnTo>
                      <a:pt x="211" y="169"/>
                    </a:lnTo>
                    <a:lnTo>
                      <a:pt x="232" y="184"/>
                    </a:lnTo>
                    <a:lnTo>
                      <a:pt x="253" y="198"/>
                    </a:lnTo>
                    <a:lnTo>
                      <a:pt x="274" y="211"/>
                    </a:lnTo>
                    <a:lnTo>
                      <a:pt x="295" y="224"/>
                    </a:lnTo>
                    <a:lnTo>
                      <a:pt x="318" y="237"/>
                    </a:lnTo>
                    <a:lnTo>
                      <a:pt x="318" y="247"/>
                    </a:lnTo>
                    <a:lnTo>
                      <a:pt x="320" y="258"/>
                    </a:lnTo>
                    <a:lnTo>
                      <a:pt x="318" y="264"/>
                    </a:lnTo>
                    <a:lnTo>
                      <a:pt x="318" y="272"/>
                    </a:lnTo>
                    <a:lnTo>
                      <a:pt x="312" y="279"/>
                    </a:lnTo>
                    <a:lnTo>
                      <a:pt x="306" y="281"/>
                    </a:lnTo>
                    <a:lnTo>
                      <a:pt x="297" y="281"/>
                    </a:lnTo>
                    <a:lnTo>
                      <a:pt x="287" y="281"/>
                    </a:lnTo>
                    <a:lnTo>
                      <a:pt x="278" y="283"/>
                    </a:lnTo>
                    <a:lnTo>
                      <a:pt x="272" y="291"/>
                    </a:lnTo>
                    <a:lnTo>
                      <a:pt x="156" y="262"/>
                    </a:lnTo>
                    <a:lnTo>
                      <a:pt x="149" y="251"/>
                    </a:lnTo>
                    <a:lnTo>
                      <a:pt x="141" y="241"/>
                    </a:lnTo>
                    <a:lnTo>
                      <a:pt x="130" y="226"/>
                    </a:lnTo>
                    <a:lnTo>
                      <a:pt x="120" y="211"/>
                    </a:lnTo>
                    <a:lnTo>
                      <a:pt x="105" y="192"/>
                    </a:lnTo>
                    <a:lnTo>
                      <a:pt x="94" y="173"/>
                    </a:lnTo>
                    <a:lnTo>
                      <a:pt x="78" y="152"/>
                    </a:lnTo>
                    <a:lnTo>
                      <a:pt x="67" y="131"/>
                    </a:lnTo>
                    <a:lnTo>
                      <a:pt x="52" y="108"/>
                    </a:lnTo>
                    <a:lnTo>
                      <a:pt x="40" y="87"/>
                    </a:lnTo>
                    <a:lnTo>
                      <a:pt x="27" y="66"/>
                    </a:lnTo>
                    <a:lnTo>
                      <a:pt x="19" y="49"/>
                    </a:lnTo>
                    <a:lnTo>
                      <a:pt x="10" y="32"/>
                    </a:lnTo>
                    <a:lnTo>
                      <a:pt x="4" y="19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Freeform 19"/>
              <p:cNvSpPr/>
              <p:nvPr/>
            </p:nvSpPr>
            <p:spPr>
              <a:xfrm flipH="1" rot="19783200">
                <a:off x="2624760" y="3840120"/>
                <a:ext cx="186120" cy="142560"/>
              </a:xfrm>
              <a:custGeom>
                <a:avLst/>
                <a:gdLst>
                  <a:gd name="textAreaLeft" fmla="*/ -360 w 186120"/>
                  <a:gd name="textAreaRight" fmla="*/ 186120 w 186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219" h="933">
                    <a:moveTo>
                      <a:pt x="0" y="140"/>
                    </a:moveTo>
                    <a:lnTo>
                      <a:pt x="15" y="138"/>
                    </a:lnTo>
                    <a:lnTo>
                      <a:pt x="32" y="135"/>
                    </a:lnTo>
                    <a:lnTo>
                      <a:pt x="49" y="129"/>
                    </a:lnTo>
                    <a:lnTo>
                      <a:pt x="67" y="125"/>
                    </a:lnTo>
                    <a:lnTo>
                      <a:pt x="84" y="117"/>
                    </a:lnTo>
                    <a:lnTo>
                      <a:pt x="101" y="110"/>
                    </a:lnTo>
                    <a:lnTo>
                      <a:pt x="118" y="102"/>
                    </a:lnTo>
                    <a:lnTo>
                      <a:pt x="135" y="95"/>
                    </a:lnTo>
                    <a:lnTo>
                      <a:pt x="150" y="83"/>
                    </a:lnTo>
                    <a:lnTo>
                      <a:pt x="165" y="74"/>
                    </a:lnTo>
                    <a:lnTo>
                      <a:pt x="181" y="62"/>
                    </a:lnTo>
                    <a:lnTo>
                      <a:pt x="196" y="53"/>
                    </a:lnTo>
                    <a:lnTo>
                      <a:pt x="209" y="41"/>
                    </a:lnTo>
                    <a:lnTo>
                      <a:pt x="224" y="32"/>
                    </a:lnTo>
                    <a:lnTo>
                      <a:pt x="238" y="22"/>
                    </a:lnTo>
                    <a:lnTo>
                      <a:pt x="253" y="15"/>
                    </a:lnTo>
                    <a:lnTo>
                      <a:pt x="285" y="131"/>
                    </a:lnTo>
                    <a:lnTo>
                      <a:pt x="293" y="129"/>
                    </a:lnTo>
                    <a:lnTo>
                      <a:pt x="302" y="127"/>
                    </a:lnTo>
                    <a:lnTo>
                      <a:pt x="314" y="123"/>
                    </a:lnTo>
                    <a:lnTo>
                      <a:pt x="325" y="119"/>
                    </a:lnTo>
                    <a:lnTo>
                      <a:pt x="337" y="112"/>
                    </a:lnTo>
                    <a:lnTo>
                      <a:pt x="348" y="104"/>
                    </a:lnTo>
                    <a:lnTo>
                      <a:pt x="359" y="97"/>
                    </a:lnTo>
                    <a:lnTo>
                      <a:pt x="373" y="89"/>
                    </a:lnTo>
                    <a:lnTo>
                      <a:pt x="382" y="79"/>
                    </a:lnTo>
                    <a:lnTo>
                      <a:pt x="394" y="70"/>
                    </a:lnTo>
                    <a:lnTo>
                      <a:pt x="403" y="60"/>
                    </a:lnTo>
                    <a:lnTo>
                      <a:pt x="411" y="53"/>
                    </a:lnTo>
                    <a:lnTo>
                      <a:pt x="430" y="36"/>
                    </a:lnTo>
                    <a:lnTo>
                      <a:pt x="441" y="24"/>
                    </a:lnTo>
                    <a:lnTo>
                      <a:pt x="483" y="123"/>
                    </a:lnTo>
                    <a:lnTo>
                      <a:pt x="500" y="117"/>
                    </a:lnTo>
                    <a:lnTo>
                      <a:pt x="517" y="110"/>
                    </a:lnTo>
                    <a:lnTo>
                      <a:pt x="536" y="97"/>
                    </a:lnTo>
                    <a:lnTo>
                      <a:pt x="555" y="83"/>
                    </a:lnTo>
                    <a:lnTo>
                      <a:pt x="570" y="66"/>
                    </a:lnTo>
                    <a:lnTo>
                      <a:pt x="587" y="51"/>
                    </a:lnTo>
                    <a:lnTo>
                      <a:pt x="603" y="36"/>
                    </a:lnTo>
                    <a:lnTo>
                      <a:pt x="616" y="24"/>
                    </a:lnTo>
                    <a:lnTo>
                      <a:pt x="620" y="106"/>
                    </a:lnTo>
                    <a:lnTo>
                      <a:pt x="631" y="106"/>
                    </a:lnTo>
                    <a:lnTo>
                      <a:pt x="643" y="106"/>
                    </a:lnTo>
                    <a:lnTo>
                      <a:pt x="654" y="102"/>
                    </a:lnTo>
                    <a:lnTo>
                      <a:pt x="667" y="100"/>
                    </a:lnTo>
                    <a:lnTo>
                      <a:pt x="679" y="95"/>
                    </a:lnTo>
                    <a:lnTo>
                      <a:pt x="694" y="89"/>
                    </a:lnTo>
                    <a:lnTo>
                      <a:pt x="705" y="81"/>
                    </a:lnTo>
                    <a:lnTo>
                      <a:pt x="721" y="74"/>
                    </a:lnTo>
                    <a:lnTo>
                      <a:pt x="732" y="62"/>
                    </a:lnTo>
                    <a:lnTo>
                      <a:pt x="743" y="53"/>
                    </a:lnTo>
                    <a:lnTo>
                      <a:pt x="755" y="43"/>
                    </a:lnTo>
                    <a:lnTo>
                      <a:pt x="766" y="34"/>
                    </a:lnTo>
                    <a:lnTo>
                      <a:pt x="785" y="15"/>
                    </a:lnTo>
                    <a:lnTo>
                      <a:pt x="802" y="0"/>
                    </a:lnTo>
                    <a:lnTo>
                      <a:pt x="802" y="85"/>
                    </a:lnTo>
                    <a:lnTo>
                      <a:pt x="814" y="87"/>
                    </a:lnTo>
                    <a:lnTo>
                      <a:pt x="827" y="93"/>
                    </a:lnTo>
                    <a:lnTo>
                      <a:pt x="840" y="97"/>
                    </a:lnTo>
                    <a:lnTo>
                      <a:pt x="857" y="102"/>
                    </a:lnTo>
                    <a:lnTo>
                      <a:pt x="871" y="102"/>
                    </a:lnTo>
                    <a:lnTo>
                      <a:pt x="886" y="104"/>
                    </a:lnTo>
                    <a:lnTo>
                      <a:pt x="899" y="104"/>
                    </a:lnTo>
                    <a:lnTo>
                      <a:pt x="915" y="102"/>
                    </a:lnTo>
                    <a:lnTo>
                      <a:pt x="991" y="32"/>
                    </a:lnTo>
                    <a:lnTo>
                      <a:pt x="1061" y="85"/>
                    </a:lnTo>
                    <a:lnTo>
                      <a:pt x="1198" y="85"/>
                    </a:lnTo>
                    <a:lnTo>
                      <a:pt x="1219" y="173"/>
                    </a:lnTo>
                    <a:lnTo>
                      <a:pt x="253" y="239"/>
                    </a:lnTo>
                    <a:lnTo>
                      <a:pt x="253" y="268"/>
                    </a:lnTo>
                    <a:lnTo>
                      <a:pt x="255" y="296"/>
                    </a:lnTo>
                    <a:lnTo>
                      <a:pt x="257" y="325"/>
                    </a:lnTo>
                    <a:lnTo>
                      <a:pt x="259" y="355"/>
                    </a:lnTo>
                    <a:lnTo>
                      <a:pt x="259" y="384"/>
                    </a:lnTo>
                    <a:lnTo>
                      <a:pt x="259" y="412"/>
                    </a:lnTo>
                    <a:lnTo>
                      <a:pt x="259" y="443"/>
                    </a:lnTo>
                    <a:lnTo>
                      <a:pt x="260" y="473"/>
                    </a:lnTo>
                    <a:lnTo>
                      <a:pt x="259" y="502"/>
                    </a:lnTo>
                    <a:lnTo>
                      <a:pt x="259" y="532"/>
                    </a:lnTo>
                    <a:lnTo>
                      <a:pt x="259" y="561"/>
                    </a:lnTo>
                    <a:lnTo>
                      <a:pt x="259" y="591"/>
                    </a:lnTo>
                    <a:lnTo>
                      <a:pt x="257" y="620"/>
                    </a:lnTo>
                    <a:lnTo>
                      <a:pt x="257" y="650"/>
                    </a:lnTo>
                    <a:lnTo>
                      <a:pt x="257" y="679"/>
                    </a:lnTo>
                    <a:lnTo>
                      <a:pt x="257" y="709"/>
                    </a:lnTo>
                    <a:lnTo>
                      <a:pt x="49" y="933"/>
                    </a:lnTo>
                    <a:lnTo>
                      <a:pt x="44" y="916"/>
                    </a:lnTo>
                    <a:lnTo>
                      <a:pt x="42" y="899"/>
                    </a:lnTo>
                    <a:lnTo>
                      <a:pt x="42" y="882"/>
                    </a:lnTo>
                    <a:lnTo>
                      <a:pt x="46" y="865"/>
                    </a:lnTo>
                    <a:lnTo>
                      <a:pt x="48" y="848"/>
                    </a:lnTo>
                    <a:lnTo>
                      <a:pt x="53" y="831"/>
                    </a:lnTo>
                    <a:lnTo>
                      <a:pt x="59" y="814"/>
                    </a:lnTo>
                    <a:lnTo>
                      <a:pt x="68" y="798"/>
                    </a:lnTo>
                    <a:lnTo>
                      <a:pt x="74" y="781"/>
                    </a:lnTo>
                    <a:lnTo>
                      <a:pt x="84" y="764"/>
                    </a:lnTo>
                    <a:lnTo>
                      <a:pt x="95" y="749"/>
                    </a:lnTo>
                    <a:lnTo>
                      <a:pt x="106" y="737"/>
                    </a:lnTo>
                    <a:lnTo>
                      <a:pt x="118" y="722"/>
                    </a:lnTo>
                    <a:lnTo>
                      <a:pt x="129" y="711"/>
                    </a:lnTo>
                    <a:lnTo>
                      <a:pt x="141" y="699"/>
                    </a:lnTo>
                    <a:lnTo>
                      <a:pt x="154" y="692"/>
                    </a:lnTo>
                    <a:lnTo>
                      <a:pt x="158" y="642"/>
                    </a:lnTo>
                    <a:lnTo>
                      <a:pt x="150" y="631"/>
                    </a:lnTo>
                    <a:lnTo>
                      <a:pt x="143" y="620"/>
                    </a:lnTo>
                    <a:lnTo>
                      <a:pt x="135" y="608"/>
                    </a:lnTo>
                    <a:lnTo>
                      <a:pt x="129" y="599"/>
                    </a:lnTo>
                    <a:lnTo>
                      <a:pt x="122" y="587"/>
                    </a:lnTo>
                    <a:lnTo>
                      <a:pt x="116" y="576"/>
                    </a:lnTo>
                    <a:lnTo>
                      <a:pt x="110" y="564"/>
                    </a:lnTo>
                    <a:lnTo>
                      <a:pt x="106" y="553"/>
                    </a:lnTo>
                    <a:lnTo>
                      <a:pt x="101" y="540"/>
                    </a:lnTo>
                    <a:lnTo>
                      <a:pt x="95" y="526"/>
                    </a:lnTo>
                    <a:lnTo>
                      <a:pt x="91" y="513"/>
                    </a:lnTo>
                    <a:lnTo>
                      <a:pt x="91" y="502"/>
                    </a:lnTo>
                    <a:lnTo>
                      <a:pt x="87" y="488"/>
                    </a:lnTo>
                    <a:lnTo>
                      <a:pt x="87" y="477"/>
                    </a:lnTo>
                    <a:lnTo>
                      <a:pt x="87" y="464"/>
                    </a:lnTo>
                    <a:lnTo>
                      <a:pt x="91" y="452"/>
                    </a:lnTo>
                    <a:lnTo>
                      <a:pt x="25" y="422"/>
                    </a:lnTo>
                    <a:lnTo>
                      <a:pt x="19" y="403"/>
                    </a:lnTo>
                    <a:lnTo>
                      <a:pt x="15" y="386"/>
                    </a:lnTo>
                    <a:lnTo>
                      <a:pt x="11" y="369"/>
                    </a:lnTo>
                    <a:lnTo>
                      <a:pt x="11" y="351"/>
                    </a:lnTo>
                    <a:lnTo>
                      <a:pt x="8" y="332"/>
                    </a:lnTo>
                    <a:lnTo>
                      <a:pt x="6" y="315"/>
                    </a:lnTo>
                    <a:lnTo>
                      <a:pt x="6" y="298"/>
                    </a:lnTo>
                    <a:lnTo>
                      <a:pt x="6" y="281"/>
                    </a:lnTo>
                    <a:lnTo>
                      <a:pt x="4" y="262"/>
                    </a:lnTo>
                    <a:lnTo>
                      <a:pt x="2" y="245"/>
                    </a:lnTo>
                    <a:lnTo>
                      <a:pt x="2" y="228"/>
                    </a:lnTo>
                    <a:lnTo>
                      <a:pt x="2" y="211"/>
                    </a:lnTo>
                    <a:lnTo>
                      <a:pt x="0" y="192"/>
                    </a:lnTo>
                    <a:lnTo>
                      <a:pt x="0" y="175"/>
                    </a:lnTo>
                    <a:lnTo>
                      <a:pt x="0" y="157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Freeform 20"/>
              <p:cNvSpPr/>
              <p:nvPr/>
            </p:nvSpPr>
            <p:spPr>
              <a:xfrm flipH="1" rot="19783200">
                <a:off x="2634120" y="3892320"/>
                <a:ext cx="106920" cy="16200"/>
              </a:xfrm>
              <a:custGeom>
                <a:avLst/>
                <a:gdLst>
                  <a:gd name="textAreaLeft" fmla="*/ -360 w 106920"/>
                  <a:gd name="textAreaRight" fmla="*/ 106920 w 106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01" h="105">
                    <a:moveTo>
                      <a:pt x="0" y="35"/>
                    </a:moveTo>
                    <a:lnTo>
                      <a:pt x="39" y="29"/>
                    </a:lnTo>
                    <a:lnTo>
                      <a:pt x="83" y="23"/>
                    </a:lnTo>
                    <a:lnTo>
                      <a:pt x="125" y="19"/>
                    </a:lnTo>
                    <a:lnTo>
                      <a:pt x="169" y="16"/>
                    </a:lnTo>
                    <a:lnTo>
                      <a:pt x="211" y="10"/>
                    </a:lnTo>
                    <a:lnTo>
                      <a:pt x="254" y="8"/>
                    </a:lnTo>
                    <a:lnTo>
                      <a:pt x="296" y="4"/>
                    </a:lnTo>
                    <a:lnTo>
                      <a:pt x="340" y="4"/>
                    </a:lnTo>
                    <a:lnTo>
                      <a:pt x="382" y="0"/>
                    </a:lnTo>
                    <a:lnTo>
                      <a:pt x="425" y="0"/>
                    </a:lnTo>
                    <a:lnTo>
                      <a:pt x="467" y="0"/>
                    </a:lnTo>
                    <a:lnTo>
                      <a:pt x="511" y="2"/>
                    </a:lnTo>
                    <a:lnTo>
                      <a:pt x="553" y="2"/>
                    </a:lnTo>
                    <a:lnTo>
                      <a:pt x="597" y="8"/>
                    </a:lnTo>
                    <a:lnTo>
                      <a:pt x="638" y="12"/>
                    </a:lnTo>
                    <a:lnTo>
                      <a:pt x="684" y="19"/>
                    </a:lnTo>
                    <a:lnTo>
                      <a:pt x="690" y="25"/>
                    </a:lnTo>
                    <a:lnTo>
                      <a:pt x="697" y="37"/>
                    </a:lnTo>
                    <a:lnTo>
                      <a:pt x="701" y="48"/>
                    </a:lnTo>
                    <a:lnTo>
                      <a:pt x="699" y="59"/>
                    </a:lnTo>
                    <a:lnTo>
                      <a:pt x="667" y="59"/>
                    </a:lnTo>
                    <a:lnTo>
                      <a:pt x="631" y="63"/>
                    </a:lnTo>
                    <a:lnTo>
                      <a:pt x="591" y="69"/>
                    </a:lnTo>
                    <a:lnTo>
                      <a:pt x="547" y="75"/>
                    </a:lnTo>
                    <a:lnTo>
                      <a:pt x="498" y="80"/>
                    </a:lnTo>
                    <a:lnTo>
                      <a:pt x="448" y="86"/>
                    </a:lnTo>
                    <a:lnTo>
                      <a:pt x="395" y="92"/>
                    </a:lnTo>
                    <a:lnTo>
                      <a:pt x="344" y="99"/>
                    </a:lnTo>
                    <a:lnTo>
                      <a:pt x="290" y="101"/>
                    </a:lnTo>
                    <a:lnTo>
                      <a:pt x="239" y="105"/>
                    </a:lnTo>
                    <a:lnTo>
                      <a:pt x="190" y="105"/>
                    </a:lnTo>
                    <a:lnTo>
                      <a:pt x="146" y="105"/>
                    </a:lnTo>
                    <a:lnTo>
                      <a:pt x="102" y="99"/>
                    </a:lnTo>
                    <a:lnTo>
                      <a:pt x="64" y="94"/>
                    </a:lnTo>
                    <a:lnTo>
                      <a:pt x="34" y="84"/>
                    </a:lnTo>
                    <a:lnTo>
                      <a:pt x="9" y="7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Freeform 21"/>
              <p:cNvSpPr/>
              <p:nvPr/>
            </p:nvSpPr>
            <p:spPr>
              <a:xfrm flipH="1" rot="19783200">
                <a:off x="2534760" y="3718440"/>
                <a:ext cx="28440" cy="626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89" h="411">
                    <a:moveTo>
                      <a:pt x="0" y="232"/>
                    </a:moveTo>
                    <a:lnTo>
                      <a:pt x="0" y="226"/>
                    </a:lnTo>
                    <a:lnTo>
                      <a:pt x="6" y="217"/>
                    </a:lnTo>
                    <a:lnTo>
                      <a:pt x="10" y="204"/>
                    </a:lnTo>
                    <a:lnTo>
                      <a:pt x="18" y="190"/>
                    </a:lnTo>
                    <a:lnTo>
                      <a:pt x="25" y="171"/>
                    </a:lnTo>
                    <a:lnTo>
                      <a:pt x="35" y="154"/>
                    </a:lnTo>
                    <a:lnTo>
                      <a:pt x="42" y="135"/>
                    </a:lnTo>
                    <a:lnTo>
                      <a:pt x="54" y="116"/>
                    </a:lnTo>
                    <a:lnTo>
                      <a:pt x="61" y="95"/>
                    </a:lnTo>
                    <a:lnTo>
                      <a:pt x="71" y="76"/>
                    </a:lnTo>
                    <a:lnTo>
                      <a:pt x="78" y="57"/>
                    </a:lnTo>
                    <a:lnTo>
                      <a:pt x="88" y="42"/>
                    </a:lnTo>
                    <a:lnTo>
                      <a:pt x="94" y="25"/>
                    </a:lnTo>
                    <a:lnTo>
                      <a:pt x="99" y="15"/>
                    </a:lnTo>
                    <a:lnTo>
                      <a:pt x="103" y="6"/>
                    </a:lnTo>
                    <a:lnTo>
                      <a:pt x="109" y="4"/>
                    </a:lnTo>
                    <a:lnTo>
                      <a:pt x="126" y="0"/>
                    </a:lnTo>
                    <a:lnTo>
                      <a:pt x="135" y="23"/>
                    </a:lnTo>
                    <a:lnTo>
                      <a:pt x="145" y="46"/>
                    </a:lnTo>
                    <a:lnTo>
                      <a:pt x="153" y="70"/>
                    </a:lnTo>
                    <a:lnTo>
                      <a:pt x="160" y="97"/>
                    </a:lnTo>
                    <a:lnTo>
                      <a:pt x="164" y="122"/>
                    </a:lnTo>
                    <a:lnTo>
                      <a:pt x="168" y="148"/>
                    </a:lnTo>
                    <a:lnTo>
                      <a:pt x="172" y="173"/>
                    </a:lnTo>
                    <a:lnTo>
                      <a:pt x="175" y="202"/>
                    </a:lnTo>
                    <a:lnTo>
                      <a:pt x="175" y="226"/>
                    </a:lnTo>
                    <a:lnTo>
                      <a:pt x="177" y="253"/>
                    </a:lnTo>
                    <a:lnTo>
                      <a:pt x="177" y="280"/>
                    </a:lnTo>
                    <a:lnTo>
                      <a:pt x="179" y="306"/>
                    </a:lnTo>
                    <a:lnTo>
                      <a:pt x="179" y="331"/>
                    </a:lnTo>
                    <a:lnTo>
                      <a:pt x="181" y="358"/>
                    </a:lnTo>
                    <a:lnTo>
                      <a:pt x="183" y="384"/>
                    </a:lnTo>
                    <a:lnTo>
                      <a:pt x="189" y="411"/>
                    </a:lnTo>
                    <a:lnTo>
                      <a:pt x="25" y="38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Freeform 22"/>
              <p:cNvSpPr/>
              <p:nvPr/>
            </p:nvSpPr>
            <p:spPr>
              <a:xfrm flipH="1" rot="19783200">
                <a:off x="2424240" y="3790080"/>
                <a:ext cx="33480" cy="6120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21" h="403">
                    <a:moveTo>
                      <a:pt x="0" y="308"/>
                    </a:moveTo>
                    <a:lnTo>
                      <a:pt x="6" y="286"/>
                    </a:lnTo>
                    <a:lnTo>
                      <a:pt x="16" y="265"/>
                    </a:lnTo>
                    <a:lnTo>
                      <a:pt x="23" y="244"/>
                    </a:lnTo>
                    <a:lnTo>
                      <a:pt x="35" y="225"/>
                    </a:lnTo>
                    <a:lnTo>
                      <a:pt x="42" y="204"/>
                    </a:lnTo>
                    <a:lnTo>
                      <a:pt x="54" y="185"/>
                    </a:lnTo>
                    <a:lnTo>
                      <a:pt x="65" y="166"/>
                    </a:lnTo>
                    <a:lnTo>
                      <a:pt x="76" y="149"/>
                    </a:lnTo>
                    <a:lnTo>
                      <a:pt x="88" y="128"/>
                    </a:lnTo>
                    <a:lnTo>
                      <a:pt x="99" y="109"/>
                    </a:lnTo>
                    <a:lnTo>
                      <a:pt x="111" y="90"/>
                    </a:lnTo>
                    <a:lnTo>
                      <a:pt x="122" y="73"/>
                    </a:lnTo>
                    <a:lnTo>
                      <a:pt x="133" y="54"/>
                    </a:lnTo>
                    <a:lnTo>
                      <a:pt x="147" y="35"/>
                    </a:lnTo>
                    <a:lnTo>
                      <a:pt x="160" y="17"/>
                    </a:lnTo>
                    <a:lnTo>
                      <a:pt x="175" y="0"/>
                    </a:lnTo>
                    <a:lnTo>
                      <a:pt x="221" y="10"/>
                    </a:lnTo>
                    <a:lnTo>
                      <a:pt x="217" y="42"/>
                    </a:lnTo>
                    <a:lnTo>
                      <a:pt x="217" y="76"/>
                    </a:lnTo>
                    <a:lnTo>
                      <a:pt x="215" y="107"/>
                    </a:lnTo>
                    <a:lnTo>
                      <a:pt x="215" y="139"/>
                    </a:lnTo>
                    <a:lnTo>
                      <a:pt x="213" y="168"/>
                    </a:lnTo>
                    <a:lnTo>
                      <a:pt x="211" y="198"/>
                    </a:lnTo>
                    <a:lnTo>
                      <a:pt x="206" y="225"/>
                    </a:lnTo>
                    <a:lnTo>
                      <a:pt x="202" y="251"/>
                    </a:lnTo>
                    <a:lnTo>
                      <a:pt x="192" y="274"/>
                    </a:lnTo>
                    <a:lnTo>
                      <a:pt x="181" y="297"/>
                    </a:lnTo>
                    <a:lnTo>
                      <a:pt x="166" y="318"/>
                    </a:lnTo>
                    <a:lnTo>
                      <a:pt x="149" y="339"/>
                    </a:lnTo>
                    <a:lnTo>
                      <a:pt x="126" y="356"/>
                    </a:lnTo>
                    <a:lnTo>
                      <a:pt x="99" y="373"/>
                    </a:lnTo>
                    <a:lnTo>
                      <a:pt x="65" y="388"/>
                    </a:lnTo>
                    <a:lnTo>
                      <a:pt x="29" y="40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Freeform 23"/>
              <p:cNvSpPr/>
              <p:nvPr/>
            </p:nvSpPr>
            <p:spPr>
              <a:xfrm flipH="1" rot="19783200">
                <a:off x="2287800" y="4014720"/>
                <a:ext cx="271080" cy="119880"/>
              </a:xfrm>
              <a:custGeom>
                <a:avLst/>
                <a:gdLst>
                  <a:gd name="textAreaLeft" fmla="*/ -360 w 271080"/>
                  <a:gd name="textAreaRight" fmla="*/ 271080 w 27108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776" h="784">
                    <a:moveTo>
                      <a:pt x="0" y="166"/>
                    </a:moveTo>
                    <a:lnTo>
                      <a:pt x="112" y="99"/>
                    </a:lnTo>
                    <a:lnTo>
                      <a:pt x="116" y="99"/>
                    </a:lnTo>
                    <a:lnTo>
                      <a:pt x="122" y="105"/>
                    </a:lnTo>
                    <a:lnTo>
                      <a:pt x="127" y="116"/>
                    </a:lnTo>
                    <a:lnTo>
                      <a:pt x="137" y="130"/>
                    </a:lnTo>
                    <a:lnTo>
                      <a:pt x="144" y="141"/>
                    </a:lnTo>
                    <a:lnTo>
                      <a:pt x="158" y="152"/>
                    </a:lnTo>
                    <a:lnTo>
                      <a:pt x="163" y="154"/>
                    </a:lnTo>
                    <a:lnTo>
                      <a:pt x="171" y="158"/>
                    </a:lnTo>
                    <a:lnTo>
                      <a:pt x="181" y="158"/>
                    </a:lnTo>
                    <a:lnTo>
                      <a:pt x="192" y="158"/>
                    </a:lnTo>
                    <a:lnTo>
                      <a:pt x="186" y="92"/>
                    </a:lnTo>
                    <a:lnTo>
                      <a:pt x="200" y="111"/>
                    </a:lnTo>
                    <a:lnTo>
                      <a:pt x="215" y="132"/>
                    </a:lnTo>
                    <a:lnTo>
                      <a:pt x="230" y="149"/>
                    </a:lnTo>
                    <a:lnTo>
                      <a:pt x="247" y="166"/>
                    </a:lnTo>
                    <a:lnTo>
                      <a:pt x="260" y="181"/>
                    </a:lnTo>
                    <a:lnTo>
                      <a:pt x="277" y="198"/>
                    </a:lnTo>
                    <a:lnTo>
                      <a:pt x="295" y="213"/>
                    </a:lnTo>
                    <a:lnTo>
                      <a:pt x="312" y="229"/>
                    </a:lnTo>
                    <a:lnTo>
                      <a:pt x="289" y="99"/>
                    </a:lnTo>
                    <a:lnTo>
                      <a:pt x="350" y="166"/>
                    </a:lnTo>
                    <a:lnTo>
                      <a:pt x="363" y="152"/>
                    </a:lnTo>
                    <a:lnTo>
                      <a:pt x="329" y="12"/>
                    </a:lnTo>
                    <a:lnTo>
                      <a:pt x="418" y="4"/>
                    </a:lnTo>
                    <a:lnTo>
                      <a:pt x="418" y="17"/>
                    </a:lnTo>
                    <a:lnTo>
                      <a:pt x="420" y="35"/>
                    </a:lnTo>
                    <a:lnTo>
                      <a:pt x="422" y="48"/>
                    </a:lnTo>
                    <a:lnTo>
                      <a:pt x="426" y="65"/>
                    </a:lnTo>
                    <a:lnTo>
                      <a:pt x="430" y="80"/>
                    </a:lnTo>
                    <a:lnTo>
                      <a:pt x="433" y="95"/>
                    </a:lnTo>
                    <a:lnTo>
                      <a:pt x="437" y="111"/>
                    </a:lnTo>
                    <a:lnTo>
                      <a:pt x="443" y="128"/>
                    </a:lnTo>
                    <a:lnTo>
                      <a:pt x="521" y="128"/>
                    </a:lnTo>
                    <a:lnTo>
                      <a:pt x="509" y="139"/>
                    </a:lnTo>
                    <a:lnTo>
                      <a:pt x="502" y="154"/>
                    </a:lnTo>
                    <a:lnTo>
                      <a:pt x="494" y="168"/>
                    </a:lnTo>
                    <a:lnTo>
                      <a:pt x="490" y="185"/>
                    </a:lnTo>
                    <a:lnTo>
                      <a:pt x="487" y="198"/>
                    </a:lnTo>
                    <a:lnTo>
                      <a:pt x="489" y="213"/>
                    </a:lnTo>
                    <a:lnTo>
                      <a:pt x="490" y="229"/>
                    </a:lnTo>
                    <a:lnTo>
                      <a:pt x="500" y="244"/>
                    </a:lnTo>
                    <a:lnTo>
                      <a:pt x="504" y="244"/>
                    </a:lnTo>
                    <a:lnTo>
                      <a:pt x="515" y="246"/>
                    </a:lnTo>
                    <a:lnTo>
                      <a:pt x="528" y="248"/>
                    </a:lnTo>
                    <a:lnTo>
                      <a:pt x="546" y="251"/>
                    </a:lnTo>
                    <a:lnTo>
                      <a:pt x="559" y="253"/>
                    </a:lnTo>
                    <a:lnTo>
                      <a:pt x="574" y="257"/>
                    </a:lnTo>
                    <a:lnTo>
                      <a:pt x="584" y="259"/>
                    </a:lnTo>
                    <a:lnTo>
                      <a:pt x="591" y="261"/>
                    </a:lnTo>
                    <a:lnTo>
                      <a:pt x="555" y="341"/>
                    </a:lnTo>
                    <a:lnTo>
                      <a:pt x="559" y="350"/>
                    </a:lnTo>
                    <a:lnTo>
                      <a:pt x="570" y="360"/>
                    </a:lnTo>
                    <a:lnTo>
                      <a:pt x="584" y="364"/>
                    </a:lnTo>
                    <a:lnTo>
                      <a:pt x="601" y="367"/>
                    </a:lnTo>
                    <a:lnTo>
                      <a:pt x="616" y="367"/>
                    </a:lnTo>
                    <a:lnTo>
                      <a:pt x="633" y="369"/>
                    </a:lnTo>
                    <a:lnTo>
                      <a:pt x="648" y="371"/>
                    </a:lnTo>
                    <a:lnTo>
                      <a:pt x="663" y="373"/>
                    </a:lnTo>
                    <a:lnTo>
                      <a:pt x="622" y="443"/>
                    </a:lnTo>
                    <a:lnTo>
                      <a:pt x="631" y="453"/>
                    </a:lnTo>
                    <a:lnTo>
                      <a:pt x="644" y="461"/>
                    </a:lnTo>
                    <a:lnTo>
                      <a:pt x="658" y="464"/>
                    </a:lnTo>
                    <a:lnTo>
                      <a:pt x="675" y="466"/>
                    </a:lnTo>
                    <a:lnTo>
                      <a:pt x="688" y="464"/>
                    </a:lnTo>
                    <a:lnTo>
                      <a:pt x="703" y="461"/>
                    </a:lnTo>
                    <a:lnTo>
                      <a:pt x="715" y="455"/>
                    </a:lnTo>
                    <a:lnTo>
                      <a:pt x="728" y="447"/>
                    </a:lnTo>
                    <a:lnTo>
                      <a:pt x="713" y="548"/>
                    </a:lnTo>
                    <a:lnTo>
                      <a:pt x="749" y="577"/>
                    </a:lnTo>
                    <a:lnTo>
                      <a:pt x="836" y="485"/>
                    </a:lnTo>
                    <a:lnTo>
                      <a:pt x="816" y="590"/>
                    </a:lnTo>
                    <a:lnTo>
                      <a:pt x="846" y="601"/>
                    </a:lnTo>
                    <a:lnTo>
                      <a:pt x="920" y="523"/>
                    </a:lnTo>
                    <a:lnTo>
                      <a:pt x="937" y="615"/>
                    </a:lnTo>
                    <a:lnTo>
                      <a:pt x="951" y="616"/>
                    </a:lnTo>
                    <a:lnTo>
                      <a:pt x="966" y="620"/>
                    </a:lnTo>
                    <a:lnTo>
                      <a:pt x="981" y="622"/>
                    </a:lnTo>
                    <a:lnTo>
                      <a:pt x="994" y="622"/>
                    </a:lnTo>
                    <a:lnTo>
                      <a:pt x="1061" y="531"/>
                    </a:lnTo>
                    <a:lnTo>
                      <a:pt x="1089" y="618"/>
                    </a:lnTo>
                    <a:lnTo>
                      <a:pt x="1150" y="603"/>
                    </a:lnTo>
                    <a:lnTo>
                      <a:pt x="1205" y="586"/>
                    </a:lnTo>
                    <a:lnTo>
                      <a:pt x="1257" y="563"/>
                    </a:lnTo>
                    <a:lnTo>
                      <a:pt x="1306" y="538"/>
                    </a:lnTo>
                    <a:lnTo>
                      <a:pt x="1348" y="508"/>
                    </a:lnTo>
                    <a:lnTo>
                      <a:pt x="1388" y="476"/>
                    </a:lnTo>
                    <a:lnTo>
                      <a:pt x="1424" y="442"/>
                    </a:lnTo>
                    <a:lnTo>
                      <a:pt x="1458" y="403"/>
                    </a:lnTo>
                    <a:lnTo>
                      <a:pt x="1485" y="360"/>
                    </a:lnTo>
                    <a:lnTo>
                      <a:pt x="1513" y="314"/>
                    </a:lnTo>
                    <a:lnTo>
                      <a:pt x="1536" y="267"/>
                    </a:lnTo>
                    <a:lnTo>
                      <a:pt x="1561" y="219"/>
                    </a:lnTo>
                    <a:lnTo>
                      <a:pt x="1582" y="166"/>
                    </a:lnTo>
                    <a:lnTo>
                      <a:pt x="1603" y="112"/>
                    </a:lnTo>
                    <a:lnTo>
                      <a:pt x="1620" y="55"/>
                    </a:lnTo>
                    <a:lnTo>
                      <a:pt x="1639" y="0"/>
                    </a:lnTo>
                    <a:lnTo>
                      <a:pt x="1639" y="21"/>
                    </a:lnTo>
                    <a:lnTo>
                      <a:pt x="1639" y="42"/>
                    </a:lnTo>
                    <a:lnTo>
                      <a:pt x="1639" y="63"/>
                    </a:lnTo>
                    <a:lnTo>
                      <a:pt x="1639" y="86"/>
                    </a:lnTo>
                    <a:lnTo>
                      <a:pt x="1635" y="107"/>
                    </a:lnTo>
                    <a:lnTo>
                      <a:pt x="1633" y="128"/>
                    </a:lnTo>
                    <a:lnTo>
                      <a:pt x="1629" y="149"/>
                    </a:lnTo>
                    <a:lnTo>
                      <a:pt x="1625" y="171"/>
                    </a:lnTo>
                    <a:lnTo>
                      <a:pt x="1618" y="190"/>
                    </a:lnTo>
                    <a:lnTo>
                      <a:pt x="1612" y="213"/>
                    </a:lnTo>
                    <a:lnTo>
                      <a:pt x="1605" y="232"/>
                    </a:lnTo>
                    <a:lnTo>
                      <a:pt x="1599" y="255"/>
                    </a:lnTo>
                    <a:lnTo>
                      <a:pt x="1589" y="274"/>
                    </a:lnTo>
                    <a:lnTo>
                      <a:pt x="1580" y="295"/>
                    </a:lnTo>
                    <a:lnTo>
                      <a:pt x="1570" y="316"/>
                    </a:lnTo>
                    <a:lnTo>
                      <a:pt x="1563" y="337"/>
                    </a:lnTo>
                    <a:lnTo>
                      <a:pt x="1589" y="345"/>
                    </a:lnTo>
                    <a:lnTo>
                      <a:pt x="1597" y="329"/>
                    </a:lnTo>
                    <a:lnTo>
                      <a:pt x="1606" y="316"/>
                    </a:lnTo>
                    <a:lnTo>
                      <a:pt x="1614" y="301"/>
                    </a:lnTo>
                    <a:lnTo>
                      <a:pt x="1624" y="289"/>
                    </a:lnTo>
                    <a:lnTo>
                      <a:pt x="1631" y="274"/>
                    </a:lnTo>
                    <a:lnTo>
                      <a:pt x="1641" y="261"/>
                    </a:lnTo>
                    <a:lnTo>
                      <a:pt x="1650" y="248"/>
                    </a:lnTo>
                    <a:lnTo>
                      <a:pt x="1660" y="234"/>
                    </a:lnTo>
                    <a:lnTo>
                      <a:pt x="1667" y="219"/>
                    </a:lnTo>
                    <a:lnTo>
                      <a:pt x="1675" y="204"/>
                    </a:lnTo>
                    <a:lnTo>
                      <a:pt x="1681" y="189"/>
                    </a:lnTo>
                    <a:lnTo>
                      <a:pt x="1688" y="175"/>
                    </a:lnTo>
                    <a:lnTo>
                      <a:pt x="1692" y="160"/>
                    </a:lnTo>
                    <a:lnTo>
                      <a:pt x="1698" y="145"/>
                    </a:lnTo>
                    <a:lnTo>
                      <a:pt x="1702" y="128"/>
                    </a:lnTo>
                    <a:lnTo>
                      <a:pt x="1705" y="112"/>
                    </a:lnTo>
                    <a:lnTo>
                      <a:pt x="1776" y="137"/>
                    </a:lnTo>
                    <a:lnTo>
                      <a:pt x="1740" y="238"/>
                    </a:lnTo>
                    <a:lnTo>
                      <a:pt x="1700" y="333"/>
                    </a:lnTo>
                    <a:lnTo>
                      <a:pt x="1652" y="419"/>
                    </a:lnTo>
                    <a:lnTo>
                      <a:pt x="1599" y="500"/>
                    </a:lnTo>
                    <a:lnTo>
                      <a:pt x="1536" y="571"/>
                    </a:lnTo>
                    <a:lnTo>
                      <a:pt x="1470" y="634"/>
                    </a:lnTo>
                    <a:lnTo>
                      <a:pt x="1399" y="685"/>
                    </a:lnTo>
                    <a:lnTo>
                      <a:pt x="1325" y="729"/>
                    </a:lnTo>
                    <a:lnTo>
                      <a:pt x="1243" y="759"/>
                    </a:lnTo>
                    <a:lnTo>
                      <a:pt x="1160" y="778"/>
                    </a:lnTo>
                    <a:lnTo>
                      <a:pt x="1072" y="784"/>
                    </a:lnTo>
                    <a:lnTo>
                      <a:pt x="983" y="778"/>
                    </a:lnTo>
                    <a:lnTo>
                      <a:pt x="890" y="755"/>
                    </a:lnTo>
                    <a:lnTo>
                      <a:pt x="798" y="719"/>
                    </a:lnTo>
                    <a:lnTo>
                      <a:pt x="705" y="668"/>
                    </a:lnTo>
                    <a:lnTo>
                      <a:pt x="612" y="601"/>
                    </a:lnTo>
                    <a:lnTo>
                      <a:pt x="608" y="596"/>
                    </a:lnTo>
                    <a:lnTo>
                      <a:pt x="603" y="588"/>
                    </a:lnTo>
                    <a:lnTo>
                      <a:pt x="593" y="575"/>
                    </a:lnTo>
                    <a:lnTo>
                      <a:pt x="582" y="559"/>
                    </a:lnTo>
                    <a:lnTo>
                      <a:pt x="566" y="538"/>
                    </a:lnTo>
                    <a:lnTo>
                      <a:pt x="551" y="518"/>
                    </a:lnTo>
                    <a:lnTo>
                      <a:pt x="532" y="495"/>
                    </a:lnTo>
                    <a:lnTo>
                      <a:pt x="515" y="472"/>
                    </a:lnTo>
                    <a:lnTo>
                      <a:pt x="494" y="445"/>
                    </a:lnTo>
                    <a:lnTo>
                      <a:pt x="477" y="422"/>
                    </a:lnTo>
                    <a:lnTo>
                      <a:pt x="458" y="398"/>
                    </a:lnTo>
                    <a:lnTo>
                      <a:pt x="443" y="375"/>
                    </a:lnTo>
                    <a:lnTo>
                      <a:pt x="426" y="352"/>
                    </a:lnTo>
                    <a:lnTo>
                      <a:pt x="414" y="333"/>
                    </a:lnTo>
                    <a:lnTo>
                      <a:pt x="403" y="316"/>
                    </a:lnTo>
                    <a:lnTo>
                      <a:pt x="397" y="306"/>
                    </a:lnTo>
                    <a:lnTo>
                      <a:pt x="359" y="312"/>
                    </a:lnTo>
                    <a:lnTo>
                      <a:pt x="329" y="320"/>
                    </a:lnTo>
                    <a:lnTo>
                      <a:pt x="297" y="324"/>
                    </a:lnTo>
                    <a:lnTo>
                      <a:pt x="268" y="327"/>
                    </a:lnTo>
                    <a:lnTo>
                      <a:pt x="239" y="327"/>
                    </a:lnTo>
                    <a:lnTo>
                      <a:pt x="215" y="327"/>
                    </a:lnTo>
                    <a:lnTo>
                      <a:pt x="190" y="324"/>
                    </a:lnTo>
                    <a:lnTo>
                      <a:pt x="167" y="320"/>
                    </a:lnTo>
                    <a:lnTo>
                      <a:pt x="144" y="310"/>
                    </a:lnTo>
                    <a:lnTo>
                      <a:pt x="122" y="299"/>
                    </a:lnTo>
                    <a:lnTo>
                      <a:pt x="101" y="284"/>
                    </a:lnTo>
                    <a:lnTo>
                      <a:pt x="80" y="268"/>
                    </a:lnTo>
                    <a:lnTo>
                      <a:pt x="59" y="246"/>
                    </a:lnTo>
                    <a:lnTo>
                      <a:pt x="40" y="223"/>
                    </a:lnTo>
                    <a:lnTo>
                      <a:pt x="19" y="194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Freeform 24"/>
              <p:cNvSpPr/>
              <p:nvPr/>
            </p:nvSpPr>
            <p:spPr>
              <a:xfrm flipH="1" rot="19783200">
                <a:off x="2298240" y="3971880"/>
                <a:ext cx="135360" cy="144000"/>
              </a:xfrm>
              <a:custGeom>
                <a:avLst/>
                <a:gdLst>
                  <a:gd name="textAreaLeft" fmla="*/ 360 w 135360"/>
                  <a:gd name="textAreaRight" fmla="*/ 136080 w 13536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88" h="943">
                    <a:moveTo>
                      <a:pt x="0" y="441"/>
                    </a:moveTo>
                    <a:lnTo>
                      <a:pt x="96" y="432"/>
                    </a:lnTo>
                    <a:lnTo>
                      <a:pt x="101" y="453"/>
                    </a:lnTo>
                    <a:lnTo>
                      <a:pt x="107" y="476"/>
                    </a:lnTo>
                    <a:lnTo>
                      <a:pt x="115" y="498"/>
                    </a:lnTo>
                    <a:lnTo>
                      <a:pt x="124" y="523"/>
                    </a:lnTo>
                    <a:lnTo>
                      <a:pt x="134" y="546"/>
                    </a:lnTo>
                    <a:lnTo>
                      <a:pt x="145" y="571"/>
                    </a:lnTo>
                    <a:lnTo>
                      <a:pt x="156" y="593"/>
                    </a:lnTo>
                    <a:lnTo>
                      <a:pt x="172" y="618"/>
                    </a:lnTo>
                    <a:lnTo>
                      <a:pt x="183" y="637"/>
                    </a:lnTo>
                    <a:lnTo>
                      <a:pt x="200" y="658"/>
                    </a:lnTo>
                    <a:lnTo>
                      <a:pt x="215" y="675"/>
                    </a:lnTo>
                    <a:lnTo>
                      <a:pt x="234" y="692"/>
                    </a:lnTo>
                    <a:lnTo>
                      <a:pt x="251" y="706"/>
                    </a:lnTo>
                    <a:lnTo>
                      <a:pt x="274" y="719"/>
                    </a:lnTo>
                    <a:lnTo>
                      <a:pt x="295" y="728"/>
                    </a:lnTo>
                    <a:lnTo>
                      <a:pt x="320" y="736"/>
                    </a:lnTo>
                    <a:lnTo>
                      <a:pt x="339" y="738"/>
                    </a:lnTo>
                    <a:lnTo>
                      <a:pt x="360" y="742"/>
                    </a:lnTo>
                    <a:lnTo>
                      <a:pt x="379" y="744"/>
                    </a:lnTo>
                    <a:lnTo>
                      <a:pt x="402" y="747"/>
                    </a:lnTo>
                    <a:lnTo>
                      <a:pt x="421" y="746"/>
                    </a:lnTo>
                    <a:lnTo>
                      <a:pt x="442" y="746"/>
                    </a:lnTo>
                    <a:lnTo>
                      <a:pt x="462" y="744"/>
                    </a:lnTo>
                    <a:lnTo>
                      <a:pt x="485" y="742"/>
                    </a:lnTo>
                    <a:lnTo>
                      <a:pt x="504" y="734"/>
                    </a:lnTo>
                    <a:lnTo>
                      <a:pt x="525" y="728"/>
                    </a:lnTo>
                    <a:lnTo>
                      <a:pt x="544" y="717"/>
                    </a:lnTo>
                    <a:lnTo>
                      <a:pt x="565" y="708"/>
                    </a:lnTo>
                    <a:lnTo>
                      <a:pt x="584" y="694"/>
                    </a:lnTo>
                    <a:lnTo>
                      <a:pt x="603" y="679"/>
                    </a:lnTo>
                    <a:lnTo>
                      <a:pt x="620" y="660"/>
                    </a:lnTo>
                    <a:lnTo>
                      <a:pt x="639" y="639"/>
                    </a:lnTo>
                    <a:lnTo>
                      <a:pt x="662" y="603"/>
                    </a:lnTo>
                    <a:lnTo>
                      <a:pt x="681" y="567"/>
                    </a:lnTo>
                    <a:lnTo>
                      <a:pt x="698" y="531"/>
                    </a:lnTo>
                    <a:lnTo>
                      <a:pt x="713" y="495"/>
                    </a:lnTo>
                    <a:lnTo>
                      <a:pt x="723" y="455"/>
                    </a:lnTo>
                    <a:lnTo>
                      <a:pt x="731" y="417"/>
                    </a:lnTo>
                    <a:lnTo>
                      <a:pt x="736" y="377"/>
                    </a:lnTo>
                    <a:lnTo>
                      <a:pt x="742" y="339"/>
                    </a:lnTo>
                    <a:lnTo>
                      <a:pt x="742" y="297"/>
                    </a:lnTo>
                    <a:lnTo>
                      <a:pt x="744" y="257"/>
                    </a:lnTo>
                    <a:lnTo>
                      <a:pt x="742" y="217"/>
                    </a:lnTo>
                    <a:lnTo>
                      <a:pt x="742" y="177"/>
                    </a:lnTo>
                    <a:lnTo>
                      <a:pt x="738" y="137"/>
                    </a:lnTo>
                    <a:lnTo>
                      <a:pt x="736" y="97"/>
                    </a:lnTo>
                    <a:lnTo>
                      <a:pt x="732" y="57"/>
                    </a:lnTo>
                    <a:lnTo>
                      <a:pt x="731" y="17"/>
                    </a:lnTo>
                    <a:lnTo>
                      <a:pt x="808" y="0"/>
                    </a:lnTo>
                    <a:lnTo>
                      <a:pt x="826" y="150"/>
                    </a:lnTo>
                    <a:lnTo>
                      <a:pt x="850" y="162"/>
                    </a:lnTo>
                    <a:lnTo>
                      <a:pt x="885" y="116"/>
                    </a:lnTo>
                    <a:lnTo>
                      <a:pt x="886" y="143"/>
                    </a:lnTo>
                    <a:lnTo>
                      <a:pt x="888" y="171"/>
                    </a:lnTo>
                    <a:lnTo>
                      <a:pt x="885" y="202"/>
                    </a:lnTo>
                    <a:lnTo>
                      <a:pt x="881" y="236"/>
                    </a:lnTo>
                    <a:lnTo>
                      <a:pt x="873" y="270"/>
                    </a:lnTo>
                    <a:lnTo>
                      <a:pt x="867" y="304"/>
                    </a:lnTo>
                    <a:lnTo>
                      <a:pt x="858" y="339"/>
                    </a:lnTo>
                    <a:lnTo>
                      <a:pt x="850" y="375"/>
                    </a:lnTo>
                    <a:lnTo>
                      <a:pt x="839" y="405"/>
                    </a:lnTo>
                    <a:lnTo>
                      <a:pt x="829" y="437"/>
                    </a:lnTo>
                    <a:lnTo>
                      <a:pt x="818" y="466"/>
                    </a:lnTo>
                    <a:lnTo>
                      <a:pt x="812" y="495"/>
                    </a:lnTo>
                    <a:lnTo>
                      <a:pt x="807" y="517"/>
                    </a:lnTo>
                    <a:lnTo>
                      <a:pt x="803" y="538"/>
                    </a:lnTo>
                    <a:lnTo>
                      <a:pt x="801" y="555"/>
                    </a:lnTo>
                    <a:lnTo>
                      <a:pt x="805" y="569"/>
                    </a:lnTo>
                    <a:lnTo>
                      <a:pt x="822" y="582"/>
                    </a:lnTo>
                    <a:lnTo>
                      <a:pt x="826" y="569"/>
                    </a:lnTo>
                    <a:lnTo>
                      <a:pt x="833" y="555"/>
                    </a:lnTo>
                    <a:lnTo>
                      <a:pt x="845" y="538"/>
                    </a:lnTo>
                    <a:lnTo>
                      <a:pt x="858" y="523"/>
                    </a:lnTo>
                    <a:lnTo>
                      <a:pt x="867" y="506"/>
                    </a:lnTo>
                    <a:lnTo>
                      <a:pt x="879" y="491"/>
                    </a:lnTo>
                    <a:lnTo>
                      <a:pt x="885" y="479"/>
                    </a:lnTo>
                    <a:lnTo>
                      <a:pt x="888" y="474"/>
                    </a:lnTo>
                    <a:lnTo>
                      <a:pt x="883" y="502"/>
                    </a:lnTo>
                    <a:lnTo>
                      <a:pt x="877" y="534"/>
                    </a:lnTo>
                    <a:lnTo>
                      <a:pt x="867" y="569"/>
                    </a:lnTo>
                    <a:lnTo>
                      <a:pt x="858" y="603"/>
                    </a:lnTo>
                    <a:lnTo>
                      <a:pt x="845" y="637"/>
                    </a:lnTo>
                    <a:lnTo>
                      <a:pt x="831" y="671"/>
                    </a:lnTo>
                    <a:lnTo>
                      <a:pt x="814" y="706"/>
                    </a:lnTo>
                    <a:lnTo>
                      <a:pt x="799" y="740"/>
                    </a:lnTo>
                    <a:lnTo>
                      <a:pt x="776" y="770"/>
                    </a:lnTo>
                    <a:lnTo>
                      <a:pt x="755" y="803"/>
                    </a:lnTo>
                    <a:lnTo>
                      <a:pt x="732" y="831"/>
                    </a:lnTo>
                    <a:lnTo>
                      <a:pt x="710" y="860"/>
                    </a:lnTo>
                    <a:lnTo>
                      <a:pt x="683" y="884"/>
                    </a:lnTo>
                    <a:lnTo>
                      <a:pt x="656" y="907"/>
                    </a:lnTo>
                    <a:lnTo>
                      <a:pt x="628" y="926"/>
                    </a:lnTo>
                    <a:lnTo>
                      <a:pt x="601" y="943"/>
                    </a:lnTo>
                    <a:lnTo>
                      <a:pt x="592" y="940"/>
                    </a:lnTo>
                    <a:lnTo>
                      <a:pt x="596" y="924"/>
                    </a:lnTo>
                    <a:lnTo>
                      <a:pt x="599" y="913"/>
                    </a:lnTo>
                    <a:lnTo>
                      <a:pt x="607" y="903"/>
                    </a:lnTo>
                    <a:lnTo>
                      <a:pt x="615" y="890"/>
                    </a:lnTo>
                    <a:lnTo>
                      <a:pt x="624" y="879"/>
                    </a:lnTo>
                    <a:lnTo>
                      <a:pt x="632" y="863"/>
                    </a:lnTo>
                    <a:lnTo>
                      <a:pt x="641" y="852"/>
                    </a:lnTo>
                    <a:lnTo>
                      <a:pt x="649" y="839"/>
                    </a:lnTo>
                    <a:lnTo>
                      <a:pt x="658" y="829"/>
                    </a:lnTo>
                    <a:lnTo>
                      <a:pt x="670" y="812"/>
                    </a:lnTo>
                    <a:lnTo>
                      <a:pt x="675" y="806"/>
                    </a:lnTo>
                    <a:lnTo>
                      <a:pt x="668" y="789"/>
                    </a:lnTo>
                    <a:lnTo>
                      <a:pt x="615" y="814"/>
                    </a:lnTo>
                    <a:lnTo>
                      <a:pt x="561" y="835"/>
                    </a:lnTo>
                    <a:lnTo>
                      <a:pt x="508" y="848"/>
                    </a:lnTo>
                    <a:lnTo>
                      <a:pt x="457" y="858"/>
                    </a:lnTo>
                    <a:lnTo>
                      <a:pt x="402" y="858"/>
                    </a:lnTo>
                    <a:lnTo>
                      <a:pt x="350" y="854"/>
                    </a:lnTo>
                    <a:lnTo>
                      <a:pt x="299" y="843"/>
                    </a:lnTo>
                    <a:lnTo>
                      <a:pt x="251" y="827"/>
                    </a:lnTo>
                    <a:lnTo>
                      <a:pt x="204" y="801"/>
                    </a:lnTo>
                    <a:lnTo>
                      <a:pt x="162" y="770"/>
                    </a:lnTo>
                    <a:lnTo>
                      <a:pt x="122" y="732"/>
                    </a:lnTo>
                    <a:lnTo>
                      <a:pt x="88" y="690"/>
                    </a:lnTo>
                    <a:lnTo>
                      <a:pt x="56" y="637"/>
                    </a:lnTo>
                    <a:lnTo>
                      <a:pt x="33" y="580"/>
                    </a:lnTo>
                    <a:lnTo>
                      <a:pt x="12" y="514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Freeform 25"/>
              <p:cNvSpPr/>
              <p:nvPr/>
            </p:nvSpPr>
            <p:spPr>
              <a:xfrm flipH="1" rot="19783200">
                <a:off x="2321640" y="3937320"/>
                <a:ext cx="43920" cy="4788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87" h="315">
                    <a:moveTo>
                      <a:pt x="55" y="83"/>
                    </a:moveTo>
                    <a:lnTo>
                      <a:pt x="185" y="0"/>
                    </a:lnTo>
                    <a:lnTo>
                      <a:pt x="287" y="9"/>
                    </a:lnTo>
                    <a:lnTo>
                      <a:pt x="151" y="116"/>
                    </a:lnTo>
                    <a:lnTo>
                      <a:pt x="21" y="315"/>
                    </a:lnTo>
                    <a:lnTo>
                      <a:pt x="12" y="298"/>
                    </a:lnTo>
                    <a:lnTo>
                      <a:pt x="8" y="281"/>
                    </a:lnTo>
                    <a:lnTo>
                      <a:pt x="2" y="266"/>
                    </a:lnTo>
                    <a:lnTo>
                      <a:pt x="2" y="253"/>
                    </a:lnTo>
                    <a:lnTo>
                      <a:pt x="0" y="239"/>
                    </a:lnTo>
                    <a:lnTo>
                      <a:pt x="0" y="226"/>
                    </a:lnTo>
                    <a:lnTo>
                      <a:pt x="2" y="213"/>
                    </a:lnTo>
                    <a:lnTo>
                      <a:pt x="6" y="201"/>
                    </a:lnTo>
                    <a:lnTo>
                      <a:pt x="8" y="188"/>
                    </a:lnTo>
                    <a:lnTo>
                      <a:pt x="14" y="175"/>
                    </a:lnTo>
                    <a:lnTo>
                      <a:pt x="19" y="161"/>
                    </a:lnTo>
                    <a:lnTo>
                      <a:pt x="25" y="148"/>
                    </a:lnTo>
                    <a:lnTo>
                      <a:pt x="31" y="133"/>
                    </a:lnTo>
                    <a:lnTo>
                      <a:pt x="38" y="118"/>
                    </a:lnTo>
                    <a:lnTo>
                      <a:pt x="46" y="100"/>
                    </a:lnTo>
                    <a:lnTo>
                      <a:pt x="55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Freeform 26"/>
              <p:cNvSpPr/>
              <p:nvPr/>
            </p:nvSpPr>
            <p:spPr>
              <a:xfrm flipH="1" rot="19783200">
                <a:off x="2295360" y="4110120"/>
                <a:ext cx="37800" cy="67320"/>
              </a:xfrm>
              <a:custGeom>
                <a:avLst/>
                <a:gdLst>
                  <a:gd name="textAreaLeft" fmla="*/ -360 w 37800"/>
                  <a:gd name="textAreaRight" fmla="*/ 37800 w 37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9" h="443">
                    <a:moveTo>
                      <a:pt x="201" y="0"/>
                    </a:moveTo>
                    <a:lnTo>
                      <a:pt x="247" y="3"/>
                    </a:lnTo>
                    <a:lnTo>
                      <a:pt x="247" y="49"/>
                    </a:lnTo>
                    <a:lnTo>
                      <a:pt x="249" y="91"/>
                    </a:lnTo>
                    <a:lnTo>
                      <a:pt x="247" y="127"/>
                    </a:lnTo>
                    <a:lnTo>
                      <a:pt x="245" y="161"/>
                    </a:lnTo>
                    <a:lnTo>
                      <a:pt x="239" y="190"/>
                    </a:lnTo>
                    <a:lnTo>
                      <a:pt x="235" y="216"/>
                    </a:lnTo>
                    <a:lnTo>
                      <a:pt x="226" y="241"/>
                    </a:lnTo>
                    <a:lnTo>
                      <a:pt x="216" y="266"/>
                    </a:lnTo>
                    <a:lnTo>
                      <a:pt x="201" y="285"/>
                    </a:lnTo>
                    <a:lnTo>
                      <a:pt x="184" y="306"/>
                    </a:lnTo>
                    <a:lnTo>
                      <a:pt x="165" y="327"/>
                    </a:lnTo>
                    <a:lnTo>
                      <a:pt x="142" y="348"/>
                    </a:lnTo>
                    <a:lnTo>
                      <a:pt x="114" y="369"/>
                    </a:lnTo>
                    <a:lnTo>
                      <a:pt x="85" y="391"/>
                    </a:lnTo>
                    <a:lnTo>
                      <a:pt x="49" y="414"/>
                    </a:lnTo>
                    <a:lnTo>
                      <a:pt x="11" y="443"/>
                    </a:lnTo>
                    <a:lnTo>
                      <a:pt x="2" y="431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11" y="367"/>
                    </a:lnTo>
                    <a:lnTo>
                      <a:pt x="21" y="336"/>
                    </a:lnTo>
                    <a:lnTo>
                      <a:pt x="36" y="304"/>
                    </a:lnTo>
                    <a:lnTo>
                      <a:pt x="53" y="270"/>
                    </a:lnTo>
                    <a:lnTo>
                      <a:pt x="74" y="235"/>
                    </a:lnTo>
                    <a:lnTo>
                      <a:pt x="91" y="197"/>
                    </a:lnTo>
                    <a:lnTo>
                      <a:pt x="112" y="163"/>
                    </a:lnTo>
                    <a:lnTo>
                      <a:pt x="131" y="127"/>
                    </a:lnTo>
                    <a:lnTo>
                      <a:pt x="152" y="95"/>
                    </a:lnTo>
                    <a:lnTo>
                      <a:pt x="167" y="64"/>
                    </a:lnTo>
                    <a:lnTo>
                      <a:pt x="182" y="38"/>
                    </a:lnTo>
                    <a:lnTo>
                      <a:pt x="192" y="1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 flipH="1" rot="19783200">
                <a:off x="2205720" y="4001400"/>
                <a:ext cx="60120" cy="124200"/>
              </a:xfrm>
              <a:custGeom>
                <a:avLst/>
                <a:gdLst>
                  <a:gd name="textAreaLeft" fmla="*/ -360 w 60120"/>
                  <a:gd name="textAreaRight" fmla="*/ 60120 w 6012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395" h="814">
                    <a:moveTo>
                      <a:pt x="0" y="8"/>
                    </a:moveTo>
                    <a:lnTo>
                      <a:pt x="25" y="2"/>
                    </a:lnTo>
                    <a:lnTo>
                      <a:pt x="49" y="0"/>
                    </a:lnTo>
                    <a:lnTo>
                      <a:pt x="72" y="0"/>
                    </a:lnTo>
                    <a:lnTo>
                      <a:pt x="95" y="4"/>
                    </a:lnTo>
                    <a:lnTo>
                      <a:pt x="116" y="8"/>
                    </a:lnTo>
                    <a:lnTo>
                      <a:pt x="139" y="15"/>
                    </a:lnTo>
                    <a:lnTo>
                      <a:pt x="160" y="21"/>
                    </a:lnTo>
                    <a:lnTo>
                      <a:pt x="181" y="32"/>
                    </a:lnTo>
                    <a:lnTo>
                      <a:pt x="198" y="42"/>
                    </a:lnTo>
                    <a:lnTo>
                      <a:pt x="217" y="55"/>
                    </a:lnTo>
                    <a:lnTo>
                      <a:pt x="234" y="69"/>
                    </a:lnTo>
                    <a:lnTo>
                      <a:pt x="253" y="86"/>
                    </a:lnTo>
                    <a:lnTo>
                      <a:pt x="268" y="101"/>
                    </a:lnTo>
                    <a:lnTo>
                      <a:pt x="283" y="120"/>
                    </a:lnTo>
                    <a:lnTo>
                      <a:pt x="297" y="139"/>
                    </a:lnTo>
                    <a:lnTo>
                      <a:pt x="312" y="162"/>
                    </a:lnTo>
                    <a:lnTo>
                      <a:pt x="348" y="166"/>
                    </a:lnTo>
                    <a:lnTo>
                      <a:pt x="359" y="209"/>
                    </a:lnTo>
                    <a:lnTo>
                      <a:pt x="375" y="259"/>
                    </a:lnTo>
                    <a:lnTo>
                      <a:pt x="384" y="308"/>
                    </a:lnTo>
                    <a:lnTo>
                      <a:pt x="394" y="363"/>
                    </a:lnTo>
                    <a:lnTo>
                      <a:pt x="395" y="415"/>
                    </a:lnTo>
                    <a:lnTo>
                      <a:pt x="395" y="468"/>
                    </a:lnTo>
                    <a:lnTo>
                      <a:pt x="392" y="519"/>
                    </a:lnTo>
                    <a:lnTo>
                      <a:pt x="386" y="573"/>
                    </a:lnTo>
                    <a:lnTo>
                      <a:pt x="369" y="618"/>
                    </a:lnTo>
                    <a:lnTo>
                      <a:pt x="354" y="664"/>
                    </a:lnTo>
                    <a:lnTo>
                      <a:pt x="329" y="702"/>
                    </a:lnTo>
                    <a:lnTo>
                      <a:pt x="300" y="738"/>
                    </a:lnTo>
                    <a:lnTo>
                      <a:pt x="262" y="767"/>
                    </a:lnTo>
                    <a:lnTo>
                      <a:pt x="221" y="789"/>
                    </a:lnTo>
                    <a:lnTo>
                      <a:pt x="171" y="805"/>
                    </a:lnTo>
                    <a:lnTo>
                      <a:pt x="116" y="814"/>
                    </a:lnTo>
                    <a:lnTo>
                      <a:pt x="46" y="806"/>
                    </a:lnTo>
                    <a:lnTo>
                      <a:pt x="46" y="793"/>
                    </a:lnTo>
                    <a:lnTo>
                      <a:pt x="46" y="780"/>
                    </a:lnTo>
                    <a:lnTo>
                      <a:pt x="46" y="767"/>
                    </a:lnTo>
                    <a:lnTo>
                      <a:pt x="47" y="753"/>
                    </a:lnTo>
                    <a:lnTo>
                      <a:pt x="49" y="738"/>
                    </a:lnTo>
                    <a:lnTo>
                      <a:pt x="53" y="723"/>
                    </a:lnTo>
                    <a:lnTo>
                      <a:pt x="55" y="708"/>
                    </a:lnTo>
                    <a:lnTo>
                      <a:pt x="61" y="694"/>
                    </a:lnTo>
                    <a:lnTo>
                      <a:pt x="63" y="677"/>
                    </a:lnTo>
                    <a:lnTo>
                      <a:pt x="67" y="664"/>
                    </a:lnTo>
                    <a:lnTo>
                      <a:pt x="72" y="649"/>
                    </a:lnTo>
                    <a:lnTo>
                      <a:pt x="78" y="637"/>
                    </a:lnTo>
                    <a:lnTo>
                      <a:pt x="84" y="624"/>
                    </a:lnTo>
                    <a:lnTo>
                      <a:pt x="89" y="613"/>
                    </a:lnTo>
                    <a:lnTo>
                      <a:pt x="97" y="601"/>
                    </a:lnTo>
                    <a:lnTo>
                      <a:pt x="105" y="593"/>
                    </a:lnTo>
                    <a:lnTo>
                      <a:pt x="150" y="611"/>
                    </a:lnTo>
                    <a:lnTo>
                      <a:pt x="150" y="622"/>
                    </a:lnTo>
                    <a:lnTo>
                      <a:pt x="154" y="633"/>
                    </a:lnTo>
                    <a:lnTo>
                      <a:pt x="156" y="645"/>
                    </a:lnTo>
                    <a:lnTo>
                      <a:pt x="160" y="656"/>
                    </a:lnTo>
                    <a:lnTo>
                      <a:pt x="162" y="666"/>
                    </a:lnTo>
                    <a:lnTo>
                      <a:pt x="165" y="675"/>
                    </a:lnTo>
                    <a:lnTo>
                      <a:pt x="167" y="683"/>
                    </a:lnTo>
                    <a:lnTo>
                      <a:pt x="171" y="692"/>
                    </a:lnTo>
                    <a:lnTo>
                      <a:pt x="177" y="700"/>
                    </a:lnTo>
                    <a:lnTo>
                      <a:pt x="182" y="704"/>
                    </a:lnTo>
                    <a:lnTo>
                      <a:pt x="188" y="702"/>
                    </a:lnTo>
                    <a:lnTo>
                      <a:pt x="196" y="694"/>
                    </a:lnTo>
                    <a:lnTo>
                      <a:pt x="221" y="590"/>
                    </a:lnTo>
                    <a:lnTo>
                      <a:pt x="226" y="590"/>
                    </a:lnTo>
                    <a:lnTo>
                      <a:pt x="234" y="597"/>
                    </a:lnTo>
                    <a:lnTo>
                      <a:pt x="240" y="607"/>
                    </a:lnTo>
                    <a:lnTo>
                      <a:pt x="247" y="618"/>
                    </a:lnTo>
                    <a:lnTo>
                      <a:pt x="251" y="628"/>
                    </a:lnTo>
                    <a:lnTo>
                      <a:pt x="257" y="639"/>
                    </a:lnTo>
                    <a:lnTo>
                      <a:pt x="262" y="645"/>
                    </a:lnTo>
                    <a:lnTo>
                      <a:pt x="274" y="649"/>
                    </a:lnTo>
                    <a:lnTo>
                      <a:pt x="281" y="624"/>
                    </a:lnTo>
                    <a:lnTo>
                      <a:pt x="289" y="601"/>
                    </a:lnTo>
                    <a:lnTo>
                      <a:pt x="295" y="578"/>
                    </a:lnTo>
                    <a:lnTo>
                      <a:pt x="302" y="555"/>
                    </a:lnTo>
                    <a:lnTo>
                      <a:pt x="306" y="531"/>
                    </a:lnTo>
                    <a:lnTo>
                      <a:pt x="310" y="508"/>
                    </a:lnTo>
                    <a:lnTo>
                      <a:pt x="312" y="485"/>
                    </a:lnTo>
                    <a:lnTo>
                      <a:pt x="316" y="462"/>
                    </a:lnTo>
                    <a:lnTo>
                      <a:pt x="316" y="438"/>
                    </a:lnTo>
                    <a:lnTo>
                      <a:pt x="316" y="415"/>
                    </a:lnTo>
                    <a:lnTo>
                      <a:pt x="314" y="390"/>
                    </a:lnTo>
                    <a:lnTo>
                      <a:pt x="314" y="367"/>
                    </a:lnTo>
                    <a:lnTo>
                      <a:pt x="310" y="342"/>
                    </a:lnTo>
                    <a:lnTo>
                      <a:pt x="308" y="320"/>
                    </a:lnTo>
                    <a:lnTo>
                      <a:pt x="304" y="297"/>
                    </a:lnTo>
                    <a:lnTo>
                      <a:pt x="302" y="274"/>
                    </a:lnTo>
                    <a:lnTo>
                      <a:pt x="262" y="242"/>
                    </a:lnTo>
                    <a:lnTo>
                      <a:pt x="262" y="379"/>
                    </a:lnTo>
                    <a:lnTo>
                      <a:pt x="186" y="257"/>
                    </a:lnTo>
                    <a:lnTo>
                      <a:pt x="190" y="274"/>
                    </a:lnTo>
                    <a:lnTo>
                      <a:pt x="194" y="295"/>
                    </a:lnTo>
                    <a:lnTo>
                      <a:pt x="194" y="306"/>
                    </a:lnTo>
                    <a:lnTo>
                      <a:pt x="194" y="318"/>
                    </a:lnTo>
                    <a:lnTo>
                      <a:pt x="194" y="329"/>
                    </a:lnTo>
                    <a:lnTo>
                      <a:pt x="196" y="341"/>
                    </a:lnTo>
                    <a:lnTo>
                      <a:pt x="194" y="350"/>
                    </a:lnTo>
                    <a:lnTo>
                      <a:pt x="192" y="361"/>
                    </a:lnTo>
                    <a:lnTo>
                      <a:pt x="190" y="373"/>
                    </a:lnTo>
                    <a:lnTo>
                      <a:pt x="190" y="384"/>
                    </a:lnTo>
                    <a:lnTo>
                      <a:pt x="186" y="394"/>
                    </a:lnTo>
                    <a:lnTo>
                      <a:pt x="186" y="405"/>
                    </a:lnTo>
                    <a:lnTo>
                      <a:pt x="182" y="417"/>
                    </a:lnTo>
                    <a:lnTo>
                      <a:pt x="182" y="428"/>
                    </a:lnTo>
                    <a:lnTo>
                      <a:pt x="91" y="287"/>
                    </a:lnTo>
                    <a:lnTo>
                      <a:pt x="87" y="268"/>
                    </a:lnTo>
                    <a:lnTo>
                      <a:pt x="86" y="251"/>
                    </a:lnTo>
                    <a:lnTo>
                      <a:pt x="84" y="232"/>
                    </a:lnTo>
                    <a:lnTo>
                      <a:pt x="82" y="215"/>
                    </a:lnTo>
                    <a:lnTo>
                      <a:pt x="76" y="196"/>
                    </a:lnTo>
                    <a:lnTo>
                      <a:pt x="70" y="179"/>
                    </a:lnTo>
                    <a:lnTo>
                      <a:pt x="65" y="162"/>
                    </a:lnTo>
                    <a:lnTo>
                      <a:pt x="61" y="145"/>
                    </a:lnTo>
                    <a:lnTo>
                      <a:pt x="53" y="126"/>
                    </a:lnTo>
                    <a:lnTo>
                      <a:pt x="46" y="107"/>
                    </a:lnTo>
                    <a:lnTo>
                      <a:pt x="38" y="90"/>
                    </a:lnTo>
                    <a:lnTo>
                      <a:pt x="32" y="72"/>
                    </a:lnTo>
                    <a:lnTo>
                      <a:pt x="23" y="55"/>
                    </a:lnTo>
                    <a:lnTo>
                      <a:pt x="15" y="38"/>
                    </a:lnTo>
                    <a:lnTo>
                      <a:pt x="8" y="2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 rot="19783200">
                <a:off x="2175840" y="3978360"/>
                <a:ext cx="33840" cy="115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0" h="76">
                    <a:moveTo>
                      <a:pt x="0" y="3"/>
                    </a:moveTo>
                    <a:lnTo>
                      <a:pt x="13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85" y="1"/>
                    </a:lnTo>
                    <a:lnTo>
                      <a:pt x="100" y="3"/>
                    </a:lnTo>
                    <a:lnTo>
                      <a:pt x="115" y="9"/>
                    </a:lnTo>
                    <a:lnTo>
                      <a:pt x="129" y="11"/>
                    </a:lnTo>
                    <a:lnTo>
                      <a:pt x="142" y="17"/>
                    </a:lnTo>
                    <a:lnTo>
                      <a:pt x="155" y="22"/>
                    </a:lnTo>
                    <a:lnTo>
                      <a:pt x="171" y="30"/>
                    </a:lnTo>
                    <a:lnTo>
                      <a:pt x="182" y="36"/>
                    </a:lnTo>
                    <a:lnTo>
                      <a:pt x="195" y="45"/>
                    </a:lnTo>
                    <a:lnTo>
                      <a:pt x="207" y="55"/>
                    </a:lnTo>
                    <a:lnTo>
                      <a:pt x="220" y="66"/>
                    </a:lnTo>
                    <a:lnTo>
                      <a:pt x="209" y="60"/>
                    </a:lnTo>
                    <a:lnTo>
                      <a:pt x="197" y="58"/>
                    </a:lnTo>
                    <a:lnTo>
                      <a:pt x="186" y="57"/>
                    </a:lnTo>
                    <a:lnTo>
                      <a:pt x="174" y="57"/>
                    </a:lnTo>
                    <a:lnTo>
                      <a:pt x="163" y="57"/>
                    </a:lnTo>
                    <a:lnTo>
                      <a:pt x="152" y="57"/>
                    </a:lnTo>
                    <a:lnTo>
                      <a:pt x="140" y="57"/>
                    </a:lnTo>
                    <a:lnTo>
                      <a:pt x="129" y="58"/>
                    </a:lnTo>
                    <a:lnTo>
                      <a:pt x="117" y="58"/>
                    </a:lnTo>
                    <a:lnTo>
                      <a:pt x="106" y="60"/>
                    </a:lnTo>
                    <a:lnTo>
                      <a:pt x="95" y="62"/>
                    </a:lnTo>
                    <a:lnTo>
                      <a:pt x="83" y="64"/>
                    </a:lnTo>
                    <a:lnTo>
                      <a:pt x="72" y="66"/>
                    </a:lnTo>
                    <a:lnTo>
                      <a:pt x="60" y="70"/>
                    </a:lnTo>
                    <a:lnTo>
                      <a:pt x="51" y="72"/>
                    </a:lnTo>
                    <a:lnTo>
                      <a:pt x="41" y="7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 flipH="1" rot="19783200">
                <a:off x="2176920" y="3998520"/>
                <a:ext cx="30240" cy="10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0" h="70">
                    <a:moveTo>
                      <a:pt x="0" y="0"/>
                    </a:moveTo>
                    <a:lnTo>
                      <a:pt x="200" y="4"/>
                    </a:lnTo>
                    <a:lnTo>
                      <a:pt x="200" y="19"/>
                    </a:lnTo>
                    <a:lnTo>
                      <a:pt x="194" y="32"/>
                    </a:lnTo>
                    <a:lnTo>
                      <a:pt x="185" y="42"/>
                    </a:lnTo>
                    <a:lnTo>
                      <a:pt x="175" y="53"/>
                    </a:lnTo>
                    <a:lnTo>
                      <a:pt x="158" y="59"/>
                    </a:lnTo>
                    <a:lnTo>
                      <a:pt x="143" y="64"/>
                    </a:lnTo>
                    <a:lnTo>
                      <a:pt x="128" y="68"/>
                    </a:lnTo>
                    <a:lnTo>
                      <a:pt x="11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 rot="19783200">
                <a:off x="2174400" y="4045680"/>
                <a:ext cx="42480" cy="691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80" h="452">
                    <a:moveTo>
                      <a:pt x="0" y="21"/>
                    </a:moveTo>
                    <a:lnTo>
                      <a:pt x="65" y="2"/>
                    </a:lnTo>
                    <a:lnTo>
                      <a:pt x="122" y="0"/>
                    </a:lnTo>
                    <a:lnTo>
                      <a:pt x="170" y="11"/>
                    </a:lnTo>
                    <a:lnTo>
                      <a:pt x="210" y="38"/>
                    </a:lnTo>
                    <a:lnTo>
                      <a:pt x="238" y="70"/>
                    </a:lnTo>
                    <a:lnTo>
                      <a:pt x="261" y="114"/>
                    </a:lnTo>
                    <a:lnTo>
                      <a:pt x="274" y="163"/>
                    </a:lnTo>
                    <a:lnTo>
                      <a:pt x="280" y="215"/>
                    </a:lnTo>
                    <a:lnTo>
                      <a:pt x="274" y="264"/>
                    </a:lnTo>
                    <a:lnTo>
                      <a:pt x="263" y="315"/>
                    </a:lnTo>
                    <a:lnTo>
                      <a:pt x="244" y="361"/>
                    </a:lnTo>
                    <a:lnTo>
                      <a:pt x="217" y="401"/>
                    </a:lnTo>
                    <a:lnTo>
                      <a:pt x="181" y="429"/>
                    </a:lnTo>
                    <a:lnTo>
                      <a:pt x="139" y="448"/>
                    </a:lnTo>
                    <a:lnTo>
                      <a:pt x="86" y="452"/>
                    </a:lnTo>
                    <a:lnTo>
                      <a:pt x="33" y="445"/>
                    </a:lnTo>
                    <a:lnTo>
                      <a:pt x="42" y="336"/>
                    </a:lnTo>
                    <a:lnTo>
                      <a:pt x="156" y="340"/>
                    </a:lnTo>
                    <a:lnTo>
                      <a:pt x="166" y="329"/>
                    </a:lnTo>
                    <a:lnTo>
                      <a:pt x="174" y="319"/>
                    </a:lnTo>
                    <a:lnTo>
                      <a:pt x="179" y="308"/>
                    </a:lnTo>
                    <a:lnTo>
                      <a:pt x="187" y="298"/>
                    </a:lnTo>
                    <a:lnTo>
                      <a:pt x="191" y="287"/>
                    </a:lnTo>
                    <a:lnTo>
                      <a:pt x="194" y="275"/>
                    </a:lnTo>
                    <a:lnTo>
                      <a:pt x="198" y="264"/>
                    </a:lnTo>
                    <a:lnTo>
                      <a:pt x="202" y="253"/>
                    </a:lnTo>
                    <a:lnTo>
                      <a:pt x="202" y="239"/>
                    </a:lnTo>
                    <a:lnTo>
                      <a:pt x="204" y="226"/>
                    </a:lnTo>
                    <a:lnTo>
                      <a:pt x="204" y="215"/>
                    </a:lnTo>
                    <a:lnTo>
                      <a:pt x="204" y="203"/>
                    </a:lnTo>
                    <a:lnTo>
                      <a:pt x="202" y="190"/>
                    </a:lnTo>
                    <a:lnTo>
                      <a:pt x="202" y="177"/>
                    </a:lnTo>
                    <a:lnTo>
                      <a:pt x="202" y="165"/>
                    </a:lnTo>
                    <a:lnTo>
                      <a:pt x="202" y="154"/>
                    </a:lnTo>
                    <a:lnTo>
                      <a:pt x="177" y="150"/>
                    </a:lnTo>
                    <a:lnTo>
                      <a:pt x="147" y="220"/>
                    </a:lnTo>
                    <a:lnTo>
                      <a:pt x="115" y="137"/>
                    </a:lnTo>
                    <a:lnTo>
                      <a:pt x="84" y="228"/>
                    </a:lnTo>
                    <a:lnTo>
                      <a:pt x="75" y="222"/>
                    </a:lnTo>
                    <a:lnTo>
                      <a:pt x="59" y="222"/>
                    </a:lnTo>
                    <a:lnTo>
                      <a:pt x="50" y="224"/>
                    </a:lnTo>
                    <a:lnTo>
                      <a:pt x="46" y="234"/>
                    </a:lnTo>
                    <a:lnTo>
                      <a:pt x="40" y="218"/>
                    </a:lnTo>
                    <a:lnTo>
                      <a:pt x="39" y="207"/>
                    </a:lnTo>
                    <a:lnTo>
                      <a:pt x="33" y="192"/>
                    </a:lnTo>
                    <a:lnTo>
                      <a:pt x="33" y="180"/>
                    </a:lnTo>
                    <a:lnTo>
                      <a:pt x="29" y="165"/>
                    </a:lnTo>
                    <a:lnTo>
                      <a:pt x="27" y="154"/>
                    </a:lnTo>
                    <a:lnTo>
                      <a:pt x="23" y="139"/>
                    </a:lnTo>
                    <a:lnTo>
                      <a:pt x="23" y="127"/>
                    </a:lnTo>
                    <a:lnTo>
                      <a:pt x="21" y="112"/>
                    </a:lnTo>
                    <a:lnTo>
                      <a:pt x="19" y="99"/>
                    </a:lnTo>
                    <a:lnTo>
                      <a:pt x="18" y="83"/>
                    </a:lnTo>
                    <a:lnTo>
                      <a:pt x="16" y="70"/>
                    </a:lnTo>
                    <a:lnTo>
                      <a:pt x="12" y="57"/>
                    </a:lnTo>
                    <a:lnTo>
                      <a:pt x="8" y="43"/>
                    </a:lnTo>
                    <a:lnTo>
                      <a:pt x="4" y="3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 flipH="1" rot="19783200">
                <a:off x="2527560" y="3807360"/>
                <a:ext cx="381240" cy="3456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501" h="229">
                    <a:moveTo>
                      <a:pt x="46" y="145"/>
                    </a:moveTo>
                    <a:lnTo>
                      <a:pt x="843" y="113"/>
                    </a:lnTo>
                    <a:lnTo>
                      <a:pt x="1729" y="57"/>
                    </a:lnTo>
                    <a:lnTo>
                      <a:pt x="1679" y="16"/>
                    </a:lnTo>
                    <a:lnTo>
                      <a:pt x="2044" y="0"/>
                    </a:lnTo>
                    <a:lnTo>
                      <a:pt x="1921" y="57"/>
                    </a:lnTo>
                    <a:lnTo>
                      <a:pt x="2098" y="137"/>
                    </a:lnTo>
                    <a:lnTo>
                      <a:pt x="2501" y="137"/>
                    </a:lnTo>
                    <a:lnTo>
                      <a:pt x="2023" y="194"/>
                    </a:lnTo>
                    <a:lnTo>
                      <a:pt x="1907" y="120"/>
                    </a:lnTo>
                    <a:lnTo>
                      <a:pt x="1778" y="187"/>
                    </a:lnTo>
                    <a:lnTo>
                      <a:pt x="1742" y="99"/>
                    </a:lnTo>
                    <a:lnTo>
                      <a:pt x="1613" y="183"/>
                    </a:lnTo>
                    <a:lnTo>
                      <a:pt x="1563" y="124"/>
                    </a:lnTo>
                    <a:lnTo>
                      <a:pt x="1438" y="166"/>
                    </a:lnTo>
                    <a:lnTo>
                      <a:pt x="1407" y="124"/>
                    </a:lnTo>
                    <a:lnTo>
                      <a:pt x="1291" y="183"/>
                    </a:lnTo>
                    <a:lnTo>
                      <a:pt x="1250" y="103"/>
                    </a:lnTo>
                    <a:lnTo>
                      <a:pt x="966" y="208"/>
                    </a:lnTo>
                    <a:lnTo>
                      <a:pt x="934" y="124"/>
                    </a:lnTo>
                    <a:lnTo>
                      <a:pt x="660" y="187"/>
                    </a:lnTo>
                    <a:lnTo>
                      <a:pt x="423" y="183"/>
                    </a:lnTo>
                    <a:lnTo>
                      <a:pt x="327" y="229"/>
                    </a:lnTo>
                    <a:lnTo>
                      <a:pt x="0" y="219"/>
                    </a:lnTo>
                    <a:lnTo>
                      <a:pt x="46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 rot="19783200">
                <a:off x="2812680" y="3805200"/>
                <a:ext cx="86040" cy="8928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5" h="586">
                    <a:moveTo>
                      <a:pt x="291" y="0"/>
                    </a:moveTo>
                    <a:lnTo>
                      <a:pt x="407" y="4"/>
                    </a:lnTo>
                    <a:lnTo>
                      <a:pt x="352" y="63"/>
                    </a:lnTo>
                    <a:lnTo>
                      <a:pt x="460" y="88"/>
                    </a:lnTo>
                    <a:lnTo>
                      <a:pt x="382" y="190"/>
                    </a:lnTo>
                    <a:lnTo>
                      <a:pt x="485" y="242"/>
                    </a:lnTo>
                    <a:lnTo>
                      <a:pt x="407" y="344"/>
                    </a:lnTo>
                    <a:lnTo>
                      <a:pt x="477" y="378"/>
                    </a:lnTo>
                    <a:lnTo>
                      <a:pt x="428" y="453"/>
                    </a:lnTo>
                    <a:lnTo>
                      <a:pt x="565" y="536"/>
                    </a:lnTo>
                    <a:lnTo>
                      <a:pt x="415" y="586"/>
                    </a:lnTo>
                    <a:lnTo>
                      <a:pt x="344" y="329"/>
                    </a:lnTo>
                    <a:lnTo>
                      <a:pt x="0" y="320"/>
                    </a:lnTo>
                    <a:lnTo>
                      <a:pt x="249" y="266"/>
                    </a:lnTo>
                    <a:lnTo>
                      <a:pt x="215" y="207"/>
                    </a:lnTo>
                    <a:lnTo>
                      <a:pt x="323" y="162"/>
                    </a:lnTo>
                    <a:lnTo>
                      <a:pt x="221" y="53"/>
                    </a:lnTo>
                    <a:lnTo>
                      <a:pt x="352" y="74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 flipH="1" rot="19783200">
                <a:off x="2915280" y="3828600"/>
                <a:ext cx="15840" cy="298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05" h="196">
                    <a:moveTo>
                      <a:pt x="91" y="0"/>
                    </a:moveTo>
                    <a:lnTo>
                      <a:pt x="105" y="196"/>
                    </a:lnTo>
                    <a:lnTo>
                      <a:pt x="0" y="183"/>
                    </a:lnTo>
                    <a:lnTo>
                      <a:pt x="91" y="92"/>
                    </a:lnTo>
                    <a:lnTo>
                      <a:pt x="34" y="1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 flipH="1" rot="19783200">
                <a:off x="2460600" y="3935520"/>
                <a:ext cx="40680" cy="529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8" h="348">
                    <a:moveTo>
                      <a:pt x="0" y="0"/>
                    </a:moveTo>
                    <a:lnTo>
                      <a:pt x="25" y="190"/>
                    </a:lnTo>
                    <a:lnTo>
                      <a:pt x="91" y="316"/>
                    </a:lnTo>
                    <a:lnTo>
                      <a:pt x="112" y="253"/>
                    </a:lnTo>
                    <a:lnTo>
                      <a:pt x="194" y="348"/>
                    </a:lnTo>
                    <a:lnTo>
                      <a:pt x="194" y="281"/>
                    </a:lnTo>
                    <a:lnTo>
                      <a:pt x="268" y="323"/>
                    </a:lnTo>
                    <a:lnTo>
                      <a:pt x="234" y="148"/>
                    </a:lnTo>
                    <a:lnTo>
                      <a:pt x="165" y="200"/>
                    </a:lnTo>
                    <a:lnTo>
                      <a:pt x="145" y="28"/>
                    </a:lnTo>
                    <a:lnTo>
                      <a:pt x="91" y="137"/>
                    </a:lnTo>
                    <a:lnTo>
                      <a:pt x="70" y="4"/>
                    </a:lnTo>
                    <a:lnTo>
                      <a:pt x="36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 rot="19783200">
                <a:off x="2345400" y="3973320"/>
                <a:ext cx="126000" cy="12960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25" h="846">
                    <a:moveTo>
                      <a:pt x="0" y="0"/>
                    </a:moveTo>
                    <a:lnTo>
                      <a:pt x="29" y="365"/>
                    </a:lnTo>
                    <a:lnTo>
                      <a:pt x="133" y="407"/>
                    </a:lnTo>
                    <a:lnTo>
                      <a:pt x="103" y="485"/>
                    </a:lnTo>
                    <a:lnTo>
                      <a:pt x="186" y="544"/>
                    </a:lnTo>
                    <a:lnTo>
                      <a:pt x="173" y="618"/>
                    </a:lnTo>
                    <a:lnTo>
                      <a:pt x="253" y="670"/>
                    </a:lnTo>
                    <a:lnTo>
                      <a:pt x="240" y="702"/>
                    </a:lnTo>
                    <a:lnTo>
                      <a:pt x="344" y="723"/>
                    </a:lnTo>
                    <a:lnTo>
                      <a:pt x="435" y="806"/>
                    </a:lnTo>
                    <a:lnTo>
                      <a:pt x="502" y="786"/>
                    </a:lnTo>
                    <a:lnTo>
                      <a:pt x="531" y="839"/>
                    </a:lnTo>
                    <a:lnTo>
                      <a:pt x="667" y="789"/>
                    </a:lnTo>
                    <a:lnTo>
                      <a:pt x="677" y="846"/>
                    </a:lnTo>
                    <a:lnTo>
                      <a:pt x="793" y="825"/>
                    </a:lnTo>
                    <a:lnTo>
                      <a:pt x="763" y="768"/>
                    </a:lnTo>
                    <a:lnTo>
                      <a:pt x="825" y="727"/>
                    </a:lnTo>
                    <a:lnTo>
                      <a:pt x="576" y="734"/>
                    </a:lnTo>
                    <a:lnTo>
                      <a:pt x="365" y="670"/>
                    </a:lnTo>
                    <a:lnTo>
                      <a:pt x="207" y="474"/>
                    </a:lnTo>
                    <a:lnTo>
                      <a:pt x="179" y="186"/>
                    </a:lnTo>
                    <a:lnTo>
                      <a:pt x="103" y="323"/>
                    </a:lnTo>
                    <a:lnTo>
                      <a:pt x="5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 flipH="1" rot="19783200">
                <a:off x="2244960" y="3907440"/>
                <a:ext cx="152640" cy="160200"/>
              </a:xfrm>
              <a:custGeom>
                <a:avLst/>
                <a:gdLst>
                  <a:gd name="textAreaLeft" fmla="*/ 360 w 152640"/>
                  <a:gd name="textAreaRight" fmla="*/ 153360 w 152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000" h="1048">
                    <a:moveTo>
                      <a:pt x="0" y="112"/>
                    </a:moveTo>
                    <a:lnTo>
                      <a:pt x="171" y="17"/>
                    </a:lnTo>
                    <a:lnTo>
                      <a:pt x="287" y="0"/>
                    </a:lnTo>
                    <a:lnTo>
                      <a:pt x="395" y="72"/>
                    </a:lnTo>
                    <a:lnTo>
                      <a:pt x="466" y="17"/>
                    </a:lnTo>
                    <a:lnTo>
                      <a:pt x="578" y="121"/>
                    </a:lnTo>
                    <a:lnTo>
                      <a:pt x="623" y="62"/>
                    </a:lnTo>
                    <a:lnTo>
                      <a:pt x="684" y="196"/>
                    </a:lnTo>
                    <a:lnTo>
                      <a:pt x="747" y="158"/>
                    </a:lnTo>
                    <a:lnTo>
                      <a:pt x="789" y="325"/>
                    </a:lnTo>
                    <a:lnTo>
                      <a:pt x="859" y="262"/>
                    </a:lnTo>
                    <a:lnTo>
                      <a:pt x="863" y="428"/>
                    </a:lnTo>
                    <a:lnTo>
                      <a:pt x="926" y="420"/>
                    </a:lnTo>
                    <a:lnTo>
                      <a:pt x="975" y="574"/>
                    </a:lnTo>
                    <a:lnTo>
                      <a:pt x="1000" y="764"/>
                    </a:lnTo>
                    <a:lnTo>
                      <a:pt x="1000" y="1048"/>
                    </a:lnTo>
                    <a:lnTo>
                      <a:pt x="975" y="869"/>
                    </a:lnTo>
                    <a:lnTo>
                      <a:pt x="905" y="1038"/>
                    </a:lnTo>
                    <a:lnTo>
                      <a:pt x="905" y="911"/>
                    </a:lnTo>
                    <a:lnTo>
                      <a:pt x="859" y="981"/>
                    </a:lnTo>
                    <a:lnTo>
                      <a:pt x="914" y="690"/>
                    </a:lnTo>
                    <a:lnTo>
                      <a:pt x="884" y="574"/>
                    </a:lnTo>
                    <a:lnTo>
                      <a:pt x="852" y="606"/>
                    </a:lnTo>
                    <a:lnTo>
                      <a:pt x="776" y="374"/>
                    </a:lnTo>
                    <a:lnTo>
                      <a:pt x="614" y="178"/>
                    </a:lnTo>
                    <a:lnTo>
                      <a:pt x="452" y="121"/>
                    </a:lnTo>
                    <a:lnTo>
                      <a:pt x="211" y="133"/>
                    </a:lnTo>
                    <a:lnTo>
                      <a:pt x="38" y="249"/>
                    </a:lnTo>
                    <a:lnTo>
                      <a:pt x="175" y="6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 flipH="1" rot="19783200">
                <a:off x="2228760" y="4059000"/>
                <a:ext cx="17640" cy="345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16" h="224">
                    <a:moveTo>
                      <a:pt x="116" y="0"/>
                    </a:moveTo>
                    <a:lnTo>
                      <a:pt x="91" y="200"/>
                    </a:lnTo>
                    <a:lnTo>
                      <a:pt x="65" y="158"/>
                    </a:lnTo>
                    <a:lnTo>
                      <a:pt x="4" y="224"/>
                    </a:lnTo>
                    <a:lnTo>
                      <a:pt x="0" y="66"/>
                    </a:lnTo>
                    <a:lnTo>
                      <a:pt x="50" y="101"/>
                    </a:lnTo>
                    <a:lnTo>
                      <a:pt x="53" y="13"/>
                    </a:lnTo>
                    <a:lnTo>
                      <a:pt x="82" y="4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 flipH="1" rot="19783200">
                <a:off x="2190960" y="4079160"/>
                <a:ext cx="15840" cy="140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04" h="95">
                    <a:moveTo>
                      <a:pt x="0" y="29"/>
                    </a:moveTo>
                    <a:lnTo>
                      <a:pt x="0" y="95"/>
                    </a:lnTo>
                    <a:lnTo>
                      <a:pt x="72" y="92"/>
                    </a:lnTo>
                    <a:lnTo>
                      <a:pt x="104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Group 41"/>
          <p:cNvGrpSpPr/>
          <p:nvPr/>
        </p:nvGrpSpPr>
        <p:grpSpPr>
          <a:xfrm>
            <a:off x="2121480" y="4159080"/>
            <a:ext cx="3570120" cy="645120"/>
            <a:chOff x="2121480" y="4159080"/>
            <a:chExt cx="3570120" cy="645120"/>
          </a:xfrm>
        </p:grpSpPr>
        <p:sp>
          <p:nvSpPr>
            <p:cNvPr id="193" name="Text Box 42"/>
            <p:cNvSpPr/>
            <p:nvPr/>
          </p:nvSpPr>
          <p:spPr>
            <a:xfrm>
              <a:off x="2956680" y="4159080"/>
              <a:ext cx="27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os cláusulas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43"/>
            <p:cNvGrpSpPr/>
            <p:nvPr/>
          </p:nvGrpSpPr>
          <p:grpSpPr>
            <a:xfrm>
              <a:off x="2121480" y="4250880"/>
              <a:ext cx="887400" cy="553320"/>
              <a:chOff x="2121480" y="4250880"/>
              <a:chExt cx="887400" cy="553320"/>
            </a:xfrm>
          </p:grpSpPr>
          <p:sp>
            <p:nvSpPr>
              <p:cNvPr id="195" name="Freeform 44"/>
              <p:cNvSpPr/>
              <p:nvPr/>
            </p:nvSpPr>
            <p:spPr>
              <a:xfrm flipH="1" rot="19783200">
                <a:off x="2278440" y="4600800"/>
                <a:ext cx="217800" cy="155880"/>
              </a:xfrm>
              <a:custGeom>
                <a:avLst/>
                <a:gdLst>
                  <a:gd name="textAreaLeft" fmla="*/ -360 w 217800"/>
                  <a:gd name="textAreaRight" fmla="*/ 217800 w 2178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426" h="1021">
                    <a:moveTo>
                      <a:pt x="0" y="74"/>
                    </a:moveTo>
                    <a:lnTo>
                      <a:pt x="331" y="63"/>
                    </a:lnTo>
                    <a:lnTo>
                      <a:pt x="381" y="432"/>
                    </a:lnTo>
                    <a:lnTo>
                      <a:pt x="609" y="614"/>
                    </a:lnTo>
                    <a:lnTo>
                      <a:pt x="875" y="614"/>
                    </a:lnTo>
                    <a:lnTo>
                      <a:pt x="1069" y="333"/>
                    </a:lnTo>
                    <a:lnTo>
                      <a:pt x="1114" y="0"/>
                    </a:lnTo>
                    <a:lnTo>
                      <a:pt x="1409" y="29"/>
                    </a:lnTo>
                    <a:lnTo>
                      <a:pt x="1426" y="327"/>
                    </a:lnTo>
                    <a:lnTo>
                      <a:pt x="1219" y="747"/>
                    </a:lnTo>
                    <a:lnTo>
                      <a:pt x="759" y="1021"/>
                    </a:lnTo>
                    <a:lnTo>
                      <a:pt x="306" y="863"/>
                    </a:lnTo>
                    <a:lnTo>
                      <a:pt x="44" y="49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45"/>
              <p:cNvSpPr/>
              <p:nvPr/>
            </p:nvSpPr>
            <p:spPr>
              <a:xfrm flipH="1" rot="19783200">
                <a:off x="2145600" y="4510440"/>
                <a:ext cx="304920" cy="178920"/>
              </a:xfrm>
              <a:custGeom>
                <a:avLst/>
                <a:gdLst>
                  <a:gd name="textAreaLeft" fmla="*/ -360 w 304920"/>
                  <a:gd name="textAreaRight" fmla="*/ 304920 w 3049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999" h="1172">
                    <a:moveTo>
                      <a:pt x="0" y="930"/>
                    </a:moveTo>
                    <a:lnTo>
                      <a:pt x="373" y="922"/>
                    </a:lnTo>
                    <a:lnTo>
                      <a:pt x="436" y="498"/>
                    </a:lnTo>
                    <a:lnTo>
                      <a:pt x="647" y="306"/>
                    </a:lnTo>
                    <a:lnTo>
                      <a:pt x="875" y="361"/>
                    </a:lnTo>
                    <a:lnTo>
                      <a:pt x="1078" y="527"/>
                    </a:lnTo>
                    <a:lnTo>
                      <a:pt x="1137" y="905"/>
                    </a:lnTo>
                    <a:lnTo>
                      <a:pt x="1464" y="898"/>
                    </a:lnTo>
                    <a:lnTo>
                      <a:pt x="1493" y="1172"/>
                    </a:lnTo>
                    <a:lnTo>
                      <a:pt x="1689" y="1080"/>
                    </a:lnTo>
                    <a:lnTo>
                      <a:pt x="1742" y="905"/>
                    </a:lnTo>
                    <a:lnTo>
                      <a:pt x="1890" y="913"/>
                    </a:lnTo>
                    <a:lnTo>
                      <a:pt x="1999" y="814"/>
                    </a:lnTo>
                    <a:lnTo>
                      <a:pt x="1919" y="603"/>
                    </a:lnTo>
                    <a:lnTo>
                      <a:pt x="1689" y="603"/>
                    </a:lnTo>
                    <a:lnTo>
                      <a:pt x="1510" y="445"/>
                    </a:lnTo>
                    <a:lnTo>
                      <a:pt x="1299" y="348"/>
                    </a:lnTo>
                    <a:lnTo>
                      <a:pt x="1040" y="91"/>
                    </a:lnTo>
                    <a:lnTo>
                      <a:pt x="639" y="0"/>
                    </a:lnTo>
                    <a:lnTo>
                      <a:pt x="268" y="91"/>
                    </a:lnTo>
                    <a:lnTo>
                      <a:pt x="90" y="428"/>
                    </a:lnTo>
                    <a:lnTo>
                      <a:pt x="0" y="831"/>
                    </a:lnTo>
                    <a:lnTo>
                      <a:pt x="0" y="9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46"/>
              <p:cNvSpPr/>
              <p:nvPr/>
            </p:nvSpPr>
            <p:spPr>
              <a:xfrm flipH="1" rot="19783200">
                <a:off x="2774520" y="4444200"/>
                <a:ext cx="34560" cy="9756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28" h="639">
                    <a:moveTo>
                      <a:pt x="0" y="59"/>
                    </a:moveTo>
                    <a:lnTo>
                      <a:pt x="46" y="639"/>
                    </a:lnTo>
                    <a:lnTo>
                      <a:pt x="228" y="428"/>
                    </a:lnTo>
                    <a:lnTo>
                      <a:pt x="165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47"/>
              <p:cNvSpPr/>
              <p:nvPr/>
            </p:nvSpPr>
            <p:spPr>
              <a:xfrm flipH="1" rot="19783200">
                <a:off x="2435400" y="4373280"/>
                <a:ext cx="541080" cy="222480"/>
              </a:xfrm>
              <a:custGeom>
                <a:avLst/>
                <a:gdLst>
                  <a:gd name="textAreaLeft" fmla="*/ -360 w 541080"/>
                  <a:gd name="textAreaRight" fmla="*/ 541080 w 54108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546" h="1458">
                    <a:moveTo>
                      <a:pt x="0" y="595"/>
                    </a:moveTo>
                    <a:lnTo>
                      <a:pt x="257" y="722"/>
                    </a:lnTo>
                    <a:lnTo>
                      <a:pt x="278" y="1424"/>
                    </a:lnTo>
                    <a:lnTo>
                      <a:pt x="552" y="1458"/>
                    </a:lnTo>
                    <a:lnTo>
                      <a:pt x="618" y="1200"/>
                    </a:lnTo>
                    <a:lnTo>
                      <a:pt x="839" y="1192"/>
                    </a:lnTo>
                    <a:lnTo>
                      <a:pt x="922" y="1449"/>
                    </a:lnTo>
                    <a:lnTo>
                      <a:pt x="1207" y="1441"/>
                    </a:lnTo>
                    <a:lnTo>
                      <a:pt x="1217" y="722"/>
                    </a:lnTo>
                    <a:lnTo>
                      <a:pt x="3092" y="574"/>
                    </a:lnTo>
                    <a:lnTo>
                      <a:pt x="3337" y="789"/>
                    </a:lnTo>
                    <a:lnTo>
                      <a:pt x="3546" y="785"/>
                    </a:lnTo>
                    <a:lnTo>
                      <a:pt x="3464" y="216"/>
                    </a:lnTo>
                    <a:lnTo>
                      <a:pt x="3432" y="0"/>
                    </a:lnTo>
                    <a:lnTo>
                      <a:pt x="3215" y="59"/>
                    </a:lnTo>
                    <a:lnTo>
                      <a:pt x="3088" y="291"/>
                    </a:lnTo>
                    <a:lnTo>
                      <a:pt x="2232" y="279"/>
                    </a:lnTo>
                    <a:lnTo>
                      <a:pt x="1055" y="346"/>
                    </a:lnTo>
                    <a:lnTo>
                      <a:pt x="187" y="378"/>
                    </a:lnTo>
                    <a:lnTo>
                      <a:pt x="17" y="445"/>
                    </a:lnTo>
                    <a:lnTo>
                      <a:pt x="0" y="595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48"/>
              <p:cNvSpPr/>
              <p:nvPr/>
            </p:nvSpPr>
            <p:spPr>
              <a:xfrm flipH="1" rot="19783200">
                <a:off x="2201040" y="4435920"/>
                <a:ext cx="423000" cy="200880"/>
              </a:xfrm>
              <a:custGeom>
                <a:avLst/>
                <a:gdLst>
                  <a:gd name="textAreaLeft" fmla="*/ -360 w 423000"/>
                  <a:gd name="textAreaRight" fmla="*/ 423000 w 42300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2770" h="1314">
                    <a:moveTo>
                      <a:pt x="7" y="848"/>
                    </a:moveTo>
                    <a:lnTo>
                      <a:pt x="59" y="840"/>
                    </a:lnTo>
                    <a:lnTo>
                      <a:pt x="112" y="835"/>
                    </a:lnTo>
                    <a:lnTo>
                      <a:pt x="165" y="831"/>
                    </a:lnTo>
                    <a:lnTo>
                      <a:pt x="219" y="827"/>
                    </a:lnTo>
                    <a:lnTo>
                      <a:pt x="272" y="821"/>
                    </a:lnTo>
                    <a:lnTo>
                      <a:pt x="325" y="819"/>
                    </a:lnTo>
                    <a:lnTo>
                      <a:pt x="378" y="816"/>
                    </a:lnTo>
                    <a:lnTo>
                      <a:pt x="431" y="816"/>
                    </a:lnTo>
                    <a:lnTo>
                      <a:pt x="483" y="812"/>
                    </a:lnTo>
                    <a:lnTo>
                      <a:pt x="536" y="810"/>
                    </a:lnTo>
                    <a:lnTo>
                      <a:pt x="589" y="806"/>
                    </a:lnTo>
                    <a:lnTo>
                      <a:pt x="643" y="806"/>
                    </a:lnTo>
                    <a:lnTo>
                      <a:pt x="696" y="804"/>
                    </a:lnTo>
                    <a:lnTo>
                      <a:pt x="749" y="804"/>
                    </a:lnTo>
                    <a:lnTo>
                      <a:pt x="802" y="802"/>
                    </a:lnTo>
                    <a:lnTo>
                      <a:pt x="857" y="802"/>
                    </a:lnTo>
                    <a:lnTo>
                      <a:pt x="865" y="768"/>
                    </a:lnTo>
                    <a:lnTo>
                      <a:pt x="876" y="738"/>
                    </a:lnTo>
                    <a:lnTo>
                      <a:pt x="890" y="707"/>
                    </a:lnTo>
                    <a:lnTo>
                      <a:pt x="907" y="679"/>
                    </a:lnTo>
                    <a:lnTo>
                      <a:pt x="924" y="650"/>
                    </a:lnTo>
                    <a:lnTo>
                      <a:pt x="947" y="624"/>
                    </a:lnTo>
                    <a:lnTo>
                      <a:pt x="970" y="601"/>
                    </a:lnTo>
                    <a:lnTo>
                      <a:pt x="998" y="580"/>
                    </a:lnTo>
                    <a:lnTo>
                      <a:pt x="1023" y="561"/>
                    </a:lnTo>
                    <a:lnTo>
                      <a:pt x="1053" y="546"/>
                    </a:lnTo>
                    <a:lnTo>
                      <a:pt x="1082" y="532"/>
                    </a:lnTo>
                    <a:lnTo>
                      <a:pt x="1114" y="527"/>
                    </a:lnTo>
                    <a:lnTo>
                      <a:pt x="1144" y="521"/>
                    </a:lnTo>
                    <a:lnTo>
                      <a:pt x="1179" y="523"/>
                    </a:lnTo>
                    <a:lnTo>
                      <a:pt x="1211" y="528"/>
                    </a:lnTo>
                    <a:lnTo>
                      <a:pt x="1247" y="542"/>
                    </a:lnTo>
                    <a:lnTo>
                      <a:pt x="1255" y="544"/>
                    </a:lnTo>
                    <a:lnTo>
                      <a:pt x="1259" y="538"/>
                    </a:lnTo>
                    <a:lnTo>
                      <a:pt x="1274" y="525"/>
                    </a:lnTo>
                    <a:lnTo>
                      <a:pt x="1346" y="346"/>
                    </a:lnTo>
                    <a:lnTo>
                      <a:pt x="1445" y="207"/>
                    </a:lnTo>
                    <a:lnTo>
                      <a:pt x="1563" y="104"/>
                    </a:lnTo>
                    <a:lnTo>
                      <a:pt x="1698" y="40"/>
                    </a:lnTo>
                    <a:lnTo>
                      <a:pt x="1838" y="4"/>
                    </a:lnTo>
                    <a:lnTo>
                      <a:pt x="1987" y="0"/>
                    </a:lnTo>
                    <a:lnTo>
                      <a:pt x="2135" y="26"/>
                    </a:lnTo>
                    <a:lnTo>
                      <a:pt x="2280" y="82"/>
                    </a:lnTo>
                    <a:lnTo>
                      <a:pt x="2411" y="159"/>
                    </a:lnTo>
                    <a:lnTo>
                      <a:pt x="2530" y="264"/>
                    </a:lnTo>
                    <a:lnTo>
                      <a:pt x="2631" y="390"/>
                    </a:lnTo>
                    <a:lnTo>
                      <a:pt x="2709" y="540"/>
                    </a:lnTo>
                    <a:lnTo>
                      <a:pt x="2757" y="705"/>
                    </a:lnTo>
                    <a:lnTo>
                      <a:pt x="2770" y="892"/>
                    </a:lnTo>
                    <a:lnTo>
                      <a:pt x="2747" y="1093"/>
                    </a:lnTo>
                    <a:lnTo>
                      <a:pt x="2683" y="1310"/>
                    </a:lnTo>
                    <a:lnTo>
                      <a:pt x="2624" y="1264"/>
                    </a:lnTo>
                    <a:lnTo>
                      <a:pt x="2631" y="1219"/>
                    </a:lnTo>
                    <a:lnTo>
                      <a:pt x="2639" y="1173"/>
                    </a:lnTo>
                    <a:lnTo>
                      <a:pt x="2643" y="1126"/>
                    </a:lnTo>
                    <a:lnTo>
                      <a:pt x="2648" y="1080"/>
                    </a:lnTo>
                    <a:lnTo>
                      <a:pt x="2648" y="1030"/>
                    </a:lnTo>
                    <a:lnTo>
                      <a:pt x="2648" y="985"/>
                    </a:lnTo>
                    <a:lnTo>
                      <a:pt x="2646" y="935"/>
                    </a:lnTo>
                    <a:lnTo>
                      <a:pt x="2645" y="890"/>
                    </a:lnTo>
                    <a:lnTo>
                      <a:pt x="2637" y="840"/>
                    </a:lnTo>
                    <a:lnTo>
                      <a:pt x="2629" y="793"/>
                    </a:lnTo>
                    <a:lnTo>
                      <a:pt x="2618" y="747"/>
                    </a:lnTo>
                    <a:lnTo>
                      <a:pt x="2608" y="701"/>
                    </a:lnTo>
                    <a:lnTo>
                      <a:pt x="2591" y="656"/>
                    </a:lnTo>
                    <a:lnTo>
                      <a:pt x="2576" y="614"/>
                    </a:lnTo>
                    <a:lnTo>
                      <a:pt x="2557" y="574"/>
                    </a:lnTo>
                    <a:lnTo>
                      <a:pt x="2538" y="536"/>
                    </a:lnTo>
                    <a:lnTo>
                      <a:pt x="2487" y="557"/>
                    </a:lnTo>
                    <a:lnTo>
                      <a:pt x="2491" y="536"/>
                    </a:lnTo>
                    <a:lnTo>
                      <a:pt x="2494" y="517"/>
                    </a:lnTo>
                    <a:lnTo>
                      <a:pt x="2496" y="496"/>
                    </a:lnTo>
                    <a:lnTo>
                      <a:pt x="2500" y="477"/>
                    </a:lnTo>
                    <a:lnTo>
                      <a:pt x="2500" y="466"/>
                    </a:lnTo>
                    <a:lnTo>
                      <a:pt x="2502" y="456"/>
                    </a:lnTo>
                    <a:lnTo>
                      <a:pt x="2502" y="445"/>
                    </a:lnTo>
                    <a:lnTo>
                      <a:pt x="2504" y="435"/>
                    </a:lnTo>
                    <a:lnTo>
                      <a:pt x="2504" y="414"/>
                    </a:lnTo>
                    <a:lnTo>
                      <a:pt x="2504" y="395"/>
                    </a:lnTo>
                    <a:lnTo>
                      <a:pt x="2496" y="384"/>
                    </a:lnTo>
                    <a:lnTo>
                      <a:pt x="2489" y="376"/>
                    </a:lnTo>
                    <a:lnTo>
                      <a:pt x="2481" y="371"/>
                    </a:lnTo>
                    <a:lnTo>
                      <a:pt x="2475" y="371"/>
                    </a:lnTo>
                    <a:lnTo>
                      <a:pt x="2460" y="371"/>
                    </a:lnTo>
                    <a:lnTo>
                      <a:pt x="2449" y="380"/>
                    </a:lnTo>
                    <a:lnTo>
                      <a:pt x="2435" y="390"/>
                    </a:lnTo>
                    <a:lnTo>
                      <a:pt x="2422" y="405"/>
                    </a:lnTo>
                    <a:lnTo>
                      <a:pt x="2411" y="420"/>
                    </a:lnTo>
                    <a:lnTo>
                      <a:pt x="2401" y="437"/>
                    </a:lnTo>
                    <a:lnTo>
                      <a:pt x="2401" y="308"/>
                    </a:lnTo>
                    <a:lnTo>
                      <a:pt x="2388" y="298"/>
                    </a:lnTo>
                    <a:lnTo>
                      <a:pt x="2376" y="291"/>
                    </a:lnTo>
                    <a:lnTo>
                      <a:pt x="2369" y="285"/>
                    </a:lnTo>
                    <a:lnTo>
                      <a:pt x="2363" y="279"/>
                    </a:lnTo>
                    <a:lnTo>
                      <a:pt x="2352" y="272"/>
                    </a:lnTo>
                    <a:lnTo>
                      <a:pt x="2346" y="270"/>
                    </a:lnTo>
                    <a:lnTo>
                      <a:pt x="2337" y="274"/>
                    </a:lnTo>
                    <a:lnTo>
                      <a:pt x="2329" y="285"/>
                    </a:lnTo>
                    <a:lnTo>
                      <a:pt x="2321" y="293"/>
                    </a:lnTo>
                    <a:lnTo>
                      <a:pt x="2316" y="306"/>
                    </a:lnTo>
                    <a:lnTo>
                      <a:pt x="2306" y="319"/>
                    </a:lnTo>
                    <a:lnTo>
                      <a:pt x="2297" y="338"/>
                    </a:lnTo>
                    <a:lnTo>
                      <a:pt x="2259" y="213"/>
                    </a:lnTo>
                    <a:lnTo>
                      <a:pt x="2241" y="211"/>
                    </a:lnTo>
                    <a:lnTo>
                      <a:pt x="2230" y="205"/>
                    </a:lnTo>
                    <a:lnTo>
                      <a:pt x="2221" y="198"/>
                    </a:lnTo>
                    <a:lnTo>
                      <a:pt x="2213" y="194"/>
                    </a:lnTo>
                    <a:lnTo>
                      <a:pt x="2203" y="190"/>
                    </a:lnTo>
                    <a:lnTo>
                      <a:pt x="2194" y="196"/>
                    </a:lnTo>
                    <a:lnTo>
                      <a:pt x="2186" y="201"/>
                    </a:lnTo>
                    <a:lnTo>
                      <a:pt x="2179" y="211"/>
                    </a:lnTo>
                    <a:lnTo>
                      <a:pt x="2169" y="220"/>
                    </a:lnTo>
                    <a:lnTo>
                      <a:pt x="2160" y="237"/>
                    </a:lnTo>
                    <a:lnTo>
                      <a:pt x="2131" y="171"/>
                    </a:lnTo>
                    <a:lnTo>
                      <a:pt x="2118" y="169"/>
                    </a:lnTo>
                    <a:lnTo>
                      <a:pt x="2105" y="167"/>
                    </a:lnTo>
                    <a:lnTo>
                      <a:pt x="2089" y="163"/>
                    </a:lnTo>
                    <a:lnTo>
                      <a:pt x="2074" y="161"/>
                    </a:lnTo>
                    <a:lnTo>
                      <a:pt x="2059" y="154"/>
                    </a:lnTo>
                    <a:lnTo>
                      <a:pt x="2046" y="148"/>
                    </a:lnTo>
                    <a:lnTo>
                      <a:pt x="2034" y="139"/>
                    </a:lnTo>
                    <a:lnTo>
                      <a:pt x="2027" y="129"/>
                    </a:lnTo>
                    <a:lnTo>
                      <a:pt x="2021" y="133"/>
                    </a:lnTo>
                    <a:lnTo>
                      <a:pt x="2015" y="142"/>
                    </a:lnTo>
                    <a:lnTo>
                      <a:pt x="2008" y="156"/>
                    </a:lnTo>
                    <a:lnTo>
                      <a:pt x="2000" y="171"/>
                    </a:lnTo>
                    <a:lnTo>
                      <a:pt x="1991" y="184"/>
                    </a:lnTo>
                    <a:lnTo>
                      <a:pt x="1983" y="198"/>
                    </a:lnTo>
                    <a:lnTo>
                      <a:pt x="1977" y="205"/>
                    </a:lnTo>
                    <a:lnTo>
                      <a:pt x="1977" y="209"/>
                    </a:lnTo>
                    <a:lnTo>
                      <a:pt x="1914" y="135"/>
                    </a:lnTo>
                    <a:lnTo>
                      <a:pt x="1878" y="133"/>
                    </a:lnTo>
                    <a:lnTo>
                      <a:pt x="1844" y="137"/>
                    </a:lnTo>
                    <a:lnTo>
                      <a:pt x="1808" y="140"/>
                    </a:lnTo>
                    <a:lnTo>
                      <a:pt x="1772" y="150"/>
                    </a:lnTo>
                    <a:lnTo>
                      <a:pt x="1734" y="159"/>
                    </a:lnTo>
                    <a:lnTo>
                      <a:pt x="1696" y="173"/>
                    </a:lnTo>
                    <a:lnTo>
                      <a:pt x="1658" y="188"/>
                    </a:lnTo>
                    <a:lnTo>
                      <a:pt x="1624" y="207"/>
                    </a:lnTo>
                    <a:lnTo>
                      <a:pt x="1587" y="224"/>
                    </a:lnTo>
                    <a:lnTo>
                      <a:pt x="1553" y="247"/>
                    </a:lnTo>
                    <a:lnTo>
                      <a:pt x="1523" y="270"/>
                    </a:lnTo>
                    <a:lnTo>
                      <a:pt x="1496" y="298"/>
                    </a:lnTo>
                    <a:lnTo>
                      <a:pt x="1470" y="325"/>
                    </a:lnTo>
                    <a:lnTo>
                      <a:pt x="1449" y="355"/>
                    </a:lnTo>
                    <a:lnTo>
                      <a:pt x="1432" y="386"/>
                    </a:lnTo>
                    <a:lnTo>
                      <a:pt x="1420" y="420"/>
                    </a:lnTo>
                    <a:lnTo>
                      <a:pt x="1451" y="433"/>
                    </a:lnTo>
                    <a:lnTo>
                      <a:pt x="1452" y="422"/>
                    </a:lnTo>
                    <a:lnTo>
                      <a:pt x="1456" y="411"/>
                    </a:lnTo>
                    <a:lnTo>
                      <a:pt x="1460" y="401"/>
                    </a:lnTo>
                    <a:lnTo>
                      <a:pt x="1466" y="393"/>
                    </a:lnTo>
                    <a:lnTo>
                      <a:pt x="1477" y="376"/>
                    </a:lnTo>
                    <a:lnTo>
                      <a:pt x="1492" y="361"/>
                    </a:lnTo>
                    <a:lnTo>
                      <a:pt x="1506" y="346"/>
                    </a:lnTo>
                    <a:lnTo>
                      <a:pt x="1523" y="333"/>
                    </a:lnTo>
                    <a:lnTo>
                      <a:pt x="1540" y="319"/>
                    </a:lnTo>
                    <a:lnTo>
                      <a:pt x="1557" y="308"/>
                    </a:lnTo>
                    <a:lnTo>
                      <a:pt x="1529" y="433"/>
                    </a:lnTo>
                    <a:lnTo>
                      <a:pt x="1536" y="422"/>
                    </a:lnTo>
                    <a:lnTo>
                      <a:pt x="1548" y="411"/>
                    </a:lnTo>
                    <a:lnTo>
                      <a:pt x="1555" y="399"/>
                    </a:lnTo>
                    <a:lnTo>
                      <a:pt x="1567" y="390"/>
                    </a:lnTo>
                    <a:lnTo>
                      <a:pt x="1576" y="378"/>
                    </a:lnTo>
                    <a:lnTo>
                      <a:pt x="1586" y="371"/>
                    </a:lnTo>
                    <a:lnTo>
                      <a:pt x="1597" y="361"/>
                    </a:lnTo>
                    <a:lnTo>
                      <a:pt x="1608" y="353"/>
                    </a:lnTo>
                    <a:lnTo>
                      <a:pt x="1620" y="344"/>
                    </a:lnTo>
                    <a:lnTo>
                      <a:pt x="1631" y="336"/>
                    </a:lnTo>
                    <a:lnTo>
                      <a:pt x="1643" y="329"/>
                    </a:lnTo>
                    <a:lnTo>
                      <a:pt x="1654" y="323"/>
                    </a:lnTo>
                    <a:lnTo>
                      <a:pt x="1665" y="315"/>
                    </a:lnTo>
                    <a:lnTo>
                      <a:pt x="1679" y="310"/>
                    </a:lnTo>
                    <a:lnTo>
                      <a:pt x="1692" y="306"/>
                    </a:lnTo>
                    <a:lnTo>
                      <a:pt x="1707" y="304"/>
                    </a:lnTo>
                    <a:lnTo>
                      <a:pt x="1692" y="315"/>
                    </a:lnTo>
                    <a:lnTo>
                      <a:pt x="1681" y="329"/>
                    </a:lnTo>
                    <a:lnTo>
                      <a:pt x="1669" y="342"/>
                    </a:lnTo>
                    <a:lnTo>
                      <a:pt x="1658" y="357"/>
                    </a:lnTo>
                    <a:lnTo>
                      <a:pt x="1646" y="369"/>
                    </a:lnTo>
                    <a:lnTo>
                      <a:pt x="1639" y="384"/>
                    </a:lnTo>
                    <a:lnTo>
                      <a:pt x="1629" y="399"/>
                    </a:lnTo>
                    <a:lnTo>
                      <a:pt x="1622" y="416"/>
                    </a:lnTo>
                    <a:lnTo>
                      <a:pt x="1612" y="431"/>
                    </a:lnTo>
                    <a:lnTo>
                      <a:pt x="1605" y="447"/>
                    </a:lnTo>
                    <a:lnTo>
                      <a:pt x="1597" y="464"/>
                    </a:lnTo>
                    <a:lnTo>
                      <a:pt x="1591" y="481"/>
                    </a:lnTo>
                    <a:lnTo>
                      <a:pt x="1582" y="498"/>
                    </a:lnTo>
                    <a:lnTo>
                      <a:pt x="1574" y="517"/>
                    </a:lnTo>
                    <a:lnTo>
                      <a:pt x="1567" y="536"/>
                    </a:lnTo>
                    <a:lnTo>
                      <a:pt x="1561" y="557"/>
                    </a:lnTo>
                    <a:lnTo>
                      <a:pt x="1563" y="566"/>
                    </a:lnTo>
                    <a:lnTo>
                      <a:pt x="1568" y="576"/>
                    </a:lnTo>
                    <a:lnTo>
                      <a:pt x="1574" y="585"/>
                    </a:lnTo>
                    <a:lnTo>
                      <a:pt x="1582" y="591"/>
                    </a:lnTo>
                    <a:lnTo>
                      <a:pt x="1631" y="513"/>
                    </a:lnTo>
                    <a:lnTo>
                      <a:pt x="1686" y="450"/>
                    </a:lnTo>
                    <a:lnTo>
                      <a:pt x="1741" y="399"/>
                    </a:lnTo>
                    <a:lnTo>
                      <a:pt x="1800" y="363"/>
                    </a:lnTo>
                    <a:lnTo>
                      <a:pt x="1859" y="334"/>
                    </a:lnTo>
                    <a:lnTo>
                      <a:pt x="1918" y="319"/>
                    </a:lnTo>
                    <a:lnTo>
                      <a:pt x="1977" y="315"/>
                    </a:lnTo>
                    <a:lnTo>
                      <a:pt x="2038" y="323"/>
                    </a:lnTo>
                    <a:lnTo>
                      <a:pt x="2093" y="338"/>
                    </a:lnTo>
                    <a:lnTo>
                      <a:pt x="2148" y="365"/>
                    </a:lnTo>
                    <a:lnTo>
                      <a:pt x="2198" y="401"/>
                    </a:lnTo>
                    <a:lnTo>
                      <a:pt x="2249" y="447"/>
                    </a:lnTo>
                    <a:lnTo>
                      <a:pt x="2291" y="498"/>
                    </a:lnTo>
                    <a:lnTo>
                      <a:pt x="2331" y="561"/>
                    </a:lnTo>
                    <a:lnTo>
                      <a:pt x="2365" y="629"/>
                    </a:lnTo>
                    <a:lnTo>
                      <a:pt x="2395" y="707"/>
                    </a:lnTo>
                    <a:lnTo>
                      <a:pt x="2318" y="732"/>
                    </a:lnTo>
                    <a:lnTo>
                      <a:pt x="2302" y="665"/>
                    </a:lnTo>
                    <a:lnTo>
                      <a:pt x="2278" y="604"/>
                    </a:lnTo>
                    <a:lnTo>
                      <a:pt x="2238" y="549"/>
                    </a:lnTo>
                    <a:lnTo>
                      <a:pt x="2192" y="500"/>
                    </a:lnTo>
                    <a:lnTo>
                      <a:pt x="2137" y="458"/>
                    </a:lnTo>
                    <a:lnTo>
                      <a:pt x="2078" y="430"/>
                    </a:lnTo>
                    <a:lnTo>
                      <a:pt x="2015" y="412"/>
                    </a:lnTo>
                    <a:lnTo>
                      <a:pt x="1952" y="411"/>
                    </a:lnTo>
                    <a:lnTo>
                      <a:pt x="1890" y="422"/>
                    </a:lnTo>
                    <a:lnTo>
                      <a:pt x="1833" y="454"/>
                    </a:lnTo>
                    <a:lnTo>
                      <a:pt x="1781" y="508"/>
                    </a:lnTo>
                    <a:lnTo>
                      <a:pt x="1738" y="584"/>
                    </a:lnTo>
                    <a:lnTo>
                      <a:pt x="1703" y="681"/>
                    </a:lnTo>
                    <a:lnTo>
                      <a:pt x="1683" y="808"/>
                    </a:lnTo>
                    <a:lnTo>
                      <a:pt x="1675" y="962"/>
                    </a:lnTo>
                    <a:lnTo>
                      <a:pt x="1686" y="1147"/>
                    </a:lnTo>
                    <a:lnTo>
                      <a:pt x="1591" y="1164"/>
                    </a:lnTo>
                    <a:lnTo>
                      <a:pt x="1574" y="932"/>
                    </a:lnTo>
                    <a:lnTo>
                      <a:pt x="1546" y="928"/>
                    </a:lnTo>
                    <a:lnTo>
                      <a:pt x="1532" y="945"/>
                    </a:lnTo>
                    <a:lnTo>
                      <a:pt x="1523" y="962"/>
                    </a:lnTo>
                    <a:lnTo>
                      <a:pt x="1513" y="981"/>
                    </a:lnTo>
                    <a:lnTo>
                      <a:pt x="1506" y="1002"/>
                    </a:lnTo>
                    <a:lnTo>
                      <a:pt x="1496" y="1021"/>
                    </a:lnTo>
                    <a:lnTo>
                      <a:pt x="1489" y="1040"/>
                    </a:lnTo>
                    <a:lnTo>
                      <a:pt x="1479" y="1059"/>
                    </a:lnTo>
                    <a:lnTo>
                      <a:pt x="1470" y="1080"/>
                    </a:lnTo>
                    <a:lnTo>
                      <a:pt x="1462" y="1057"/>
                    </a:lnTo>
                    <a:lnTo>
                      <a:pt x="1458" y="1034"/>
                    </a:lnTo>
                    <a:lnTo>
                      <a:pt x="1452" y="1008"/>
                    </a:lnTo>
                    <a:lnTo>
                      <a:pt x="1452" y="983"/>
                    </a:lnTo>
                    <a:lnTo>
                      <a:pt x="1451" y="956"/>
                    </a:lnTo>
                    <a:lnTo>
                      <a:pt x="1451" y="930"/>
                    </a:lnTo>
                    <a:lnTo>
                      <a:pt x="1452" y="901"/>
                    </a:lnTo>
                    <a:lnTo>
                      <a:pt x="1456" y="876"/>
                    </a:lnTo>
                    <a:lnTo>
                      <a:pt x="1456" y="848"/>
                    </a:lnTo>
                    <a:lnTo>
                      <a:pt x="1460" y="825"/>
                    </a:lnTo>
                    <a:lnTo>
                      <a:pt x="1462" y="802"/>
                    </a:lnTo>
                    <a:lnTo>
                      <a:pt x="1466" y="783"/>
                    </a:lnTo>
                    <a:lnTo>
                      <a:pt x="1475" y="736"/>
                    </a:lnTo>
                    <a:lnTo>
                      <a:pt x="1416" y="840"/>
                    </a:lnTo>
                    <a:lnTo>
                      <a:pt x="1375" y="703"/>
                    </a:lnTo>
                    <a:lnTo>
                      <a:pt x="1403" y="553"/>
                    </a:lnTo>
                    <a:lnTo>
                      <a:pt x="1375" y="553"/>
                    </a:lnTo>
                    <a:lnTo>
                      <a:pt x="1361" y="587"/>
                    </a:lnTo>
                    <a:lnTo>
                      <a:pt x="1352" y="622"/>
                    </a:lnTo>
                    <a:lnTo>
                      <a:pt x="1344" y="658"/>
                    </a:lnTo>
                    <a:lnTo>
                      <a:pt x="1338" y="698"/>
                    </a:lnTo>
                    <a:lnTo>
                      <a:pt x="1333" y="736"/>
                    </a:lnTo>
                    <a:lnTo>
                      <a:pt x="1329" y="774"/>
                    </a:lnTo>
                    <a:lnTo>
                      <a:pt x="1327" y="814"/>
                    </a:lnTo>
                    <a:lnTo>
                      <a:pt x="1327" y="854"/>
                    </a:lnTo>
                    <a:lnTo>
                      <a:pt x="1325" y="892"/>
                    </a:lnTo>
                    <a:lnTo>
                      <a:pt x="1325" y="932"/>
                    </a:lnTo>
                    <a:lnTo>
                      <a:pt x="1327" y="972"/>
                    </a:lnTo>
                    <a:lnTo>
                      <a:pt x="1329" y="1011"/>
                    </a:lnTo>
                    <a:lnTo>
                      <a:pt x="1331" y="1048"/>
                    </a:lnTo>
                    <a:lnTo>
                      <a:pt x="1335" y="1086"/>
                    </a:lnTo>
                    <a:lnTo>
                      <a:pt x="1336" y="1122"/>
                    </a:lnTo>
                    <a:lnTo>
                      <a:pt x="1342" y="1160"/>
                    </a:lnTo>
                    <a:lnTo>
                      <a:pt x="1255" y="1164"/>
                    </a:lnTo>
                    <a:lnTo>
                      <a:pt x="1249" y="1150"/>
                    </a:lnTo>
                    <a:lnTo>
                      <a:pt x="1247" y="1139"/>
                    </a:lnTo>
                    <a:lnTo>
                      <a:pt x="1245" y="1127"/>
                    </a:lnTo>
                    <a:lnTo>
                      <a:pt x="1245" y="1116"/>
                    </a:lnTo>
                    <a:lnTo>
                      <a:pt x="1240" y="1105"/>
                    </a:lnTo>
                    <a:lnTo>
                      <a:pt x="1238" y="1095"/>
                    </a:lnTo>
                    <a:lnTo>
                      <a:pt x="1238" y="1084"/>
                    </a:lnTo>
                    <a:lnTo>
                      <a:pt x="1238" y="1074"/>
                    </a:lnTo>
                    <a:lnTo>
                      <a:pt x="1238" y="1053"/>
                    </a:lnTo>
                    <a:lnTo>
                      <a:pt x="1238" y="1034"/>
                    </a:lnTo>
                    <a:lnTo>
                      <a:pt x="1238" y="1015"/>
                    </a:lnTo>
                    <a:lnTo>
                      <a:pt x="1238" y="998"/>
                    </a:lnTo>
                    <a:lnTo>
                      <a:pt x="1201" y="989"/>
                    </a:lnTo>
                    <a:lnTo>
                      <a:pt x="1169" y="1069"/>
                    </a:lnTo>
                    <a:lnTo>
                      <a:pt x="1160" y="1050"/>
                    </a:lnTo>
                    <a:lnTo>
                      <a:pt x="1154" y="1032"/>
                    </a:lnTo>
                    <a:lnTo>
                      <a:pt x="1152" y="1011"/>
                    </a:lnTo>
                    <a:lnTo>
                      <a:pt x="1152" y="992"/>
                    </a:lnTo>
                    <a:lnTo>
                      <a:pt x="1152" y="970"/>
                    </a:lnTo>
                    <a:lnTo>
                      <a:pt x="1156" y="949"/>
                    </a:lnTo>
                    <a:lnTo>
                      <a:pt x="1158" y="928"/>
                    </a:lnTo>
                    <a:lnTo>
                      <a:pt x="1163" y="911"/>
                    </a:lnTo>
                    <a:lnTo>
                      <a:pt x="1167" y="890"/>
                    </a:lnTo>
                    <a:lnTo>
                      <a:pt x="1171" y="873"/>
                    </a:lnTo>
                    <a:lnTo>
                      <a:pt x="1173" y="857"/>
                    </a:lnTo>
                    <a:lnTo>
                      <a:pt x="1175" y="846"/>
                    </a:lnTo>
                    <a:lnTo>
                      <a:pt x="1175" y="833"/>
                    </a:lnTo>
                    <a:lnTo>
                      <a:pt x="1175" y="827"/>
                    </a:lnTo>
                    <a:lnTo>
                      <a:pt x="1173" y="821"/>
                    </a:lnTo>
                    <a:lnTo>
                      <a:pt x="1169" y="823"/>
                    </a:lnTo>
                    <a:lnTo>
                      <a:pt x="1150" y="838"/>
                    </a:lnTo>
                    <a:lnTo>
                      <a:pt x="1139" y="856"/>
                    </a:lnTo>
                    <a:lnTo>
                      <a:pt x="1133" y="865"/>
                    </a:lnTo>
                    <a:lnTo>
                      <a:pt x="1127" y="876"/>
                    </a:lnTo>
                    <a:lnTo>
                      <a:pt x="1122" y="888"/>
                    </a:lnTo>
                    <a:lnTo>
                      <a:pt x="1118" y="899"/>
                    </a:lnTo>
                    <a:lnTo>
                      <a:pt x="1112" y="909"/>
                    </a:lnTo>
                    <a:lnTo>
                      <a:pt x="1108" y="920"/>
                    </a:lnTo>
                    <a:lnTo>
                      <a:pt x="1103" y="932"/>
                    </a:lnTo>
                    <a:lnTo>
                      <a:pt x="1099" y="943"/>
                    </a:lnTo>
                    <a:lnTo>
                      <a:pt x="1078" y="981"/>
                    </a:lnTo>
                    <a:lnTo>
                      <a:pt x="1080" y="934"/>
                    </a:lnTo>
                    <a:lnTo>
                      <a:pt x="1080" y="914"/>
                    </a:lnTo>
                    <a:lnTo>
                      <a:pt x="1080" y="897"/>
                    </a:lnTo>
                    <a:lnTo>
                      <a:pt x="1078" y="876"/>
                    </a:lnTo>
                    <a:lnTo>
                      <a:pt x="1076" y="856"/>
                    </a:lnTo>
                    <a:lnTo>
                      <a:pt x="1076" y="835"/>
                    </a:lnTo>
                    <a:lnTo>
                      <a:pt x="1076" y="817"/>
                    </a:lnTo>
                    <a:lnTo>
                      <a:pt x="1074" y="798"/>
                    </a:lnTo>
                    <a:lnTo>
                      <a:pt x="1074" y="783"/>
                    </a:lnTo>
                    <a:lnTo>
                      <a:pt x="1074" y="770"/>
                    </a:lnTo>
                    <a:lnTo>
                      <a:pt x="1074" y="760"/>
                    </a:lnTo>
                    <a:lnTo>
                      <a:pt x="1066" y="779"/>
                    </a:lnTo>
                    <a:lnTo>
                      <a:pt x="1059" y="800"/>
                    </a:lnTo>
                    <a:lnTo>
                      <a:pt x="1055" y="810"/>
                    </a:lnTo>
                    <a:lnTo>
                      <a:pt x="1051" y="821"/>
                    </a:lnTo>
                    <a:lnTo>
                      <a:pt x="1047" y="831"/>
                    </a:lnTo>
                    <a:lnTo>
                      <a:pt x="1044" y="842"/>
                    </a:lnTo>
                    <a:lnTo>
                      <a:pt x="1032" y="861"/>
                    </a:lnTo>
                    <a:lnTo>
                      <a:pt x="1023" y="880"/>
                    </a:lnTo>
                    <a:lnTo>
                      <a:pt x="1011" y="897"/>
                    </a:lnTo>
                    <a:lnTo>
                      <a:pt x="998" y="914"/>
                    </a:lnTo>
                    <a:lnTo>
                      <a:pt x="998" y="905"/>
                    </a:lnTo>
                    <a:lnTo>
                      <a:pt x="998" y="897"/>
                    </a:lnTo>
                    <a:lnTo>
                      <a:pt x="998" y="886"/>
                    </a:lnTo>
                    <a:lnTo>
                      <a:pt x="1000" y="875"/>
                    </a:lnTo>
                    <a:lnTo>
                      <a:pt x="1000" y="859"/>
                    </a:lnTo>
                    <a:lnTo>
                      <a:pt x="1002" y="848"/>
                    </a:lnTo>
                    <a:lnTo>
                      <a:pt x="1002" y="833"/>
                    </a:lnTo>
                    <a:lnTo>
                      <a:pt x="1004" y="821"/>
                    </a:lnTo>
                    <a:lnTo>
                      <a:pt x="1002" y="808"/>
                    </a:lnTo>
                    <a:lnTo>
                      <a:pt x="1002" y="795"/>
                    </a:lnTo>
                    <a:lnTo>
                      <a:pt x="998" y="783"/>
                    </a:lnTo>
                    <a:lnTo>
                      <a:pt x="996" y="776"/>
                    </a:lnTo>
                    <a:lnTo>
                      <a:pt x="987" y="762"/>
                    </a:lnTo>
                    <a:lnTo>
                      <a:pt x="973" y="760"/>
                    </a:lnTo>
                    <a:lnTo>
                      <a:pt x="966" y="787"/>
                    </a:lnTo>
                    <a:lnTo>
                      <a:pt x="960" y="817"/>
                    </a:lnTo>
                    <a:lnTo>
                      <a:pt x="954" y="848"/>
                    </a:lnTo>
                    <a:lnTo>
                      <a:pt x="952" y="880"/>
                    </a:lnTo>
                    <a:lnTo>
                      <a:pt x="949" y="913"/>
                    </a:lnTo>
                    <a:lnTo>
                      <a:pt x="949" y="947"/>
                    </a:lnTo>
                    <a:lnTo>
                      <a:pt x="949" y="979"/>
                    </a:lnTo>
                    <a:lnTo>
                      <a:pt x="952" y="1013"/>
                    </a:lnTo>
                    <a:lnTo>
                      <a:pt x="954" y="1044"/>
                    </a:lnTo>
                    <a:lnTo>
                      <a:pt x="960" y="1076"/>
                    </a:lnTo>
                    <a:lnTo>
                      <a:pt x="968" y="1107"/>
                    </a:lnTo>
                    <a:lnTo>
                      <a:pt x="981" y="1139"/>
                    </a:lnTo>
                    <a:lnTo>
                      <a:pt x="992" y="1167"/>
                    </a:lnTo>
                    <a:lnTo>
                      <a:pt x="1009" y="1196"/>
                    </a:lnTo>
                    <a:lnTo>
                      <a:pt x="1027" y="1223"/>
                    </a:lnTo>
                    <a:lnTo>
                      <a:pt x="1049" y="1247"/>
                    </a:lnTo>
                    <a:lnTo>
                      <a:pt x="937" y="1314"/>
                    </a:lnTo>
                    <a:lnTo>
                      <a:pt x="895" y="1255"/>
                    </a:lnTo>
                    <a:lnTo>
                      <a:pt x="165" y="1289"/>
                    </a:lnTo>
                    <a:lnTo>
                      <a:pt x="160" y="1192"/>
                    </a:lnTo>
                    <a:lnTo>
                      <a:pt x="198" y="1188"/>
                    </a:lnTo>
                    <a:lnTo>
                      <a:pt x="238" y="1186"/>
                    </a:lnTo>
                    <a:lnTo>
                      <a:pt x="277" y="1185"/>
                    </a:lnTo>
                    <a:lnTo>
                      <a:pt x="319" y="1185"/>
                    </a:lnTo>
                    <a:lnTo>
                      <a:pt x="359" y="1183"/>
                    </a:lnTo>
                    <a:lnTo>
                      <a:pt x="399" y="1183"/>
                    </a:lnTo>
                    <a:lnTo>
                      <a:pt x="441" y="1181"/>
                    </a:lnTo>
                    <a:lnTo>
                      <a:pt x="483" y="1181"/>
                    </a:lnTo>
                    <a:lnTo>
                      <a:pt x="523" y="1177"/>
                    </a:lnTo>
                    <a:lnTo>
                      <a:pt x="563" y="1175"/>
                    </a:lnTo>
                    <a:lnTo>
                      <a:pt x="603" y="1171"/>
                    </a:lnTo>
                    <a:lnTo>
                      <a:pt x="644" y="1167"/>
                    </a:lnTo>
                    <a:lnTo>
                      <a:pt x="682" y="1160"/>
                    </a:lnTo>
                    <a:lnTo>
                      <a:pt x="722" y="1154"/>
                    </a:lnTo>
                    <a:lnTo>
                      <a:pt x="760" y="1145"/>
                    </a:lnTo>
                    <a:lnTo>
                      <a:pt x="800" y="1135"/>
                    </a:lnTo>
                    <a:lnTo>
                      <a:pt x="800" y="1086"/>
                    </a:lnTo>
                    <a:lnTo>
                      <a:pt x="762" y="1086"/>
                    </a:lnTo>
                    <a:lnTo>
                      <a:pt x="722" y="1088"/>
                    </a:lnTo>
                    <a:lnTo>
                      <a:pt x="677" y="1088"/>
                    </a:lnTo>
                    <a:lnTo>
                      <a:pt x="629" y="1089"/>
                    </a:lnTo>
                    <a:lnTo>
                      <a:pt x="578" y="1089"/>
                    </a:lnTo>
                    <a:lnTo>
                      <a:pt x="528" y="1089"/>
                    </a:lnTo>
                    <a:lnTo>
                      <a:pt x="475" y="1089"/>
                    </a:lnTo>
                    <a:lnTo>
                      <a:pt x="424" y="1089"/>
                    </a:lnTo>
                    <a:lnTo>
                      <a:pt x="371" y="1086"/>
                    </a:lnTo>
                    <a:lnTo>
                      <a:pt x="319" y="1082"/>
                    </a:lnTo>
                    <a:lnTo>
                      <a:pt x="268" y="1076"/>
                    </a:lnTo>
                    <a:lnTo>
                      <a:pt x="222" y="1072"/>
                    </a:lnTo>
                    <a:lnTo>
                      <a:pt x="175" y="1065"/>
                    </a:lnTo>
                    <a:lnTo>
                      <a:pt x="135" y="1055"/>
                    </a:lnTo>
                    <a:lnTo>
                      <a:pt x="99" y="1044"/>
                    </a:lnTo>
                    <a:lnTo>
                      <a:pt x="68" y="1034"/>
                    </a:lnTo>
                    <a:lnTo>
                      <a:pt x="99" y="1029"/>
                    </a:lnTo>
                    <a:lnTo>
                      <a:pt x="129" y="1025"/>
                    </a:lnTo>
                    <a:lnTo>
                      <a:pt x="160" y="1021"/>
                    </a:lnTo>
                    <a:lnTo>
                      <a:pt x="192" y="1017"/>
                    </a:lnTo>
                    <a:lnTo>
                      <a:pt x="222" y="1011"/>
                    </a:lnTo>
                    <a:lnTo>
                      <a:pt x="253" y="1008"/>
                    </a:lnTo>
                    <a:lnTo>
                      <a:pt x="283" y="1004"/>
                    </a:lnTo>
                    <a:lnTo>
                      <a:pt x="315" y="1002"/>
                    </a:lnTo>
                    <a:lnTo>
                      <a:pt x="344" y="996"/>
                    </a:lnTo>
                    <a:lnTo>
                      <a:pt x="376" y="992"/>
                    </a:lnTo>
                    <a:lnTo>
                      <a:pt x="405" y="989"/>
                    </a:lnTo>
                    <a:lnTo>
                      <a:pt x="437" y="987"/>
                    </a:lnTo>
                    <a:lnTo>
                      <a:pt x="468" y="983"/>
                    </a:lnTo>
                    <a:lnTo>
                      <a:pt x="500" y="981"/>
                    </a:lnTo>
                    <a:lnTo>
                      <a:pt x="530" y="977"/>
                    </a:lnTo>
                    <a:lnTo>
                      <a:pt x="563" y="977"/>
                    </a:lnTo>
                    <a:lnTo>
                      <a:pt x="566" y="935"/>
                    </a:lnTo>
                    <a:lnTo>
                      <a:pt x="2" y="943"/>
                    </a:lnTo>
                    <a:lnTo>
                      <a:pt x="0" y="930"/>
                    </a:lnTo>
                    <a:lnTo>
                      <a:pt x="0" y="918"/>
                    </a:lnTo>
                    <a:lnTo>
                      <a:pt x="0" y="907"/>
                    </a:lnTo>
                    <a:lnTo>
                      <a:pt x="0" y="895"/>
                    </a:lnTo>
                    <a:lnTo>
                      <a:pt x="0" y="882"/>
                    </a:lnTo>
                    <a:lnTo>
                      <a:pt x="2" y="869"/>
                    </a:lnTo>
                    <a:lnTo>
                      <a:pt x="4" y="857"/>
                    </a:lnTo>
                    <a:lnTo>
                      <a:pt x="7" y="8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49"/>
              <p:cNvSpPr/>
              <p:nvPr/>
            </p:nvSpPr>
            <p:spPr>
              <a:xfrm flipH="1" rot="19783200">
                <a:off x="2622600" y="4355640"/>
                <a:ext cx="363600" cy="186480"/>
              </a:xfrm>
              <a:custGeom>
                <a:avLst/>
                <a:gdLst>
                  <a:gd name="textAreaLeft" fmla="*/ 360 w 363600"/>
                  <a:gd name="textAreaRight" fmla="*/ 364320 w 36360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384" h="1223">
                    <a:moveTo>
                      <a:pt x="0" y="242"/>
                    </a:moveTo>
                    <a:lnTo>
                      <a:pt x="6" y="211"/>
                    </a:lnTo>
                    <a:lnTo>
                      <a:pt x="17" y="188"/>
                    </a:lnTo>
                    <a:lnTo>
                      <a:pt x="27" y="167"/>
                    </a:lnTo>
                    <a:lnTo>
                      <a:pt x="40" y="152"/>
                    </a:lnTo>
                    <a:lnTo>
                      <a:pt x="53" y="137"/>
                    </a:lnTo>
                    <a:lnTo>
                      <a:pt x="72" y="126"/>
                    </a:lnTo>
                    <a:lnTo>
                      <a:pt x="91" y="116"/>
                    </a:lnTo>
                    <a:lnTo>
                      <a:pt x="116" y="110"/>
                    </a:lnTo>
                    <a:lnTo>
                      <a:pt x="141" y="103"/>
                    </a:lnTo>
                    <a:lnTo>
                      <a:pt x="171" y="97"/>
                    </a:lnTo>
                    <a:lnTo>
                      <a:pt x="205" y="93"/>
                    </a:lnTo>
                    <a:lnTo>
                      <a:pt x="245" y="91"/>
                    </a:lnTo>
                    <a:lnTo>
                      <a:pt x="287" y="88"/>
                    </a:lnTo>
                    <a:lnTo>
                      <a:pt x="335" y="84"/>
                    </a:lnTo>
                    <a:lnTo>
                      <a:pt x="388" y="80"/>
                    </a:lnTo>
                    <a:lnTo>
                      <a:pt x="449" y="78"/>
                    </a:lnTo>
                    <a:lnTo>
                      <a:pt x="468" y="74"/>
                    </a:lnTo>
                    <a:lnTo>
                      <a:pt x="525" y="72"/>
                    </a:lnTo>
                    <a:lnTo>
                      <a:pt x="610" y="69"/>
                    </a:lnTo>
                    <a:lnTo>
                      <a:pt x="726" y="65"/>
                    </a:lnTo>
                    <a:lnTo>
                      <a:pt x="861" y="59"/>
                    </a:lnTo>
                    <a:lnTo>
                      <a:pt x="1015" y="53"/>
                    </a:lnTo>
                    <a:lnTo>
                      <a:pt x="1181" y="48"/>
                    </a:lnTo>
                    <a:lnTo>
                      <a:pt x="1354" y="42"/>
                    </a:lnTo>
                    <a:lnTo>
                      <a:pt x="1527" y="34"/>
                    </a:lnTo>
                    <a:lnTo>
                      <a:pt x="1696" y="27"/>
                    </a:lnTo>
                    <a:lnTo>
                      <a:pt x="1858" y="21"/>
                    </a:lnTo>
                    <a:lnTo>
                      <a:pt x="2010" y="15"/>
                    </a:lnTo>
                    <a:lnTo>
                      <a:pt x="2141" y="10"/>
                    </a:lnTo>
                    <a:lnTo>
                      <a:pt x="2251" y="4"/>
                    </a:lnTo>
                    <a:lnTo>
                      <a:pt x="2333" y="0"/>
                    </a:lnTo>
                    <a:lnTo>
                      <a:pt x="2384" y="0"/>
                    </a:lnTo>
                    <a:lnTo>
                      <a:pt x="2360" y="95"/>
                    </a:lnTo>
                    <a:lnTo>
                      <a:pt x="2327" y="97"/>
                    </a:lnTo>
                    <a:lnTo>
                      <a:pt x="2297" y="99"/>
                    </a:lnTo>
                    <a:lnTo>
                      <a:pt x="2265" y="101"/>
                    </a:lnTo>
                    <a:lnTo>
                      <a:pt x="2232" y="103"/>
                    </a:lnTo>
                    <a:lnTo>
                      <a:pt x="2198" y="103"/>
                    </a:lnTo>
                    <a:lnTo>
                      <a:pt x="2164" y="105"/>
                    </a:lnTo>
                    <a:lnTo>
                      <a:pt x="2130" y="105"/>
                    </a:lnTo>
                    <a:lnTo>
                      <a:pt x="2095" y="107"/>
                    </a:lnTo>
                    <a:lnTo>
                      <a:pt x="2059" y="107"/>
                    </a:lnTo>
                    <a:lnTo>
                      <a:pt x="2023" y="107"/>
                    </a:lnTo>
                    <a:lnTo>
                      <a:pt x="1989" y="107"/>
                    </a:lnTo>
                    <a:lnTo>
                      <a:pt x="1957" y="107"/>
                    </a:lnTo>
                    <a:lnTo>
                      <a:pt x="1922" y="107"/>
                    </a:lnTo>
                    <a:lnTo>
                      <a:pt x="1890" y="107"/>
                    </a:lnTo>
                    <a:lnTo>
                      <a:pt x="1858" y="107"/>
                    </a:lnTo>
                    <a:lnTo>
                      <a:pt x="1829" y="109"/>
                    </a:lnTo>
                    <a:lnTo>
                      <a:pt x="1833" y="137"/>
                    </a:lnTo>
                    <a:lnTo>
                      <a:pt x="2015" y="154"/>
                    </a:lnTo>
                    <a:lnTo>
                      <a:pt x="1936" y="162"/>
                    </a:lnTo>
                    <a:lnTo>
                      <a:pt x="1856" y="171"/>
                    </a:lnTo>
                    <a:lnTo>
                      <a:pt x="1778" y="179"/>
                    </a:lnTo>
                    <a:lnTo>
                      <a:pt x="1702" y="186"/>
                    </a:lnTo>
                    <a:lnTo>
                      <a:pt x="1622" y="190"/>
                    </a:lnTo>
                    <a:lnTo>
                      <a:pt x="1544" y="196"/>
                    </a:lnTo>
                    <a:lnTo>
                      <a:pt x="1466" y="200"/>
                    </a:lnTo>
                    <a:lnTo>
                      <a:pt x="1388" y="206"/>
                    </a:lnTo>
                    <a:lnTo>
                      <a:pt x="1308" y="207"/>
                    </a:lnTo>
                    <a:lnTo>
                      <a:pt x="1228" y="211"/>
                    </a:lnTo>
                    <a:lnTo>
                      <a:pt x="1150" y="213"/>
                    </a:lnTo>
                    <a:lnTo>
                      <a:pt x="1072" y="217"/>
                    </a:lnTo>
                    <a:lnTo>
                      <a:pt x="993" y="219"/>
                    </a:lnTo>
                    <a:lnTo>
                      <a:pt x="915" y="223"/>
                    </a:lnTo>
                    <a:lnTo>
                      <a:pt x="837" y="226"/>
                    </a:lnTo>
                    <a:lnTo>
                      <a:pt x="759" y="232"/>
                    </a:lnTo>
                    <a:lnTo>
                      <a:pt x="753" y="226"/>
                    </a:lnTo>
                    <a:lnTo>
                      <a:pt x="747" y="219"/>
                    </a:lnTo>
                    <a:lnTo>
                      <a:pt x="745" y="209"/>
                    </a:lnTo>
                    <a:lnTo>
                      <a:pt x="747" y="204"/>
                    </a:lnTo>
                    <a:lnTo>
                      <a:pt x="975" y="169"/>
                    </a:lnTo>
                    <a:lnTo>
                      <a:pt x="975" y="154"/>
                    </a:lnTo>
                    <a:lnTo>
                      <a:pt x="936" y="147"/>
                    </a:lnTo>
                    <a:lnTo>
                      <a:pt x="898" y="143"/>
                    </a:lnTo>
                    <a:lnTo>
                      <a:pt x="859" y="137"/>
                    </a:lnTo>
                    <a:lnTo>
                      <a:pt x="821" y="137"/>
                    </a:lnTo>
                    <a:lnTo>
                      <a:pt x="782" y="135"/>
                    </a:lnTo>
                    <a:lnTo>
                      <a:pt x="742" y="135"/>
                    </a:lnTo>
                    <a:lnTo>
                      <a:pt x="702" y="135"/>
                    </a:lnTo>
                    <a:lnTo>
                      <a:pt x="662" y="137"/>
                    </a:lnTo>
                    <a:lnTo>
                      <a:pt x="620" y="137"/>
                    </a:lnTo>
                    <a:lnTo>
                      <a:pt x="580" y="141"/>
                    </a:lnTo>
                    <a:lnTo>
                      <a:pt x="540" y="143"/>
                    </a:lnTo>
                    <a:lnTo>
                      <a:pt x="500" y="147"/>
                    </a:lnTo>
                    <a:lnTo>
                      <a:pt x="460" y="148"/>
                    </a:lnTo>
                    <a:lnTo>
                      <a:pt x="424" y="154"/>
                    </a:lnTo>
                    <a:lnTo>
                      <a:pt x="386" y="156"/>
                    </a:lnTo>
                    <a:lnTo>
                      <a:pt x="352" y="162"/>
                    </a:lnTo>
                    <a:lnTo>
                      <a:pt x="348" y="171"/>
                    </a:lnTo>
                    <a:lnTo>
                      <a:pt x="350" y="186"/>
                    </a:lnTo>
                    <a:lnTo>
                      <a:pt x="354" y="198"/>
                    </a:lnTo>
                    <a:lnTo>
                      <a:pt x="365" y="207"/>
                    </a:lnTo>
                    <a:lnTo>
                      <a:pt x="380" y="206"/>
                    </a:lnTo>
                    <a:lnTo>
                      <a:pt x="397" y="206"/>
                    </a:lnTo>
                    <a:lnTo>
                      <a:pt x="415" y="206"/>
                    </a:lnTo>
                    <a:lnTo>
                      <a:pt x="434" y="206"/>
                    </a:lnTo>
                    <a:lnTo>
                      <a:pt x="451" y="204"/>
                    </a:lnTo>
                    <a:lnTo>
                      <a:pt x="470" y="204"/>
                    </a:lnTo>
                    <a:lnTo>
                      <a:pt x="489" y="204"/>
                    </a:lnTo>
                    <a:lnTo>
                      <a:pt x="510" y="204"/>
                    </a:lnTo>
                    <a:lnTo>
                      <a:pt x="527" y="204"/>
                    </a:lnTo>
                    <a:lnTo>
                      <a:pt x="546" y="204"/>
                    </a:lnTo>
                    <a:lnTo>
                      <a:pt x="565" y="204"/>
                    </a:lnTo>
                    <a:lnTo>
                      <a:pt x="584" y="204"/>
                    </a:lnTo>
                    <a:lnTo>
                      <a:pt x="603" y="204"/>
                    </a:lnTo>
                    <a:lnTo>
                      <a:pt x="622" y="204"/>
                    </a:lnTo>
                    <a:lnTo>
                      <a:pt x="641" y="206"/>
                    </a:lnTo>
                    <a:lnTo>
                      <a:pt x="660" y="207"/>
                    </a:lnTo>
                    <a:lnTo>
                      <a:pt x="667" y="228"/>
                    </a:lnTo>
                    <a:lnTo>
                      <a:pt x="633" y="234"/>
                    </a:lnTo>
                    <a:lnTo>
                      <a:pt x="599" y="240"/>
                    </a:lnTo>
                    <a:lnTo>
                      <a:pt x="565" y="244"/>
                    </a:lnTo>
                    <a:lnTo>
                      <a:pt x="532" y="247"/>
                    </a:lnTo>
                    <a:lnTo>
                      <a:pt x="498" y="247"/>
                    </a:lnTo>
                    <a:lnTo>
                      <a:pt x="466" y="249"/>
                    </a:lnTo>
                    <a:lnTo>
                      <a:pt x="434" y="249"/>
                    </a:lnTo>
                    <a:lnTo>
                      <a:pt x="401" y="251"/>
                    </a:lnTo>
                    <a:lnTo>
                      <a:pt x="367" y="251"/>
                    </a:lnTo>
                    <a:lnTo>
                      <a:pt x="333" y="251"/>
                    </a:lnTo>
                    <a:lnTo>
                      <a:pt x="299" y="253"/>
                    </a:lnTo>
                    <a:lnTo>
                      <a:pt x="266" y="255"/>
                    </a:lnTo>
                    <a:lnTo>
                      <a:pt x="232" y="257"/>
                    </a:lnTo>
                    <a:lnTo>
                      <a:pt x="200" y="261"/>
                    </a:lnTo>
                    <a:lnTo>
                      <a:pt x="166" y="266"/>
                    </a:lnTo>
                    <a:lnTo>
                      <a:pt x="133" y="274"/>
                    </a:lnTo>
                    <a:lnTo>
                      <a:pt x="129" y="280"/>
                    </a:lnTo>
                    <a:lnTo>
                      <a:pt x="133" y="297"/>
                    </a:lnTo>
                    <a:lnTo>
                      <a:pt x="137" y="312"/>
                    </a:lnTo>
                    <a:lnTo>
                      <a:pt x="141" y="320"/>
                    </a:lnTo>
                    <a:lnTo>
                      <a:pt x="369" y="312"/>
                    </a:lnTo>
                    <a:lnTo>
                      <a:pt x="228" y="358"/>
                    </a:lnTo>
                    <a:lnTo>
                      <a:pt x="232" y="390"/>
                    </a:lnTo>
                    <a:lnTo>
                      <a:pt x="266" y="390"/>
                    </a:lnTo>
                    <a:lnTo>
                      <a:pt x="302" y="394"/>
                    </a:lnTo>
                    <a:lnTo>
                      <a:pt x="339" y="396"/>
                    </a:lnTo>
                    <a:lnTo>
                      <a:pt x="375" y="399"/>
                    </a:lnTo>
                    <a:lnTo>
                      <a:pt x="409" y="401"/>
                    </a:lnTo>
                    <a:lnTo>
                      <a:pt x="445" y="403"/>
                    </a:lnTo>
                    <a:lnTo>
                      <a:pt x="481" y="405"/>
                    </a:lnTo>
                    <a:lnTo>
                      <a:pt x="517" y="409"/>
                    </a:lnTo>
                    <a:lnTo>
                      <a:pt x="551" y="409"/>
                    </a:lnTo>
                    <a:lnTo>
                      <a:pt x="588" y="411"/>
                    </a:lnTo>
                    <a:lnTo>
                      <a:pt x="622" y="411"/>
                    </a:lnTo>
                    <a:lnTo>
                      <a:pt x="658" y="413"/>
                    </a:lnTo>
                    <a:lnTo>
                      <a:pt x="692" y="413"/>
                    </a:lnTo>
                    <a:lnTo>
                      <a:pt x="728" y="413"/>
                    </a:lnTo>
                    <a:lnTo>
                      <a:pt x="764" y="411"/>
                    </a:lnTo>
                    <a:lnTo>
                      <a:pt x="801" y="411"/>
                    </a:lnTo>
                    <a:lnTo>
                      <a:pt x="901" y="327"/>
                    </a:lnTo>
                    <a:lnTo>
                      <a:pt x="909" y="394"/>
                    </a:lnTo>
                    <a:lnTo>
                      <a:pt x="1000" y="411"/>
                    </a:lnTo>
                    <a:lnTo>
                      <a:pt x="1046" y="516"/>
                    </a:lnTo>
                    <a:lnTo>
                      <a:pt x="1025" y="516"/>
                    </a:lnTo>
                    <a:lnTo>
                      <a:pt x="1006" y="516"/>
                    </a:lnTo>
                    <a:lnTo>
                      <a:pt x="985" y="516"/>
                    </a:lnTo>
                    <a:lnTo>
                      <a:pt x="968" y="516"/>
                    </a:lnTo>
                    <a:lnTo>
                      <a:pt x="949" y="514"/>
                    </a:lnTo>
                    <a:lnTo>
                      <a:pt x="930" y="514"/>
                    </a:lnTo>
                    <a:lnTo>
                      <a:pt x="911" y="514"/>
                    </a:lnTo>
                    <a:lnTo>
                      <a:pt x="894" y="514"/>
                    </a:lnTo>
                    <a:lnTo>
                      <a:pt x="875" y="512"/>
                    </a:lnTo>
                    <a:lnTo>
                      <a:pt x="856" y="510"/>
                    </a:lnTo>
                    <a:lnTo>
                      <a:pt x="837" y="508"/>
                    </a:lnTo>
                    <a:lnTo>
                      <a:pt x="818" y="508"/>
                    </a:lnTo>
                    <a:lnTo>
                      <a:pt x="799" y="506"/>
                    </a:lnTo>
                    <a:lnTo>
                      <a:pt x="780" y="506"/>
                    </a:lnTo>
                    <a:lnTo>
                      <a:pt x="761" y="506"/>
                    </a:lnTo>
                    <a:lnTo>
                      <a:pt x="744" y="506"/>
                    </a:lnTo>
                    <a:lnTo>
                      <a:pt x="732" y="512"/>
                    </a:lnTo>
                    <a:lnTo>
                      <a:pt x="730" y="523"/>
                    </a:lnTo>
                    <a:lnTo>
                      <a:pt x="732" y="535"/>
                    </a:lnTo>
                    <a:lnTo>
                      <a:pt x="738" y="544"/>
                    </a:lnTo>
                    <a:lnTo>
                      <a:pt x="947" y="586"/>
                    </a:lnTo>
                    <a:lnTo>
                      <a:pt x="920" y="588"/>
                    </a:lnTo>
                    <a:lnTo>
                      <a:pt x="894" y="590"/>
                    </a:lnTo>
                    <a:lnTo>
                      <a:pt x="867" y="590"/>
                    </a:lnTo>
                    <a:lnTo>
                      <a:pt x="842" y="592"/>
                    </a:lnTo>
                    <a:lnTo>
                      <a:pt x="816" y="590"/>
                    </a:lnTo>
                    <a:lnTo>
                      <a:pt x="789" y="588"/>
                    </a:lnTo>
                    <a:lnTo>
                      <a:pt x="763" y="586"/>
                    </a:lnTo>
                    <a:lnTo>
                      <a:pt x="738" y="586"/>
                    </a:lnTo>
                    <a:lnTo>
                      <a:pt x="709" y="582"/>
                    </a:lnTo>
                    <a:lnTo>
                      <a:pt x="683" y="580"/>
                    </a:lnTo>
                    <a:lnTo>
                      <a:pt x="656" y="580"/>
                    </a:lnTo>
                    <a:lnTo>
                      <a:pt x="631" y="580"/>
                    </a:lnTo>
                    <a:lnTo>
                      <a:pt x="605" y="580"/>
                    </a:lnTo>
                    <a:lnTo>
                      <a:pt x="580" y="582"/>
                    </a:lnTo>
                    <a:lnTo>
                      <a:pt x="557" y="586"/>
                    </a:lnTo>
                    <a:lnTo>
                      <a:pt x="534" y="593"/>
                    </a:lnTo>
                    <a:lnTo>
                      <a:pt x="553" y="601"/>
                    </a:lnTo>
                    <a:lnTo>
                      <a:pt x="574" y="611"/>
                    </a:lnTo>
                    <a:lnTo>
                      <a:pt x="597" y="616"/>
                    </a:lnTo>
                    <a:lnTo>
                      <a:pt x="622" y="624"/>
                    </a:lnTo>
                    <a:lnTo>
                      <a:pt x="645" y="628"/>
                    </a:lnTo>
                    <a:lnTo>
                      <a:pt x="671" y="633"/>
                    </a:lnTo>
                    <a:lnTo>
                      <a:pt x="696" y="639"/>
                    </a:lnTo>
                    <a:lnTo>
                      <a:pt x="725" y="645"/>
                    </a:lnTo>
                    <a:lnTo>
                      <a:pt x="749" y="647"/>
                    </a:lnTo>
                    <a:lnTo>
                      <a:pt x="776" y="652"/>
                    </a:lnTo>
                    <a:lnTo>
                      <a:pt x="804" y="656"/>
                    </a:lnTo>
                    <a:lnTo>
                      <a:pt x="833" y="662"/>
                    </a:lnTo>
                    <a:lnTo>
                      <a:pt x="861" y="666"/>
                    </a:lnTo>
                    <a:lnTo>
                      <a:pt x="890" y="671"/>
                    </a:lnTo>
                    <a:lnTo>
                      <a:pt x="918" y="677"/>
                    </a:lnTo>
                    <a:lnTo>
                      <a:pt x="947" y="685"/>
                    </a:lnTo>
                    <a:lnTo>
                      <a:pt x="917" y="687"/>
                    </a:lnTo>
                    <a:lnTo>
                      <a:pt x="888" y="690"/>
                    </a:lnTo>
                    <a:lnTo>
                      <a:pt x="858" y="694"/>
                    </a:lnTo>
                    <a:lnTo>
                      <a:pt x="829" y="698"/>
                    </a:lnTo>
                    <a:lnTo>
                      <a:pt x="799" y="700"/>
                    </a:lnTo>
                    <a:lnTo>
                      <a:pt x="770" y="702"/>
                    </a:lnTo>
                    <a:lnTo>
                      <a:pt x="740" y="704"/>
                    </a:lnTo>
                    <a:lnTo>
                      <a:pt x="711" y="706"/>
                    </a:lnTo>
                    <a:lnTo>
                      <a:pt x="681" y="706"/>
                    </a:lnTo>
                    <a:lnTo>
                      <a:pt x="650" y="706"/>
                    </a:lnTo>
                    <a:lnTo>
                      <a:pt x="620" y="706"/>
                    </a:lnTo>
                    <a:lnTo>
                      <a:pt x="591" y="706"/>
                    </a:lnTo>
                    <a:lnTo>
                      <a:pt x="561" y="704"/>
                    </a:lnTo>
                    <a:lnTo>
                      <a:pt x="531" y="702"/>
                    </a:lnTo>
                    <a:lnTo>
                      <a:pt x="502" y="700"/>
                    </a:lnTo>
                    <a:lnTo>
                      <a:pt x="474" y="698"/>
                    </a:lnTo>
                    <a:lnTo>
                      <a:pt x="470" y="730"/>
                    </a:lnTo>
                    <a:lnTo>
                      <a:pt x="877" y="776"/>
                    </a:lnTo>
                    <a:lnTo>
                      <a:pt x="850" y="776"/>
                    </a:lnTo>
                    <a:lnTo>
                      <a:pt x="825" y="780"/>
                    </a:lnTo>
                    <a:lnTo>
                      <a:pt x="799" y="782"/>
                    </a:lnTo>
                    <a:lnTo>
                      <a:pt x="776" y="786"/>
                    </a:lnTo>
                    <a:lnTo>
                      <a:pt x="749" y="787"/>
                    </a:lnTo>
                    <a:lnTo>
                      <a:pt x="725" y="791"/>
                    </a:lnTo>
                    <a:lnTo>
                      <a:pt x="698" y="793"/>
                    </a:lnTo>
                    <a:lnTo>
                      <a:pt x="675" y="799"/>
                    </a:lnTo>
                    <a:lnTo>
                      <a:pt x="648" y="801"/>
                    </a:lnTo>
                    <a:lnTo>
                      <a:pt x="624" y="805"/>
                    </a:lnTo>
                    <a:lnTo>
                      <a:pt x="597" y="808"/>
                    </a:lnTo>
                    <a:lnTo>
                      <a:pt x="572" y="812"/>
                    </a:lnTo>
                    <a:lnTo>
                      <a:pt x="546" y="816"/>
                    </a:lnTo>
                    <a:lnTo>
                      <a:pt x="523" y="820"/>
                    </a:lnTo>
                    <a:lnTo>
                      <a:pt x="496" y="825"/>
                    </a:lnTo>
                    <a:lnTo>
                      <a:pt x="474" y="831"/>
                    </a:lnTo>
                    <a:lnTo>
                      <a:pt x="470" y="867"/>
                    </a:lnTo>
                    <a:lnTo>
                      <a:pt x="631" y="852"/>
                    </a:lnTo>
                    <a:lnTo>
                      <a:pt x="460" y="913"/>
                    </a:lnTo>
                    <a:lnTo>
                      <a:pt x="456" y="947"/>
                    </a:lnTo>
                    <a:lnTo>
                      <a:pt x="527" y="989"/>
                    </a:lnTo>
                    <a:lnTo>
                      <a:pt x="428" y="1035"/>
                    </a:lnTo>
                    <a:lnTo>
                      <a:pt x="411" y="1141"/>
                    </a:lnTo>
                    <a:lnTo>
                      <a:pt x="416" y="1141"/>
                    </a:lnTo>
                    <a:lnTo>
                      <a:pt x="428" y="1141"/>
                    </a:lnTo>
                    <a:lnTo>
                      <a:pt x="439" y="1141"/>
                    </a:lnTo>
                    <a:lnTo>
                      <a:pt x="455" y="1143"/>
                    </a:lnTo>
                    <a:lnTo>
                      <a:pt x="470" y="1143"/>
                    </a:lnTo>
                    <a:lnTo>
                      <a:pt x="487" y="1147"/>
                    </a:lnTo>
                    <a:lnTo>
                      <a:pt x="504" y="1147"/>
                    </a:lnTo>
                    <a:lnTo>
                      <a:pt x="521" y="1151"/>
                    </a:lnTo>
                    <a:lnTo>
                      <a:pt x="536" y="1151"/>
                    </a:lnTo>
                    <a:lnTo>
                      <a:pt x="553" y="1151"/>
                    </a:lnTo>
                    <a:lnTo>
                      <a:pt x="569" y="1151"/>
                    </a:lnTo>
                    <a:lnTo>
                      <a:pt x="586" y="1153"/>
                    </a:lnTo>
                    <a:lnTo>
                      <a:pt x="597" y="1151"/>
                    </a:lnTo>
                    <a:lnTo>
                      <a:pt x="610" y="1151"/>
                    </a:lnTo>
                    <a:lnTo>
                      <a:pt x="620" y="1149"/>
                    </a:lnTo>
                    <a:lnTo>
                      <a:pt x="628" y="1147"/>
                    </a:lnTo>
                    <a:lnTo>
                      <a:pt x="628" y="909"/>
                    </a:lnTo>
                    <a:lnTo>
                      <a:pt x="647" y="903"/>
                    </a:lnTo>
                    <a:lnTo>
                      <a:pt x="667" y="902"/>
                    </a:lnTo>
                    <a:lnTo>
                      <a:pt x="686" y="902"/>
                    </a:lnTo>
                    <a:lnTo>
                      <a:pt x="707" y="902"/>
                    </a:lnTo>
                    <a:lnTo>
                      <a:pt x="726" y="902"/>
                    </a:lnTo>
                    <a:lnTo>
                      <a:pt x="747" y="902"/>
                    </a:lnTo>
                    <a:lnTo>
                      <a:pt x="766" y="903"/>
                    </a:lnTo>
                    <a:lnTo>
                      <a:pt x="789" y="905"/>
                    </a:lnTo>
                    <a:lnTo>
                      <a:pt x="808" y="905"/>
                    </a:lnTo>
                    <a:lnTo>
                      <a:pt x="829" y="907"/>
                    </a:lnTo>
                    <a:lnTo>
                      <a:pt x="850" y="909"/>
                    </a:lnTo>
                    <a:lnTo>
                      <a:pt x="871" y="911"/>
                    </a:lnTo>
                    <a:lnTo>
                      <a:pt x="890" y="911"/>
                    </a:lnTo>
                    <a:lnTo>
                      <a:pt x="913" y="911"/>
                    </a:lnTo>
                    <a:lnTo>
                      <a:pt x="932" y="911"/>
                    </a:lnTo>
                    <a:lnTo>
                      <a:pt x="955" y="913"/>
                    </a:lnTo>
                    <a:lnTo>
                      <a:pt x="964" y="924"/>
                    </a:lnTo>
                    <a:lnTo>
                      <a:pt x="972" y="936"/>
                    </a:lnTo>
                    <a:lnTo>
                      <a:pt x="977" y="949"/>
                    </a:lnTo>
                    <a:lnTo>
                      <a:pt x="985" y="964"/>
                    </a:lnTo>
                    <a:lnTo>
                      <a:pt x="989" y="980"/>
                    </a:lnTo>
                    <a:lnTo>
                      <a:pt x="993" y="995"/>
                    </a:lnTo>
                    <a:lnTo>
                      <a:pt x="994" y="1012"/>
                    </a:lnTo>
                    <a:lnTo>
                      <a:pt x="998" y="1029"/>
                    </a:lnTo>
                    <a:lnTo>
                      <a:pt x="998" y="1044"/>
                    </a:lnTo>
                    <a:lnTo>
                      <a:pt x="998" y="1061"/>
                    </a:lnTo>
                    <a:lnTo>
                      <a:pt x="998" y="1077"/>
                    </a:lnTo>
                    <a:lnTo>
                      <a:pt x="1000" y="1094"/>
                    </a:lnTo>
                    <a:lnTo>
                      <a:pt x="1000" y="1109"/>
                    </a:lnTo>
                    <a:lnTo>
                      <a:pt x="1002" y="1124"/>
                    </a:lnTo>
                    <a:lnTo>
                      <a:pt x="1004" y="1139"/>
                    </a:lnTo>
                    <a:lnTo>
                      <a:pt x="1008" y="1155"/>
                    </a:lnTo>
                    <a:lnTo>
                      <a:pt x="1067" y="1168"/>
                    </a:lnTo>
                    <a:lnTo>
                      <a:pt x="1074" y="1223"/>
                    </a:lnTo>
                    <a:lnTo>
                      <a:pt x="922" y="1223"/>
                    </a:lnTo>
                    <a:lnTo>
                      <a:pt x="915" y="1223"/>
                    </a:lnTo>
                    <a:lnTo>
                      <a:pt x="911" y="1223"/>
                    </a:lnTo>
                    <a:lnTo>
                      <a:pt x="907" y="1206"/>
                    </a:lnTo>
                    <a:lnTo>
                      <a:pt x="907" y="1189"/>
                    </a:lnTo>
                    <a:lnTo>
                      <a:pt x="907" y="1170"/>
                    </a:lnTo>
                    <a:lnTo>
                      <a:pt x="907" y="1151"/>
                    </a:lnTo>
                    <a:lnTo>
                      <a:pt x="907" y="1132"/>
                    </a:lnTo>
                    <a:lnTo>
                      <a:pt x="909" y="1115"/>
                    </a:lnTo>
                    <a:lnTo>
                      <a:pt x="907" y="1094"/>
                    </a:lnTo>
                    <a:lnTo>
                      <a:pt x="907" y="1075"/>
                    </a:lnTo>
                    <a:lnTo>
                      <a:pt x="905" y="1058"/>
                    </a:lnTo>
                    <a:lnTo>
                      <a:pt x="903" y="1040"/>
                    </a:lnTo>
                    <a:lnTo>
                      <a:pt x="896" y="1023"/>
                    </a:lnTo>
                    <a:lnTo>
                      <a:pt x="890" y="1008"/>
                    </a:lnTo>
                    <a:lnTo>
                      <a:pt x="879" y="995"/>
                    </a:lnTo>
                    <a:lnTo>
                      <a:pt x="867" y="983"/>
                    </a:lnTo>
                    <a:lnTo>
                      <a:pt x="858" y="983"/>
                    </a:lnTo>
                    <a:lnTo>
                      <a:pt x="848" y="991"/>
                    </a:lnTo>
                    <a:lnTo>
                      <a:pt x="837" y="1002"/>
                    </a:lnTo>
                    <a:lnTo>
                      <a:pt x="827" y="1018"/>
                    </a:lnTo>
                    <a:lnTo>
                      <a:pt x="816" y="1033"/>
                    </a:lnTo>
                    <a:lnTo>
                      <a:pt x="804" y="1050"/>
                    </a:lnTo>
                    <a:lnTo>
                      <a:pt x="793" y="1069"/>
                    </a:lnTo>
                    <a:lnTo>
                      <a:pt x="783" y="1092"/>
                    </a:lnTo>
                    <a:lnTo>
                      <a:pt x="772" y="1111"/>
                    </a:lnTo>
                    <a:lnTo>
                      <a:pt x="761" y="1132"/>
                    </a:lnTo>
                    <a:lnTo>
                      <a:pt x="751" y="1151"/>
                    </a:lnTo>
                    <a:lnTo>
                      <a:pt x="744" y="1172"/>
                    </a:lnTo>
                    <a:lnTo>
                      <a:pt x="734" y="1187"/>
                    </a:lnTo>
                    <a:lnTo>
                      <a:pt x="728" y="1202"/>
                    </a:lnTo>
                    <a:lnTo>
                      <a:pt x="721" y="1213"/>
                    </a:lnTo>
                    <a:lnTo>
                      <a:pt x="719" y="1223"/>
                    </a:lnTo>
                    <a:lnTo>
                      <a:pt x="337" y="1223"/>
                    </a:lnTo>
                    <a:lnTo>
                      <a:pt x="299" y="523"/>
                    </a:lnTo>
                    <a:lnTo>
                      <a:pt x="261" y="512"/>
                    </a:lnTo>
                    <a:lnTo>
                      <a:pt x="226" y="504"/>
                    </a:lnTo>
                    <a:lnTo>
                      <a:pt x="194" y="496"/>
                    </a:lnTo>
                    <a:lnTo>
                      <a:pt x="166" y="491"/>
                    </a:lnTo>
                    <a:lnTo>
                      <a:pt x="137" y="483"/>
                    </a:lnTo>
                    <a:lnTo>
                      <a:pt x="114" y="477"/>
                    </a:lnTo>
                    <a:lnTo>
                      <a:pt x="91" y="468"/>
                    </a:lnTo>
                    <a:lnTo>
                      <a:pt x="74" y="458"/>
                    </a:lnTo>
                    <a:lnTo>
                      <a:pt x="55" y="443"/>
                    </a:lnTo>
                    <a:lnTo>
                      <a:pt x="42" y="426"/>
                    </a:lnTo>
                    <a:lnTo>
                      <a:pt x="29" y="407"/>
                    </a:lnTo>
                    <a:lnTo>
                      <a:pt x="19" y="384"/>
                    </a:lnTo>
                    <a:lnTo>
                      <a:pt x="10" y="356"/>
                    </a:lnTo>
                    <a:lnTo>
                      <a:pt x="6" y="323"/>
                    </a:lnTo>
                    <a:lnTo>
                      <a:pt x="0" y="283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50"/>
              <p:cNvSpPr/>
              <p:nvPr/>
            </p:nvSpPr>
            <p:spPr>
              <a:xfrm flipH="1" rot="19783200">
                <a:off x="2846520" y="4278600"/>
                <a:ext cx="69840" cy="21240"/>
              </a:xfrm>
              <a:custGeom>
                <a:avLst/>
                <a:gdLst>
                  <a:gd name="textAreaLeft" fmla="*/ 360 w 69840"/>
                  <a:gd name="textAreaRight" fmla="*/ 70560 w 69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59" h="138">
                    <a:moveTo>
                      <a:pt x="6" y="58"/>
                    </a:moveTo>
                    <a:lnTo>
                      <a:pt x="130" y="0"/>
                    </a:lnTo>
                    <a:lnTo>
                      <a:pt x="459" y="70"/>
                    </a:lnTo>
                    <a:lnTo>
                      <a:pt x="308" y="125"/>
                    </a:lnTo>
                    <a:lnTo>
                      <a:pt x="295" y="127"/>
                    </a:lnTo>
                    <a:lnTo>
                      <a:pt x="278" y="131"/>
                    </a:lnTo>
                    <a:lnTo>
                      <a:pt x="257" y="133"/>
                    </a:lnTo>
                    <a:lnTo>
                      <a:pt x="234" y="136"/>
                    </a:lnTo>
                    <a:lnTo>
                      <a:pt x="206" y="136"/>
                    </a:lnTo>
                    <a:lnTo>
                      <a:pt x="179" y="138"/>
                    </a:lnTo>
                    <a:lnTo>
                      <a:pt x="153" y="138"/>
                    </a:lnTo>
                    <a:lnTo>
                      <a:pt x="126" y="138"/>
                    </a:lnTo>
                    <a:lnTo>
                      <a:pt x="97" y="133"/>
                    </a:lnTo>
                    <a:lnTo>
                      <a:pt x="73" y="129"/>
                    </a:lnTo>
                    <a:lnTo>
                      <a:pt x="48" y="123"/>
                    </a:lnTo>
                    <a:lnTo>
                      <a:pt x="31" y="116"/>
                    </a:lnTo>
                    <a:lnTo>
                      <a:pt x="16" y="102"/>
                    </a:lnTo>
                    <a:lnTo>
                      <a:pt x="6" y="91"/>
                    </a:lnTo>
                    <a:lnTo>
                      <a:pt x="0" y="76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51"/>
              <p:cNvSpPr/>
              <p:nvPr/>
            </p:nvSpPr>
            <p:spPr>
              <a:xfrm flipH="1" rot="19783200">
                <a:off x="2956680" y="4369680"/>
                <a:ext cx="17640" cy="8712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16" h="571">
                    <a:moveTo>
                      <a:pt x="33" y="0"/>
                    </a:moveTo>
                    <a:lnTo>
                      <a:pt x="46" y="29"/>
                    </a:lnTo>
                    <a:lnTo>
                      <a:pt x="59" y="57"/>
                    </a:lnTo>
                    <a:lnTo>
                      <a:pt x="69" y="88"/>
                    </a:lnTo>
                    <a:lnTo>
                      <a:pt x="78" y="120"/>
                    </a:lnTo>
                    <a:lnTo>
                      <a:pt x="82" y="151"/>
                    </a:lnTo>
                    <a:lnTo>
                      <a:pt x="86" y="183"/>
                    </a:lnTo>
                    <a:lnTo>
                      <a:pt x="88" y="215"/>
                    </a:lnTo>
                    <a:lnTo>
                      <a:pt x="92" y="250"/>
                    </a:lnTo>
                    <a:lnTo>
                      <a:pt x="92" y="282"/>
                    </a:lnTo>
                    <a:lnTo>
                      <a:pt x="92" y="314"/>
                    </a:lnTo>
                    <a:lnTo>
                      <a:pt x="92" y="347"/>
                    </a:lnTo>
                    <a:lnTo>
                      <a:pt x="96" y="379"/>
                    </a:lnTo>
                    <a:lnTo>
                      <a:pt x="96" y="409"/>
                    </a:lnTo>
                    <a:lnTo>
                      <a:pt x="101" y="442"/>
                    </a:lnTo>
                    <a:lnTo>
                      <a:pt x="107" y="474"/>
                    </a:lnTo>
                    <a:lnTo>
                      <a:pt x="116" y="506"/>
                    </a:lnTo>
                    <a:lnTo>
                      <a:pt x="82" y="571"/>
                    </a:lnTo>
                    <a:lnTo>
                      <a:pt x="67" y="571"/>
                    </a:lnTo>
                    <a:lnTo>
                      <a:pt x="56" y="571"/>
                    </a:lnTo>
                    <a:lnTo>
                      <a:pt x="44" y="546"/>
                    </a:lnTo>
                    <a:lnTo>
                      <a:pt x="35" y="514"/>
                    </a:lnTo>
                    <a:lnTo>
                      <a:pt x="25" y="472"/>
                    </a:lnTo>
                    <a:lnTo>
                      <a:pt x="18" y="426"/>
                    </a:lnTo>
                    <a:lnTo>
                      <a:pt x="12" y="375"/>
                    </a:lnTo>
                    <a:lnTo>
                      <a:pt x="8" y="326"/>
                    </a:lnTo>
                    <a:lnTo>
                      <a:pt x="2" y="270"/>
                    </a:lnTo>
                    <a:lnTo>
                      <a:pt x="2" y="217"/>
                    </a:lnTo>
                    <a:lnTo>
                      <a:pt x="0" y="166"/>
                    </a:lnTo>
                    <a:lnTo>
                      <a:pt x="4" y="120"/>
                    </a:lnTo>
                    <a:lnTo>
                      <a:pt x="6" y="77"/>
                    </a:lnTo>
                    <a:lnTo>
                      <a:pt x="14" y="42"/>
                    </a:lnTo>
                    <a:lnTo>
                      <a:pt x="21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52"/>
              <p:cNvSpPr/>
              <p:nvPr/>
            </p:nvSpPr>
            <p:spPr>
              <a:xfrm flipH="1" rot="19783200">
                <a:off x="2788920" y="4300200"/>
                <a:ext cx="81720" cy="133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34" h="88">
                    <a:moveTo>
                      <a:pt x="534" y="17"/>
                    </a:moveTo>
                    <a:lnTo>
                      <a:pt x="232" y="88"/>
                    </a:lnTo>
                    <a:lnTo>
                      <a:pt x="217" y="82"/>
                    </a:lnTo>
                    <a:lnTo>
                      <a:pt x="201" y="76"/>
                    </a:lnTo>
                    <a:lnTo>
                      <a:pt x="186" y="70"/>
                    </a:lnTo>
                    <a:lnTo>
                      <a:pt x="173" y="67"/>
                    </a:lnTo>
                    <a:lnTo>
                      <a:pt x="158" y="61"/>
                    </a:lnTo>
                    <a:lnTo>
                      <a:pt x="144" y="59"/>
                    </a:lnTo>
                    <a:lnTo>
                      <a:pt x="129" y="53"/>
                    </a:lnTo>
                    <a:lnTo>
                      <a:pt x="116" y="51"/>
                    </a:lnTo>
                    <a:lnTo>
                      <a:pt x="99" y="46"/>
                    </a:lnTo>
                    <a:lnTo>
                      <a:pt x="85" y="42"/>
                    </a:lnTo>
                    <a:lnTo>
                      <a:pt x="68" y="38"/>
                    </a:lnTo>
                    <a:lnTo>
                      <a:pt x="55" y="34"/>
                    </a:lnTo>
                    <a:lnTo>
                      <a:pt x="40" y="29"/>
                    </a:lnTo>
                    <a:lnTo>
                      <a:pt x="27" y="25"/>
                    </a:lnTo>
                    <a:lnTo>
                      <a:pt x="11" y="21"/>
                    </a:lnTo>
                    <a:lnTo>
                      <a:pt x="0" y="17"/>
                    </a:lnTo>
                    <a:lnTo>
                      <a:pt x="4" y="11"/>
                    </a:lnTo>
                    <a:lnTo>
                      <a:pt x="21" y="6"/>
                    </a:lnTo>
                    <a:lnTo>
                      <a:pt x="44" y="2"/>
                    </a:lnTo>
                    <a:lnTo>
                      <a:pt x="76" y="2"/>
                    </a:lnTo>
                    <a:lnTo>
                      <a:pt x="112" y="0"/>
                    </a:lnTo>
                    <a:lnTo>
                      <a:pt x="156" y="0"/>
                    </a:lnTo>
                    <a:lnTo>
                      <a:pt x="201" y="0"/>
                    </a:lnTo>
                    <a:lnTo>
                      <a:pt x="251" y="2"/>
                    </a:lnTo>
                    <a:lnTo>
                      <a:pt x="297" y="2"/>
                    </a:lnTo>
                    <a:lnTo>
                      <a:pt x="344" y="4"/>
                    </a:lnTo>
                    <a:lnTo>
                      <a:pt x="390" y="6"/>
                    </a:lnTo>
                    <a:lnTo>
                      <a:pt x="432" y="10"/>
                    </a:lnTo>
                    <a:lnTo>
                      <a:pt x="468" y="10"/>
                    </a:lnTo>
                    <a:lnTo>
                      <a:pt x="498" y="13"/>
                    </a:lnTo>
                    <a:lnTo>
                      <a:pt x="519" y="13"/>
                    </a:lnTo>
                    <a:lnTo>
                      <a:pt x="53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53"/>
              <p:cNvSpPr/>
              <p:nvPr/>
            </p:nvSpPr>
            <p:spPr>
              <a:xfrm flipH="1" rot="19783200">
                <a:off x="2787120" y="4398480"/>
                <a:ext cx="61560" cy="13968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04" h="915">
                    <a:moveTo>
                      <a:pt x="0" y="103"/>
                    </a:moveTo>
                    <a:lnTo>
                      <a:pt x="10" y="99"/>
                    </a:lnTo>
                    <a:lnTo>
                      <a:pt x="21" y="97"/>
                    </a:lnTo>
                    <a:lnTo>
                      <a:pt x="31" y="93"/>
                    </a:lnTo>
                    <a:lnTo>
                      <a:pt x="42" y="91"/>
                    </a:lnTo>
                    <a:lnTo>
                      <a:pt x="52" y="86"/>
                    </a:lnTo>
                    <a:lnTo>
                      <a:pt x="63" y="80"/>
                    </a:lnTo>
                    <a:lnTo>
                      <a:pt x="75" y="74"/>
                    </a:lnTo>
                    <a:lnTo>
                      <a:pt x="86" y="71"/>
                    </a:lnTo>
                    <a:lnTo>
                      <a:pt x="105" y="57"/>
                    </a:lnTo>
                    <a:lnTo>
                      <a:pt x="126" y="44"/>
                    </a:lnTo>
                    <a:lnTo>
                      <a:pt x="143" y="29"/>
                    </a:lnTo>
                    <a:lnTo>
                      <a:pt x="162" y="15"/>
                    </a:lnTo>
                    <a:lnTo>
                      <a:pt x="179" y="74"/>
                    </a:lnTo>
                    <a:lnTo>
                      <a:pt x="204" y="82"/>
                    </a:lnTo>
                    <a:lnTo>
                      <a:pt x="333" y="0"/>
                    </a:lnTo>
                    <a:lnTo>
                      <a:pt x="327" y="74"/>
                    </a:lnTo>
                    <a:lnTo>
                      <a:pt x="335" y="80"/>
                    </a:lnTo>
                    <a:lnTo>
                      <a:pt x="345" y="88"/>
                    </a:lnTo>
                    <a:lnTo>
                      <a:pt x="352" y="91"/>
                    </a:lnTo>
                    <a:lnTo>
                      <a:pt x="362" y="91"/>
                    </a:lnTo>
                    <a:lnTo>
                      <a:pt x="404" y="875"/>
                    </a:lnTo>
                    <a:lnTo>
                      <a:pt x="386" y="888"/>
                    </a:lnTo>
                    <a:lnTo>
                      <a:pt x="371" y="902"/>
                    </a:lnTo>
                    <a:lnTo>
                      <a:pt x="352" y="911"/>
                    </a:lnTo>
                    <a:lnTo>
                      <a:pt x="333" y="915"/>
                    </a:lnTo>
                    <a:lnTo>
                      <a:pt x="310" y="915"/>
                    </a:lnTo>
                    <a:lnTo>
                      <a:pt x="288" y="915"/>
                    </a:lnTo>
                    <a:lnTo>
                      <a:pt x="265" y="915"/>
                    </a:lnTo>
                    <a:lnTo>
                      <a:pt x="244" y="915"/>
                    </a:lnTo>
                    <a:lnTo>
                      <a:pt x="217" y="915"/>
                    </a:lnTo>
                    <a:lnTo>
                      <a:pt x="194" y="915"/>
                    </a:lnTo>
                    <a:lnTo>
                      <a:pt x="170" y="915"/>
                    </a:lnTo>
                    <a:lnTo>
                      <a:pt x="147" y="915"/>
                    </a:lnTo>
                    <a:lnTo>
                      <a:pt x="124" y="915"/>
                    </a:lnTo>
                    <a:lnTo>
                      <a:pt x="101" y="915"/>
                    </a:lnTo>
                    <a:lnTo>
                      <a:pt x="80" y="915"/>
                    </a:lnTo>
                    <a:lnTo>
                      <a:pt x="63" y="915"/>
                    </a:lnTo>
                    <a:lnTo>
                      <a:pt x="63" y="854"/>
                    </a:lnTo>
                    <a:lnTo>
                      <a:pt x="291" y="854"/>
                    </a:lnTo>
                    <a:lnTo>
                      <a:pt x="282" y="713"/>
                    </a:lnTo>
                    <a:lnTo>
                      <a:pt x="170" y="681"/>
                    </a:lnTo>
                    <a:lnTo>
                      <a:pt x="173" y="675"/>
                    </a:lnTo>
                    <a:lnTo>
                      <a:pt x="183" y="670"/>
                    </a:lnTo>
                    <a:lnTo>
                      <a:pt x="198" y="664"/>
                    </a:lnTo>
                    <a:lnTo>
                      <a:pt x="217" y="658"/>
                    </a:lnTo>
                    <a:lnTo>
                      <a:pt x="234" y="653"/>
                    </a:lnTo>
                    <a:lnTo>
                      <a:pt x="251" y="647"/>
                    </a:lnTo>
                    <a:lnTo>
                      <a:pt x="265" y="641"/>
                    </a:lnTo>
                    <a:lnTo>
                      <a:pt x="274" y="639"/>
                    </a:lnTo>
                    <a:lnTo>
                      <a:pt x="276" y="628"/>
                    </a:lnTo>
                    <a:lnTo>
                      <a:pt x="274" y="614"/>
                    </a:lnTo>
                    <a:lnTo>
                      <a:pt x="270" y="601"/>
                    </a:lnTo>
                    <a:lnTo>
                      <a:pt x="267" y="594"/>
                    </a:lnTo>
                    <a:lnTo>
                      <a:pt x="124" y="559"/>
                    </a:lnTo>
                    <a:lnTo>
                      <a:pt x="263" y="523"/>
                    </a:lnTo>
                    <a:lnTo>
                      <a:pt x="265" y="512"/>
                    </a:lnTo>
                    <a:lnTo>
                      <a:pt x="265" y="500"/>
                    </a:lnTo>
                    <a:lnTo>
                      <a:pt x="261" y="489"/>
                    </a:lnTo>
                    <a:lnTo>
                      <a:pt x="259" y="481"/>
                    </a:lnTo>
                    <a:lnTo>
                      <a:pt x="251" y="466"/>
                    </a:lnTo>
                    <a:lnTo>
                      <a:pt x="257" y="457"/>
                    </a:lnTo>
                    <a:lnTo>
                      <a:pt x="240" y="451"/>
                    </a:lnTo>
                    <a:lnTo>
                      <a:pt x="223" y="445"/>
                    </a:lnTo>
                    <a:lnTo>
                      <a:pt x="206" y="440"/>
                    </a:lnTo>
                    <a:lnTo>
                      <a:pt x="189" y="436"/>
                    </a:lnTo>
                    <a:lnTo>
                      <a:pt x="172" y="430"/>
                    </a:lnTo>
                    <a:lnTo>
                      <a:pt x="154" y="426"/>
                    </a:lnTo>
                    <a:lnTo>
                      <a:pt x="137" y="422"/>
                    </a:lnTo>
                    <a:lnTo>
                      <a:pt x="120" y="422"/>
                    </a:lnTo>
                    <a:lnTo>
                      <a:pt x="274" y="356"/>
                    </a:lnTo>
                    <a:lnTo>
                      <a:pt x="274" y="320"/>
                    </a:lnTo>
                    <a:lnTo>
                      <a:pt x="137" y="268"/>
                    </a:lnTo>
                    <a:lnTo>
                      <a:pt x="242" y="244"/>
                    </a:lnTo>
                    <a:lnTo>
                      <a:pt x="270" y="198"/>
                    </a:lnTo>
                    <a:lnTo>
                      <a:pt x="38" y="208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54"/>
              <p:cNvSpPr/>
              <p:nvPr/>
            </p:nvSpPr>
            <p:spPr>
              <a:xfrm flipH="1" rot="19783200">
                <a:off x="2669400" y="4260240"/>
                <a:ext cx="50040" cy="46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31" h="307">
                    <a:moveTo>
                      <a:pt x="28" y="0"/>
                    </a:moveTo>
                    <a:lnTo>
                      <a:pt x="51" y="2"/>
                    </a:lnTo>
                    <a:lnTo>
                      <a:pt x="76" y="10"/>
                    </a:lnTo>
                    <a:lnTo>
                      <a:pt x="99" y="21"/>
                    </a:lnTo>
                    <a:lnTo>
                      <a:pt x="123" y="38"/>
                    </a:lnTo>
                    <a:lnTo>
                      <a:pt x="144" y="56"/>
                    </a:lnTo>
                    <a:lnTo>
                      <a:pt x="167" y="77"/>
                    </a:lnTo>
                    <a:lnTo>
                      <a:pt x="188" y="99"/>
                    </a:lnTo>
                    <a:lnTo>
                      <a:pt x="209" y="124"/>
                    </a:lnTo>
                    <a:lnTo>
                      <a:pt x="226" y="147"/>
                    </a:lnTo>
                    <a:lnTo>
                      <a:pt x="245" y="173"/>
                    </a:lnTo>
                    <a:lnTo>
                      <a:pt x="260" y="196"/>
                    </a:lnTo>
                    <a:lnTo>
                      <a:pt x="277" y="223"/>
                    </a:lnTo>
                    <a:lnTo>
                      <a:pt x="291" y="244"/>
                    </a:lnTo>
                    <a:lnTo>
                      <a:pt x="306" y="267"/>
                    </a:lnTo>
                    <a:lnTo>
                      <a:pt x="317" y="288"/>
                    </a:lnTo>
                    <a:lnTo>
                      <a:pt x="331" y="307"/>
                    </a:lnTo>
                    <a:lnTo>
                      <a:pt x="315" y="295"/>
                    </a:lnTo>
                    <a:lnTo>
                      <a:pt x="296" y="282"/>
                    </a:lnTo>
                    <a:lnTo>
                      <a:pt x="270" y="265"/>
                    </a:lnTo>
                    <a:lnTo>
                      <a:pt x="243" y="248"/>
                    </a:lnTo>
                    <a:lnTo>
                      <a:pt x="209" y="225"/>
                    </a:lnTo>
                    <a:lnTo>
                      <a:pt x="177" y="204"/>
                    </a:lnTo>
                    <a:lnTo>
                      <a:pt x="142" y="179"/>
                    </a:lnTo>
                    <a:lnTo>
                      <a:pt x="110" y="156"/>
                    </a:lnTo>
                    <a:lnTo>
                      <a:pt x="78" y="130"/>
                    </a:lnTo>
                    <a:lnTo>
                      <a:pt x="51" y="107"/>
                    </a:lnTo>
                    <a:lnTo>
                      <a:pt x="28" y="84"/>
                    </a:lnTo>
                    <a:lnTo>
                      <a:pt x="11" y="63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7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55"/>
              <p:cNvSpPr/>
              <p:nvPr/>
            </p:nvSpPr>
            <p:spPr>
              <a:xfrm flipH="1" rot="19783200">
                <a:off x="2677680" y="4281480"/>
                <a:ext cx="48600" cy="4464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44640"/>
                  <a:gd name="textAreaBottom" fmla="*/ 44640 h 44640"/>
                </a:gdLst>
                <a:ahLst/>
                <a:rect l="textAreaLeft" t="textAreaTop" r="textAreaRight" b="textAreaBottom"/>
                <a:pathLst>
                  <a:path w="320" h="291">
                    <a:moveTo>
                      <a:pt x="2" y="0"/>
                    </a:moveTo>
                    <a:lnTo>
                      <a:pt x="19" y="15"/>
                    </a:lnTo>
                    <a:lnTo>
                      <a:pt x="37" y="32"/>
                    </a:lnTo>
                    <a:lnTo>
                      <a:pt x="56" y="47"/>
                    </a:lnTo>
                    <a:lnTo>
                      <a:pt x="75" y="64"/>
                    </a:lnTo>
                    <a:lnTo>
                      <a:pt x="92" y="80"/>
                    </a:lnTo>
                    <a:lnTo>
                      <a:pt x="113" y="95"/>
                    </a:lnTo>
                    <a:lnTo>
                      <a:pt x="132" y="110"/>
                    </a:lnTo>
                    <a:lnTo>
                      <a:pt x="152" y="127"/>
                    </a:lnTo>
                    <a:lnTo>
                      <a:pt x="171" y="141"/>
                    </a:lnTo>
                    <a:lnTo>
                      <a:pt x="192" y="156"/>
                    </a:lnTo>
                    <a:lnTo>
                      <a:pt x="211" y="169"/>
                    </a:lnTo>
                    <a:lnTo>
                      <a:pt x="232" y="184"/>
                    </a:lnTo>
                    <a:lnTo>
                      <a:pt x="253" y="198"/>
                    </a:lnTo>
                    <a:lnTo>
                      <a:pt x="274" y="211"/>
                    </a:lnTo>
                    <a:lnTo>
                      <a:pt x="295" y="224"/>
                    </a:lnTo>
                    <a:lnTo>
                      <a:pt x="318" y="237"/>
                    </a:lnTo>
                    <a:lnTo>
                      <a:pt x="318" y="247"/>
                    </a:lnTo>
                    <a:lnTo>
                      <a:pt x="320" y="258"/>
                    </a:lnTo>
                    <a:lnTo>
                      <a:pt x="318" y="264"/>
                    </a:lnTo>
                    <a:lnTo>
                      <a:pt x="318" y="272"/>
                    </a:lnTo>
                    <a:lnTo>
                      <a:pt x="312" y="279"/>
                    </a:lnTo>
                    <a:lnTo>
                      <a:pt x="306" y="281"/>
                    </a:lnTo>
                    <a:lnTo>
                      <a:pt x="297" y="281"/>
                    </a:lnTo>
                    <a:lnTo>
                      <a:pt x="287" y="281"/>
                    </a:lnTo>
                    <a:lnTo>
                      <a:pt x="278" y="283"/>
                    </a:lnTo>
                    <a:lnTo>
                      <a:pt x="272" y="291"/>
                    </a:lnTo>
                    <a:lnTo>
                      <a:pt x="156" y="262"/>
                    </a:lnTo>
                    <a:lnTo>
                      <a:pt x="149" y="251"/>
                    </a:lnTo>
                    <a:lnTo>
                      <a:pt x="141" y="241"/>
                    </a:lnTo>
                    <a:lnTo>
                      <a:pt x="130" y="226"/>
                    </a:lnTo>
                    <a:lnTo>
                      <a:pt x="120" y="211"/>
                    </a:lnTo>
                    <a:lnTo>
                      <a:pt x="105" y="192"/>
                    </a:lnTo>
                    <a:lnTo>
                      <a:pt x="94" y="173"/>
                    </a:lnTo>
                    <a:lnTo>
                      <a:pt x="78" y="152"/>
                    </a:lnTo>
                    <a:lnTo>
                      <a:pt x="67" y="131"/>
                    </a:lnTo>
                    <a:lnTo>
                      <a:pt x="52" y="108"/>
                    </a:lnTo>
                    <a:lnTo>
                      <a:pt x="40" y="87"/>
                    </a:lnTo>
                    <a:lnTo>
                      <a:pt x="27" y="66"/>
                    </a:lnTo>
                    <a:lnTo>
                      <a:pt x="19" y="49"/>
                    </a:lnTo>
                    <a:lnTo>
                      <a:pt x="10" y="32"/>
                    </a:lnTo>
                    <a:lnTo>
                      <a:pt x="4" y="19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Freeform 56"/>
              <p:cNvSpPr/>
              <p:nvPr/>
            </p:nvSpPr>
            <p:spPr>
              <a:xfrm flipH="1" rot="19783200">
                <a:off x="2624760" y="4449600"/>
                <a:ext cx="186120" cy="142560"/>
              </a:xfrm>
              <a:custGeom>
                <a:avLst/>
                <a:gdLst>
                  <a:gd name="textAreaLeft" fmla="*/ -360 w 186120"/>
                  <a:gd name="textAreaRight" fmla="*/ 186120 w 186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219" h="933">
                    <a:moveTo>
                      <a:pt x="0" y="140"/>
                    </a:moveTo>
                    <a:lnTo>
                      <a:pt x="15" y="138"/>
                    </a:lnTo>
                    <a:lnTo>
                      <a:pt x="32" y="135"/>
                    </a:lnTo>
                    <a:lnTo>
                      <a:pt x="49" y="129"/>
                    </a:lnTo>
                    <a:lnTo>
                      <a:pt x="67" y="125"/>
                    </a:lnTo>
                    <a:lnTo>
                      <a:pt x="84" y="117"/>
                    </a:lnTo>
                    <a:lnTo>
                      <a:pt x="101" y="110"/>
                    </a:lnTo>
                    <a:lnTo>
                      <a:pt x="118" y="102"/>
                    </a:lnTo>
                    <a:lnTo>
                      <a:pt x="135" y="95"/>
                    </a:lnTo>
                    <a:lnTo>
                      <a:pt x="150" y="83"/>
                    </a:lnTo>
                    <a:lnTo>
                      <a:pt x="165" y="74"/>
                    </a:lnTo>
                    <a:lnTo>
                      <a:pt x="181" y="62"/>
                    </a:lnTo>
                    <a:lnTo>
                      <a:pt x="196" y="53"/>
                    </a:lnTo>
                    <a:lnTo>
                      <a:pt x="209" y="41"/>
                    </a:lnTo>
                    <a:lnTo>
                      <a:pt x="224" y="32"/>
                    </a:lnTo>
                    <a:lnTo>
                      <a:pt x="238" y="22"/>
                    </a:lnTo>
                    <a:lnTo>
                      <a:pt x="253" y="15"/>
                    </a:lnTo>
                    <a:lnTo>
                      <a:pt x="285" y="131"/>
                    </a:lnTo>
                    <a:lnTo>
                      <a:pt x="293" y="129"/>
                    </a:lnTo>
                    <a:lnTo>
                      <a:pt x="302" y="127"/>
                    </a:lnTo>
                    <a:lnTo>
                      <a:pt x="314" y="123"/>
                    </a:lnTo>
                    <a:lnTo>
                      <a:pt x="325" y="119"/>
                    </a:lnTo>
                    <a:lnTo>
                      <a:pt x="337" y="112"/>
                    </a:lnTo>
                    <a:lnTo>
                      <a:pt x="348" y="104"/>
                    </a:lnTo>
                    <a:lnTo>
                      <a:pt x="359" y="97"/>
                    </a:lnTo>
                    <a:lnTo>
                      <a:pt x="373" y="89"/>
                    </a:lnTo>
                    <a:lnTo>
                      <a:pt x="382" y="79"/>
                    </a:lnTo>
                    <a:lnTo>
                      <a:pt x="394" y="70"/>
                    </a:lnTo>
                    <a:lnTo>
                      <a:pt x="403" y="60"/>
                    </a:lnTo>
                    <a:lnTo>
                      <a:pt x="411" y="53"/>
                    </a:lnTo>
                    <a:lnTo>
                      <a:pt x="430" y="36"/>
                    </a:lnTo>
                    <a:lnTo>
                      <a:pt x="441" y="24"/>
                    </a:lnTo>
                    <a:lnTo>
                      <a:pt x="483" y="123"/>
                    </a:lnTo>
                    <a:lnTo>
                      <a:pt x="500" y="117"/>
                    </a:lnTo>
                    <a:lnTo>
                      <a:pt x="517" y="110"/>
                    </a:lnTo>
                    <a:lnTo>
                      <a:pt x="536" y="97"/>
                    </a:lnTo>
                    <a:lnTo>
                      <a:pt x="555" y="83"/>
                    </a:lnTo>
                    <a:lnTo>
                      <a:pt x="570" y="66"/>
                    </a:lnTo>
                    <a:lnTo>
                      <a:pt x="587" y="51"/>
                    </a:lnTo>
                    <a:lnTo>
                      <a:pt x="603" y="36"/>
                    </a:lnTo>
                    <a:lnTo>
                      <a:pt x="616" y="24"/>
                    </a:lnTo>
                    <a:lnTo>
                      <a:pt x="620" y="106"/>
                    </a:lnTo>
                    <a:lnTo>
                      <a:pt x="631" y="106"/>
                    </a:lnTo>
                    <a:lnTo>
                      <a:pt x="643" y="106"/>
                    </a:lnTo>
                    <a:lnTo>
                      <a:pt x="654" y="102"/>
                    </a:lnTo>
                    <a:lnTo>
                      <a:pt x="667" y="100"/>
                    </a:lnTo>
                    <a:lnTo>
                      <a:pt x="679" y="95"/>
                    </a:lnTo>
                    <a:lnTo>
                      <a:pt x="694" y="89"/>
                    </a:lnTo>
                    <a:lnTo>
                      <a:pt x="705" y="81"/>
                    </a:lnTo>
                    <a:lnTo>
                      <a:pt x="721" y="74"/>
                    </a:lnTo>
                    <a:lnTo>
                      <a:pt x="732" y="62"/>
                    </a:lnTo>
                    <a:lnTo>
                      <a:pt x="743" y="53"/>
                    </a:lnTo>
                    <a:lnTo>
                      <a:pt x="755" y="43"/>
                    </a:lnTo>
                    <a:lnTo>
                      <a:pt x="766" y="34"/>
                    </a:lnTo>
                    <a:lnTo>
                      <a:pt x="785" y="15"/>
                    </a:lnTo>
                    <a:lnTo>
                      <a:pt x="802" y="0"/>
                    </a:lnTo>
                    <a:lnTo>
                      <a:pt x="802" y="85"/>
                    </a:lnTo>
                    <a:lnTo>
                      <a:pt x="814" y="87"/>
                    </a:lnTo>
                    <a:lnTo>
                      <a:pt x="827" y="93"/>
                    </a:lnTo>
                    <a:lnTo>
                      <a:pt x="840" y="97"/>
                    </a:lnTo>
                    <a:lnTo>
                      <a:pt x="857" y="102"/>
                    </a:lnTo>
                    <a:lnTo>
                      <a:pt x="871" y="102"/>
                    </a:lnTo>
                    <a:lnTo>
                      <a:pt x="886" y="104"/>
                    </a:lnTo>
                    <a:lnTo>
                      <a:pt x="899" y="104"/>
                    </a:lnTo>
                    <a:lnTo>
                      <a:pt x="915" y="102"/>
                    </a:lnTo>
                    <a:lnTo>
                      <a:pt x="991" y="32"/>
                    </a:lnTo>
                    <a:lnTo>
                      <a:pt x="1061" y="85"/>
                    </a:lnTo>
                    <a:lnTo>
                      <a:pt x="1198" y="85"/>
                    </a:lnTo>
                    <a:lnTo>
                      <a:pt x="1219" y="173"/>
                    </a:lnTo>
                    <a:lnTo>
                      <a:pt x="253" y="239"/>
                    </a:lnTo>
                    <a:lnTo>
                      <a:pt x="253" y="268"/>
                    </a:lnTo>
                    <a:lnTo>
                      <a:pt x="255" y="296"/>
                    </a:lnTo>
                    <a:lnTo>
                      <a:pt x="257" y="325"/>
                    </a:lnTo>
                    <a:lnTo>
                      <a:pt x="259" y="355"/>
                    </a:lnTo>
                    <a:lnTo>
                      <a:pt x="259" y="384"/>
                    </a:lnTo>
                    <a:lnTo>
                      <a:pt x="259" y="412"/>
                    </a:lnTo>
                    <a:lnTo>
                      <a:pt x="259" y="443"/>
                    </a:lnTo>
                    <a:lnTo>
                      <a:pt x="260" y="473"/>
                    </a:lnTo>
                    <a:lnTo>
                      <a:pt x="259" y="502"/>
                    </a:lnTo>
                    <a:lnTo>
                      <a:pt x="259" y="532"/>
                    </a:lnTo>
                    <a:lnTo>
                      <a:pt x="259" y="561"/>
                    </a:lnTo>
                    <a:lnTo>
                      <a:pt x="259" y="591"/>
                    </a:lnTo>
                    <a:lnTo>
                      <a:pt x="257" y="620"/>
                    </a:lnTo>
                    <a:lnTo>
                      <a:pt x="257" y="650"/>
                    </a:lnTo>
                    <a:lnTo>
                      <a:pt x="257" y="679"/>
                    </a:lnTo>
                    <a:lnTo>
                      <a:pt x="257" y="709"/>
                    </a:lnTo>
                    <a:lnTo>
                      <a:pt x="49" y="933"/>
                    </a:lnTo>
                    <a:lnTo>
                      <a:pt x="44" y="916"/>
                    </a:lnTo>
                    <a:lnTo>
                      <a:pt x="42" y="899"/>
                    </a:lnTo>
                    <a:lnTo>
                      <a:pt x="42" y="882"/>
                    </a:lnTo>
                    <a:lnTo>
                      <a:pt x="46" y="865"/>
                    </a:lnTo>
                    <a:lnTo>
                      <a:pt x="48" y="848"/>
                    </a:lnTo>
                    <a:lnTo>
                      <a:pt x="53" y="831"/>
                    </a:lnTo>
                    <a:lnTo>
                      <a:pt x="59" y="814"/>
                    </a:lnTo>
                    <a:lnTo>
                      <a:pt x="68" y="798"/>
                    </a:lnTo>
                    <a:lnTo>
                      <a:pt x="74" y="781"/>
                    </a:lnTo>
                    <a:lnTo>
                      <a:pt x="84" y="764"/>
                    </a:lnTo>
                    <a:lnTo>
                      <a:pt x="95" y="749"/>
                    </a:lnTo>
                    <a:lnTo>
                      <a:pt x="106" y="737"/>
                    </a:lnTo>
                    <a:lnTo>
                      <a:pt x="118" y="722"/>
                    </a:lnTo>
                    <a:lnTo>
                      <a:pt x="129" y="711"/>
                    </a:lnTo>
                    <a:lnTo>
                      <a:pt x="141" y="699"/>
                    </a:lnTo>
                    <a:lnTo>
                      <a:pt x="154" y="692"/>
                    </a:lnTo>
                    <a:lnTo>
                      <a:pt x="158" y="642"/>
                    </a:lnTo>
                    <a:lnTo>
                      <a:pt x="150" y="631"/>
                    </a:lnTo>
                    <a:lnTo>
                      <a:pt x="143" y="620"/>
                    </a:lnTo>
                    <a:lnTo>
                      <a:pt x="135" y="608"/>
                    </a:lnTo>
                    <a:lnTo>
                      <a:pt x="129" y="599"/>
                    </a:lnTo>
                    <a:lnTo>
                      <a:pt x="122" y="587"/>
                    </a:lnTo>
                    <a:lnTo>
                      <a:pt x="116" y="576"/>
                    </a:lnTo>
                    <a:lnTo>
                      <a:pt x="110" y="564"/>
                    </a:lnTo>
                    <a:lnTo>
                      <a:pt x="106" y="553"/>
                    </a:lnTo>
                    <a:lnTo>
                      <a:pt x="101" y="540"/>
                    </a:lnTo>
                    <a:lnTo>
                      <a:pt x="95" y="526"/>
                    </a:lnTo>
                    <a:lnTo>
                      <a:pt x="91" y="513"/>
                    </a:lnTo>
                    <a:lnTo>
                      <a:pt x="91" y="502"/>
                    </a:lnTo>
                    <a:lnTo>
                      <a:pt x="87" y="488"/>
                    </a:lnTo>
                    <a:lnTo>
                      <a:pt x="87" y="477"/>
                    </a:lnTo>
                    <a:lnTo>
                      <a:pt x="87" y="464"/>
                    </a:lnTo>
                    <a:lnTo>
                      <a:pt x="91" y="452"/>
                    </a:lnTo>
                    <a:lnTo>
                      <a:pt x="25" y="422"/>
                    </a:lnTo>
                    <a:lnTo>
                      <a:pt x="19" y="403"/>
                    </a:lnTo>
                    <a:lnTo>
                      <a:pt x="15" y="386"/>
                    </a:lnTo>
                    <a:lnTo>
                      <a:pt x="11" y="369"/>
                    </a:lnTo>
                    <a:lnTo>
                      <a:pt x="11" y="351"/>
                    </a:lnTo>
                    <a:lnTo>
                      <a:pt x="8" y="332"/>
                    </a:lnTo>
                    <a:lnTo>
                      <a:pt x="6" y="315"/>
                    </a:lnTo>
                    <a:lnTo>
                      <a:pt x="6" y="298"/>
                    </a:lnTo>
                    <a:lnTo>
                      <a:pt x="6" y="281"/>
                    </a:lnTo>
                    <a:lnTo>
                      <a:pt x="4" y="262"/>
                    </a:lnTo>
                    <a:lnTo>
                      <a:pt x="2" y="245"/>
                    </a:lnTo>
                    <a:lnTo>
                      <a:pt x="2" y="228"/>
                    </a:lnTo>
                    <a:lnTo>
                      <a:pt x="2" y="211"/>
                    </a:lnTo>
                    <a:lnTo>
                      <a:pt x="0" y="192"/>
                    </a:lnTo>
                    <a:lnTo>
                      <a:pt x="0" y="175"/>
                    </a:lnTo>
                    <a:lnTo>
                      <a:pt x="0" y="157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Freeform 57"/>
              <p:cNvSpPr/>
              <p:nvPr/>
            </p:nvSpPr>
            <p:spPr>
              <a:xfrm flipH="1" rot="19783200">
                <a:off x="2634120" y="4501800"/>
                <a:ext cx="106920" cy="16200"/>
              </a:xfrm>
              <a:custGeom>
                <a:avLst/>
                <a:gdLst>
                  <a:gd name="textAreaLeft" fmla="*/ -360 w 106920"/>
                  <a:gd name="textAreaRight" fmla="*/ 106920 w 106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01" h="105">
                    <a:moveTo>
                      <a:pt x="0" y="35"/>
                    </a:moveTo>
                    <a:lnTo>
                      <a:pt x="39" y="29"/>
                    </a:lnTo>
                    <a:lnTo>
                      <a:pt x="83" y="23"/>
                    </a:lnTo>
                    <a:lnTo>
                      <a:pt x="125" y="19"/>
                    </a:lnTo>
                    <a:lnTo>
                      <a:pt x="169" y="16"/>
                    </a:lnTo>
                    <a:lnTo>
                      <a:pt x="211" y="10"/>
                    </a:lnTo>
                    <a:lnTo>
                      <a:pt x="254" y="8"/>
                    </a:lnTo>
                    <a:lnTo>
                      <a:pt x="296" y="4"/>
                    </a:lnTo>
                    <a:lnTo>
                      <a:pt x="340" y="4"/>
                    </a:lnTo>
                    <a:lnTo>
                      <a:pt x="382" y="0"/>
                    </a:lnTo>
                    <a:lnTo>
                      <a:pt x="425" y="0"/>
                    </a:lnTo>
                    <a:lnTo>
                      <a:pt x="467" y="0"/>
                    </a:lnTo>
                    <a:lnTo>
                      <a:pt x="511" y="2"/>
                    </a:lnTo>
                    <a:lnTo>
                      <a:pt x="553" y="2"/>
                    </a:lnTo>
                    <a:lnTo>
                      <a:pt x="597" y="8"/>
                    </a:lnTo>
                    <a:lnTo>
                      <a:pt x="638" y="12"/>
                    </a:lnTo>
                    <a:lnTo>
                      <a:pt x="684" y="19"/>
                    </a:lnTo>
                    <a:lnTo>
                      <a:pt x="690" y="25"/>
                    </a:lnTo>
                    <a:lnTo>
                      <a:pt x="697" y="37"/>
                    </a:lnTo>
                    <a:lnTo>
                      <a:pt x="701" y="48"/>
                    </a:lnTo>
                    <a:lnTo>
                      <a:pt x="699" y="59"/>
                    </a:lnTo>
                    <a:lnTo>
                      <a:pt x="667" y="59"/>
                    </a:lnTo>
                    <a:lnTo>
                      <a:pt x="631" y="63"/>
                    </a:lnTo>
                    <a:lnTo>
                      <a:pt x="591" y="69"/>
                    </a:lnTo>
                    <a:lnTo>
                      <a:pt x="547" y="75"/>
                    </a:lnTo>
                    <a:lnTo>
                      <a:pt x="498" y="80"/>
                    </a:lnTo>
                    <a:lnTo>
                      <a:pt x="448" y="86"/>
                    </a:lnTo>
                    <a:lnTo>
                      <a:pt x="395" y="92"/>
                    </a:lnTo>
                    <a:lnTo>
                      <a:pt x="344" y="99"/>
                    </a:lnTo>
                    <a:lnTo>
                      <a:pt x="290" y="101"/>
                    </a:lnTo>
                    <a:lnTo>
                      <a:pt x="239" y="105"/>
                    </a:lnTo>
                    <a:lnTo>
                      <a:pt x="190" y="105"/>
                    </a:lnTo>
                    <a:lnTo>
                      <a:pt x="146" y="105"/>
                    </a:lnTo>
                    <a:lnTo>
                      <a:pt x="102" y="99"/>
                    </a:lnTo>
                    <a:lnTo>
                      <a:pt x="64" y="94"/>
                    </a:lnTo>
                    <a:lnTo>
                      <a:pt x="34" y="84"/>
                    </a:lnTo>
                    <a:lnTo>
                      <a:pt x="9" y="7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Freeform 58"/>
              <p:cNvSpPr/>
              <p:nvPr/>
            </p:nvSpPr>
            <p:spPr>
              <a:xfrm flipH="1" rot="19783200">
                <a:off x="2534760" y="4327920"/>
                <a:ext cx="28440" cy="626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89" h="411">
                    <a:moveTo>
                      <a:pt x="0" y="232"/>
                    </a:moveTo>
                    <a:lnTo>
                      <a:pt x="0" y="226"/>
                    </a:lnTo>
                    <a:lnTo>
                      <a:pt x="6" y="217"/>
                    </a:lnTo>
                    <a:lnTo>
                      <a:pt x="10" y="204"/>
                    </a:lnTo>
                    <a:lnTo>
                      <a:pt x="18" y="190"/>
                    </a:lnTo>
                    <a:lnTo>
                      <a:pt x="25" y="171"/>
                    </a:lnTo>
                    <a:lnTo>
                      <a:pt x="35" y="154"/>
                    </a:lnTo>
                    <a:lnTo>
                      <a:pt x="42" y="135"/>
                    </a:lnTo>
                    <a:lnTo>
                      <a:pt x="54" y="116"/>
                    </a:lnTo>
                    <a:lnTo>
                      <a:pt x="61" y="95"/>
                    </a:lnTo>
                    <a:lnTo>
                      <a:pt x="71" y="76"/>
                    </a:lnTo>
                    <a:lnTo>
                      <a:pt x="78" y="57"/>
                    </a:lnTo>
                    <a:lnTo>
                      <a:pt x="88" y="42"/>
                    </a:lnTo>
                    <a:lnTo>
                      <a:pt x="94" y="25"/>
                    </a:lnTo>
                    <a:lnTo>
                      <a:pt x="99" y="15"/>
                    </a:lnTo>
                    <a:lnTo>
                      <a:pt x="103" y="6"/>
                    </a:lnTo>
                    <a:lnTo>
                      <a:pt x="109" y="4"/>
                    </a:lnTo>
                    <a:lnTo>
                      <a:pt x="126" y="0"/>
                    </a:lnTo>
                    <a:lnTo>
                      <a:pt x="135" y="23"/>
                    </a:lnTo>
                    <a:lnTo>
                      <a:pt x="145" y="46"/>
                    </a:lnTo>
                    <a:lnTo>
                      <a:pt x="153" y="70"/>
                    </a:lnTo>
                    <a:lnTo>
                      <a:pt x="160" y="97"/>
                    </a:lnTo>
                    <a:lnTo>
                      <a:pt x="164" y="122"/>
                    </a:lnTo>
                    <a:lnTo>
                      <a:pt x="168" y="148"/>
                    </a:lnTo>
                    <a:lnTo>
                      <a:pt x="172" y="173"/>
                    </a:lnTo>
                    <a:lnTo>
                      <a:pt x="175" y="202"/>
                    </a:lnTo>
                    <a:lnTo>
                      <a:pt x="175" y="226"/>
                    </a:lnTo>
                    <a:lnTo>
                      <a:pt x="177" y="253"/>
                    </a:lnTo>
                    <a:lnTo>
                      <a:pt x="177" y="280"/>
                    </a:lnTo>
                    <a:lnTo>
                      <a:pt x="179" y="306"/>
                    </a:lnTo>
                    <a:lnTo>
                      <a:pt x="179" y="331"/>
                    </a:lnTo>
                    <a:lnTo>
                      <a:pt x="181" y="358"/>
                    </a:lnTo>
                    <a:lnTo>
                      <a:pt x="183" y="384"/>
                    </a:lnTo>
                    <a:lnTo>
                      <a:pt x="189" y="411"/>
                    </a:lnTo>
                    <a:lnTo>
                      <a:pt x="25" y="38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Freeform 59"/>
              <p:cNvSpPr/>
              <p:nvPr/>
            </p:nvSpPr>
            <p:spPr>
              <a:xfrm flipH="1" rot="19783200">
                <a:off x="2424240" y="4399560"/>
                <a:ext cx="33480" cy="6120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21" h="403">
                    <a:moveTo>
                      <a:pt x="0" y="308"/>
                    </a:moveTo>
                    <a:lnTo>
                      <a:pt x="6" y="286"/>
                    </a:lnTo>
                    <a:lnTo>
                      <a:pt x="16" y="265"/>
                    </a:lnTo>
                    <a:lnTo>
                      <a:pt x="23" y="244"/>
                    </a:lnTo>
                    <a:lnTo>
                      <a:pt x="35" y="225"/>
                    </a:lnTo>
                    <a:lnTo>
                      <a:pt x="42" y="204"/>
                    </a:lnTo>
                    <a:lnTo>
                      <a:pt x="54" y="185"/>
                    </a:lnTo>
                    <a:lnTo>
                      <a:pt x="65" y="166"/>
                    </a:lnTo>
                    <a:lnTo>
                      <a:pt x="76" y="149"/>
                    </a:lnTo>
                    <a:lnTo>
                      <a:pt x="88" y="128"/>
                    </a:lnTo>
                    <a:lnTo>
                      <a:pt x="99" y="109"/>
                    </a:lnTo>
                    <a:lnTo>
                      <a:pt x="111" y="90"/>
                    </a:lnTo>
                    <a:lnTo>
                      <a:pt x="122" y="73"/>
                    </a:lnTo>
                    <a:lnTo>
                      <a:pt x="133" y="54"/>
                    </a:lnTo>
                    <a:lnTo>
                      <a:pt x="147" y="35"/>
                    </a:lnTo>
                    <a:lnTo>
                      <a:pt x="160" y="17"/>
                    </a:lnTo>
                    <a:lnTo>
                      <a:pt x="175" y="0"/>
                    </a:lnTo>
                    <a:lnTo>
                      <a:pt x="221" y="10"/>
                    </a:lnTo>
                    <a:lnTo>
                      <a:pt x="217" y="42"/>
                    </a:lnTo>
                    <a:lnTo>
                      <a:pt x="217" y="76"/>
                    </a:lnTo>
                    <a:lnTo>
                      <a:pt x="215" y="107"/>
                    </a:lnTo>
                    <a:lnTo>
                      <a:pt x="215" y="139"/>
                    </a:lnTo>
                    <a:lnTo>
                      <a:pt x="213" y="168"/>
                    </a:lnTo>
                    <a:lnTo>
                      <a:pt x="211" y="198"/>
                    </a:lnTo>
                    <a:lnTo>
                      <a:pt x="206" y="225"/>
                    </a:lnTo>
                    <a:lnTo>
                      <a:pt x="202" y="251"/>
                    </a:lnTo>
                    <a:lnTo>
                      <a:pt x="192" y="274"/>
                    </a:lnTo>
                    <a:lnTo>
                      <a:pt x="181" y="297"/>
                    </a:lnTo>
                    <a:lnTo>
                      <a:pt x="166" y="318"/>
                    </a:lnTo>
                    <a:lnTo>
                      <a:pt x="149" y="339"/>
                    </a:lnTo>
                    <a:lnTo>
                      <a:pt x="126" y="356"/>
                    </a:lnTo>
                    <a:lnTo>
                      <a:pt x="99" y="373"/>
                    </a:lnTo>
                    <a:lnTo>
                      <a:pt x="65" y="388"/>
                    </a:lnTo>
                    <a:lnTo>
                      <a:pt x="29" y="40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Freeform 60"/>
              <p:cNvSpPr/>
              <p:nvPr/>
            </p:nvSpPr>
            <p:spPr>
              <a:xfrm flipH="1" rot="19783200">
                <a:off x="2287800" y="4624200"/>
                <a:ext cx="271080" cy="119880"/>
              </a:xfrm>
              <a:custGeom>
                <a:avLst/>
                <a:gdLst>
                  <a:gd name="textAreaLeft" fmla="*/ -360 w 271080"/>
                  <a:gd name="textAreaRight" fmla="*/ 271080 w 27108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776" h="784">
                    <a:moveTo>
                      <a:pt x="0" y="166"/>
                    </a:moveTo>
                    <a:lnTo>
                      <a:pt x="112" y="99"/>
                    </a:lnTo>
                    <a:lnTo>
                      <a:pt x="116" y="99"/>
                    </a:lnTo>
                    <a:lnTo>
                      <a:pt x="122" y="105"/>
                    </a:lnTo>
                    <a:lnTo>
                      <a:pt x="127" y="116"/>
                    </a:lnTo>
                    <a:lnTo>
                      <a:pt x="137" y="130"/>
                    </a:lnTo>
                    <a:lnTo>
                      <a:pt x="144" y="141"/>
                    </a:lnTo>
                    <a:lnTo>
                      <a:pt x="158" y="152"/>
                    </a:lnTo>
                    <a:lnTo>
                      <a:pt x="163" y="154"/>
                    </a:lnTo>
                    <a:lnTo>
                      <a:pt x="171" y="158"/>
                    </a:lnTo>
                    <a:lnTo>
                      <a:pt x="181" y="158"/>
                    </a:lnTo>
                    <a:lnTo>
                      <a:pt x="192" y="158"/>
                    </a:lnTo>
                    <a:lnTo>
                      <a:pt x="186" y="92"/>
                    </a:lnTo>
                    <a:lnTo>
                      <a:pt x="200" y="111"/>
                    </a:lnTo>
                    <a:lnTo>
                      <a:pt x="215" y="132"/>
                    </a:lnTo>
                    <a:lnTo>
                      <a:pt x="230" y="149"/>
                    </a:lnTo>
                    <a:lnTo>
                      <a:pt x="247" y="166"/>
                    </a:lnTo>
                    <a:lnTo>
                      <a:pt x="260" y="181"/>
                    </a:lnTo>
                    <a:lnTo>
                      <a:pt x="277" y="198"/>
                    </a:lnTo>
                    <a:lnTo>
                      <a:pt x="295" y="213"/>
                    </a:lnTo>
                    <a:lnTo>
                      <a:pt x="312" y="229"/>
                    </a:lnTo>
                    <a:lnTo>
                      <a:pt x="289" y="99"/>
                    </a:lnTo>
                    <a:lnTo>
                      <a:pt x="350" y="166"/>
                    </a:lnTo>
                    <a:lnTo>
                      <a:pt x="363" y="152"/>
                    </a:lnTo>
                    <a:lnTo>
                      <a:pt x="329" y="12"/>
                    </a:lnTo>
                    <a:lnTo>
                      <a:pt x="418" y="4"/>
                    </a:lnTo>
                    <a:lnTo>
                      <a:pt x="418" y="17"/>
                    </a:lnTo>
                    <a:lnTo>
                      <a:pt x="420" y="35"/>
                    </a:lnTo>
                    <a:lnTo>
                      <a:pt x="422" y="48"/>
                    </a:lnTo>
                    <a:lnTo>
                      <a:pt x="426" y="65"/>
                    </a:lnTo>
                    <a:lnTo>
                      <a:pt x="430" y="80"/>
                    </a:lnTo>
                    <a:lnTo>
                      <a:pt x="433" y="95"/>
                    </a:lnTo>
                    <a:lnTo>
                      <a:pt x="437" y="111"/>
                    </a:lnTo>
                    <a:lnTo>
                      <a:pt x="443" y="128"/>
                    </a:lnTo>
                    <a:lnTo>
                      <a:pt x="521" y="128"/>
                    </a:lnTo>
                    <a:lnTo>
                      <a:pt x="509" y="139"/>
                    </a:lnTo>
                    <a:lnTo>
                      <a:pt x="502" y="154"/>
                    </a:lnTo>
                    <a:lnTo>
                      <a:pt x="494" y="168"/>
                    </a:lnTo>
                    <a:lnTo>
                      <a:pt x="490" y="185"/>
                    </a:lnTo>
                    <a:lnTo>
                      <a:pt x="487" y="198"/>
                    </a:lnTo>
                    <a:lnTo>
                      <a:pt x="489" y="213"/>
                    </a:lnTo>
                    <a:lnTo>
                      <a:pt x="490" y="229"/>
                    </a:lnTo>
                    <a:lnTo>
                      <a:pt x="500" y="244"/>
                    </a:lnTo>
                    <a:lnTo>
                      <a:pt x="504" y="244"/>
                    </a:lnTo>
                    <a:lnTo>
                      <a:pt x="515" y="246"/>
                    </a:lnTo>
                    <a:lnTo>
                      <a:pt x="528" y="248"/>
                    </a:lnTo>
                    <a:lnTo>
                      <a:pt x="546" y="251"/>
                    </a:lnTo>
                    <a:lnTo>
                      <a:pt x="559" y="253"/>
                    </a:lnTo>
                    <a:lnTo>
                      <a:pt x="574" y="257"/>
                    </a:lnTo>
                    <a:lnTo>
                      <a:pt x="584" y="259"/>
                    </a:lnTo>
                    <a:lnTo>
                      <a:pt x="591" y="261"/>
                    </a:lnTo>
                    <a:lnTo>
                      <a:pt x="555" y="341"/>
                    </a:lnTo>
                    <a:lnTo>
                      <a:pt x="559" y="350"/>
                    </a:lnTo>
                    <a:lnTo>
                      <a:pt x="570" y="360"/>
                    </a:lnTo>
                    <a:lnTo>
                      <a:pt x="584" y="364"/>
                    </a:lnTo>
                    <a:lnTo>
                      <a:pt x="601" y="367"/>
                    </a:lnTo>
                    <a:lnTo>
                      <a:pt x="616" y="367"/>
                    </a:lnTo>
                    <a:lnTo>
                      <a:pt x="633" y="369"/>
                    </a:lnTo>
                    <a:lnTo>
                      <a:pt x="648" y="371"/>
                    </a:lnTo>
                    <a:lnTo>
                      <a:pt x="663" y="373"/>
                    </a:lnTo>
                    <a:lnTo>
                      <a:pt x="622" y="443"/>
                    </a:lnTo>
                    <a:lnTo>
                      <a:pt x="631" y="453"/>
                    </a:lnTo>
                    <a:lnTo>
                      <a:pt x="644" y="461"/>
                    </a:lnTo>
                    <a:lnTo>
                      <a:pt x="658" y="464"/>
                    </a:lnTo>
                    <a:lnTo>
                      <a:pt x="675" y="466"/>
                    </a:lnTo>
                    <a:lnTo>
                      <a:pt x="688" y="464"/>
                    </a:lnTo>
                    <a:lnTo>
                      <a:pt x="703" y="461"/>
                    </a:lnTo>
                    <a:lnTo>
                      <a:pt x="715" y="455"/>
                    </a:lnTo>
                    <a:lnTo>
                      <a:pt x="728" y="447"/>
                    </a:lnTo>
                    <a:lnTo>
                      <a:pt x="713" y="548"/>
                    </a:lnTo>
                    <a:lnTo>
                      <a:pt x="749" y="577"/>
                    </a:lnTo>
                    <a:lnTo>
                      <a:pt x="836" y="485"/>
                    </a:lnTo>
                    <a:lnTo>
                      <a:pt x="816" y="590"/>
                    </a:lnTo>
                    <a:lnTo>
                      <a:pt x="846" y="601"/>
                    </a:lnTo>
                    <a:lnTo>
                      <a:pt x="920" y="523"/>
                    </a:lnTo>
                    <a:lnTo>
                      <a:pt x="937" y="615"/>
                    </a:lnTo>
                    <a:lnTo>
                      <a:pt x="951" y="616"/>
                    </a:lnTo>
                    <a:lnTo>
                      <a:pt x="966" y="620"/>
                    </a:lnTo>
                    <a:lnTo>
                      <a:pt x="981" y="622"/>
                    </a:lnTo>
                    <a:lnTo>
                      <a:pt x="994" y="622"/>
                    </a:lnTo>
                    <a:lnTo>
                      <a:pt x="1061" y="531"/>
                    </a:lnTo>
                    <a:lnTo>
                      <a:pt x="1089" y="618"/>
                    </a:lnTo>
                    <a:lnTo>
                      <a:pt x="1150" y="603"/>
                    </a:lnTo>
                    <a:lnTo>
                      <a:pt x="1205" y="586"/>
                    </a:lnTo>
                    <a:lnTo>
                      <a:pt x="1257" y="563"/>
                    </a:lnTo>
                    <a:lnTo>
                      <a:pt x="1306" y="538"/>
                    </a:lnTo>
                    <a:lnTo>
                      <a:pt x="1348" y="508"/>
                    </a:lnTo>
                    <a:lnTo>
                      <a:pt x="1388" y="476"/>
                    </a:lnTo>
                    <a:lnTo>
                      <a:pt x="1424" y="442"/>
                    </a:lnTo>
                    <a:lnTo>
                      <a:pt x="1458" y="403"/>
                    </a:lnTo>
                    <a:lnTo>
                      <a:pt x="1485" y="360"/>
                    </a:lnTo>
                    <a:lnTo>
                      <a:pt x="1513" y="314"/>
                    </a:lnTo>
                    <a:lnTo>
                      <a:pt x="1536" y="267"/>
                    </a:lnTo>
                    <a:lnTo>
                      <a:pt x="1561" y="219"/>
                    </a:lnTo>
                    <a:lnTo>
                      <a:pt x="1582" y="166"/>
                    </a:lnTo>
                    <a:lnTo>
                      <a:pt x="1603" y="112"/>
                    </a:lnTo>
                    <a:lnTo>
                      <a:pt x="1620" y="55"/>
                    </a:lnTo>
                    <a:lnTo>
                      <a:pt x="1639" y="0"/>
                    </a:lnTo>
                    <a:lnTo>
                      <a:pt x="1639" y="21"/>
                    </a:lnTo>
                    <a:lnTo>
                      <a:pt x="1639" y="42"/>
                    </a:lnTo>
                    <a:lnTo>
                      <a:pt x="1639" y="63"/>
                    </a:lnTo>
                    <a:lnTo>
                      <a:pt x="1639" y="86"/>
                    </a:lnTo>
                    <a:lnTo>
                      <a:pt x="1635" y="107"/>
                    </a:lnTo>
                    <a:lnTo>
                      <a:pt x="1633" y="128"/>
                    </a:lnTo>
                    <a:lnTo>
                      <a:pt x="1629" y="149"/>
                    </a:lnTo>
                    <a:lnTo>
                      <a:pt x="1625" y="171"/>
                    </a:lnTo>
                    <a:lnTo>
                      <a:pt x="1618" y="190"/>
                    </a:lnTo>
                    <a:lnTo>
                      <a:pt x="1612" y="213"/>
                    </a:lnTo>
                    <a:lnTo>
                      <a:pt x="1605" y="232"/>
                    </a:lnTo>
                    <a:lnTo>
                      <a:pt x="1599" y="255"/>
                    </a:lnTo>
                    <a:lnTo>
                      <a:pt x="1589" y="274"/>
                    </a:lnTo>
                    <a:lnTo>
                      <a:pt x="1580" y="295"/>
                    </a:lnTo>
                    <a:lnTo>
                      <a:pt x="1570" y="316"/>
                    </a:lnTo>
                    <a:lnTo>
                      <a:pt x="1563" y="337"/>
                    </a:lnTo>
                    <a:lnTo>
                      <a:pt x="1589" y="345"/>
                    </a:lnTo>
                    <a:lnTo>
                      <a:pt x="1597" y="329"/>
                    </a:lnTo>
                    <a:lnTo>
                      <a:pt x="1606" y="316"/>
                    </a:lnTo>
                    <a:lnTo>
                      <a:pt x="1614" y="301"/>
                    </a:lnTo>
                    <a:lnTo>
                      <a:pt x="1624" y="289"/>
                    </a:lnTo>
                    <a:lnTo>
                      <a:pt x="1631" y="274"/>
                    </a:lnTo>
                    <a:lnTo>
                      <a:pt x="1641" y="261"/>
                    </a:lnTo>
                    <a:lnTo>
                      <a:pt x="1650" y="248"/>
                    </a:lnTo>
                    <a:lnTo>
                      <a:pt x="1660" y="234"/>
                    </a:lnTo>
                    <a:lnTo>
                      <a:pt x="1667" y="219"/>
                    </a:lnTo>
                    <a:lnTo>
                      <a:pt x="1675" y="204"/>
                    </a:lnTo>
                    <a:lnTo>
                      <a:pt x="1681" y="189"/>
                    </a:lnTo>
                    <a:lnTo>
                      <a:pt x="1688" y="175"/>
                    </a:lnTo>
                    <a:lnTo>
                      <a:pt x="1692" y="160"/>
                    </a:lnTo>
                    <a:lnTo>
                      <a:pt x="1698" y="145"/>
                    </a:lnTo>
                    <a:lnTo>
                      <a:pt x="1702" y="128"/>
                    </a:lnTo>
                    <a:lnTo>
                      <a:pt x="1705" y="112"/>
                    </a:lnTo>
                    <a:lnTo>
                      <a:pt x="1776" y="137"/>
                    </a:lnTo>
                    <a:lnTo>
                      <a:pt x="1740" y="238"/>
                    </a:lnTo>
                    <a:lnTo>
                      <a:pt x="1700" y="333"/>
                    </a:lnTo>
                    <a:lnTo>
                      <a:pt x="1652" y="419"/>
                    </a:lnTo>
                    <a:lnTo>
                      <a:pt x="1599" y="500"/>
                    </a:lnTo>
                    <a:lnTo>
                      <a:pt x="1536" y="571"/>
                    </a:lnTo>
                    <a:lnTo>
                      <a:pt x="1470" y="634"/>
                    </a:lnTo>
                    <a:lnTo>
                      <a:pt x="1399" y="685"/>
                    </a:lnTo>
                    <a:lnTo>
                      <a:pt x="1325" y="729"/>
                    </a:lnTo>
                    <a:lnTo>
                      <a:pt x="1243" y="759"/>
                    </a:lnTo>
                    <a:lnTo>
                      <a:pt x="1160" y="778"/>
                    </a:lnTo>
                    <a:lnTo>
                      <a:pt x="1072" y="784"/>
                    </a:lnTo>
                    <a:lnTo>
                      <a:pt x="983" y="778"/>
                    </a:lnTo>
                    <a:lnTo>
                      <a:pt x="890" y="755"/>
                    </a:lnTo>
                    <a:lnTo>
                      <a:pt x="798" y="719"/>
                    </a:lnTo>
                    <a:lnTo>
                      <a:pt x="705" y="668"/>
                    </a:lnTo>
                    <a:lnTo>
                      <a:pt x="612" y="601"/>
                    </a:lnTo>
                    <a:lnTo>
                      <a:pt x="608" y="596"/>
                    </a:lnTo>
                    <a:lnTo>
                      <a:pt x="603" y="588"/>
                    </a:lnTo>
                    <a:lnTo>
                      <a:pt x="593" y="575"/>
                    </a:lnTo>
                    <a:lnTo>
                      <a:pt x="582" y="559"/>
                    </a:lnTo>
                    <a:lnTo>
                      <a:pt x="566" y="538"/>
                    </a:lnTo>
                    <a:lnTo>
                      <a:pt x="551" y="518"/>
                    </a:lnTo>
                    <a:lnTo>
                      <a:pt x="532" y="495"/>
                    </a:lnTo>
                    <a:lnTo>
                      <a:pt x="515" y="472"/>
                    </a:lnTo>
                    <a:lnTo>
                      <a:pt x="494" y="445"/>
                    </a:lnTo>
                    <a:lnTo>
                      <a:pt x="477" y="422"/>
                    </a:lnTo>
                    <a:lnTo>
                      <a:pt x="458" y="398"/>
                    </a:lnTo>
                    <a:lnTo>
                      <a:pt x="443" y="375"/>
                    </a:lnTo>
                    <a:lnTo>
                      <a:pt x="426" y="352"/>
                    </a:lnTo>
                    <a:lnTo>
                      <a:pt x="414" y="333"/>
                    </a:lnTo>
                    <a:lnTo>
                      <a:pt x="403" y="316"/>
                    </a:lnTo>
                    <a:lnTo>
                      <a:pt x="397" y="306"/>
                    </a:lnTo>
                    <a:lnTo>
                      <a:pt x="359" y="312"/>
                    </a:lnTo>
                    <a:lnTo>
                      <a:pt x="329" y="320"/>
                    </a:lnTo>
                    <a:lnTo>
                      <a:pt x="297" y="324"/>
                    </a:lnTo>
                    <a:lnTo>
                      <a:pt x="268" y="327"/>
                    </a:lnTo>
                    <a:lnTo>
                      <a:pt x="239" y="327"/>
                    </a:lnTo>
                    <a:lnTo>
                      <a:pt x="215" y="327"/>
                    </a:lnTo>
                    <a:lnTo>
                      <a:pt x="190" y="324"/>
                    </a:lnTo>
                    <a:lnTo>
                      <a:pt x="167" y="320"/>
                    </a:lnTo>
                    <a:lnTo>
                      <a:pt x="144" y="310"/>
                    </a:lnTo>
                    <a:lnTo>
                      <a:pt x="122" y="299"/>
                    </a:lnTo>
                    <a:lnTo>
                      <a:pt x="101" y="284"/>
                    </a:lnTo>
                    <a:lnTo>
                      <a:pt x="80" y="268"/>
                    </a:lnTo>
                    <a:lnTo>
                      <a:pt x="59" y="246"/>
                    </a:lnTo>
                    <a:lnTo>
                      <a:pt x="40" y="223"/>
                    </a:lnTo>
                    <a:lnTo>
                      <a:pt x="19" y="194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Freeform 61"/>
              <p:cNvSpPr/>
              <p:nvPr/>
            </p:nvSpPr>
            <p:spPr>
              <a:xfrm flipH="1" rot="19783200">
                <a:off x="2298240" y="4581360"/>
                <a:ext cx="135360" cy="144000"/>
              </a:xfrm>
              <a:custGeom>
                <a:avLst/>
                <a:gdLst>
                  <a:gd name="textAreaLeft" fmla="*/ 360 w 135360"/>
                  <a:gd name="textAreaRight" fmla="*/ 136080 w 13536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88" h="943">
                    <a:moveTo>
                      <a:pt x="0" y="441"/>
                    </a:moveTo>
                    <a:lnTo>
                      <a:pt x="96" y="432"/>
                    </a:lnTo>
                    <a:lnTo>
                      <a:pt x="101" y="453"/>
                    </a:lnTo>
                    <a:lnTo>
                      <a:pt x="107" y="476"/>
                    </a:lnTo>
                    <a:lnTo>
                      <a:pt x="115" y="498"/>
                    </a:lnTo>
                    <a:lnTo>
                      <a:pt x="124" y="523"/>
                    </a:lnTo>
                    <a:lnTo>
                      <a:pt x="134" y="546"/>
                    </a:lnTo>
                    <a:lnTo>
                      <a:pt x="145" y="571"/>
                    </a:lnTo>
                    <a:lnTo>
                      <a:pt x="156" y="593"/>
                    </a:lnTo>
                    <a:lnTo>
                      <a:pt x="172" y="618"/>
                    </a:lnTo>
                    <a:lnTo>
                      <a:pt x="183" y="637"/>
                    </a:lnTo>
                    <a:lnTo>
                      <a:pt x="200" y="658"/>
                    </a:lnTo>
                    <a:lnTo>
                      <a:pt x="215" y="675"/>
                    </a:lnTo>
                    <a:lnTo>
                      <a:pt x="234" y="692"/>
                    </a:lnTo>
                    <a:lnTo>
                      <a:pt x="251" y="706"/>
                    </a:lnTo>
                    <a:lnTo>
                      <a:pt x="274" y="719"/>
                    </a:lnTo>
                    <a:lnTo>
                      <a:pt x="295" y="728"/>
                    </a:lnTo>
                    <a:lnTo>
                      <a:pt x="320" y="736"/>
                    </a:lnTo>
                    <a:lnTo>
                      <a:pt x="339" y="738"/>
                    </a:lnTo>
                    <a:lnTo>
                      <a:pt x="360" y="742"/>
                    </a:lnTo>
                    <a:lnTo>
                      <a:pt x="379" y="744"/>
                    </a:lnTo>
                    <a:lnTo>
                      <a:pt x="402" y="747"/>
                    </a:lnTo>
                    <a:lnTo>
                      <a:pt x="421" y="746"/>
                    </a:lnTo>
                    <a:lnTo>
                      <a:pt x="442" y="746"/>
                    </a:lnTo>
                    <a:lnTo>
                      <a:pt x="462" y="744"/>
                    </a:lnTo>
                    <a:lnTo>
                      <a:pt x="485" y="742"/>
                    </a:lnTo>
                    <a:lnTo>
                      <a:pt x="504" y="734"/>
                    </a:lnTo>
                    <a:lnTo>
                      <a:pt x="525" y="728"/>
                    </a:lnTo>
                    <a:lnTo>
                      <a:pt x="544" y="717"/>
                    </a:lnTo>
                    <a:lnTo>
                      <a:pt x="565" y="708"/>
                    </a:lnTo>
                    <a:lnTo>
                      <a:pt x="584" y="694"/>
                    </a:lnTo>
                    <a:lnTo>
                      <a:pt x="603" y="679"/>
                    </a:lnTo>
                    <a:lnTo>
                      <a:pt x="620" y="660"/>
                    </a:lnTo>
                    <a:lnTo>
                      <a:pt x="639" y="639"/>
                    </a:lnTo>
                    <a:lnTo>
                      <a:pt x="662" y="603"/>
                    </a:lnTo>
                    <a:lnTo>
                      <a:pt x="681" y="567"/>
                    </a:lnTo>
                    <a:lnTo>
                      <a:pt x="698" y="531"/>
                    </a:lnTo>
                    <a:lnTo>
                      <a:pt x="713" y="495"/>
                    </a:lnTo>
                    <a:lnTo>
                      <a:pt x="723" y="455"/>
                    </a:lnTo>
                    <a:lnTo>
                      <a:pt x="731" y="417"/>
                    </a:lnTo>
                    <a:lnTo>
                      <a:pt x="736" y="377"/>
                    </a:lnTo>
                    <a:lnTo>
                      <a:pt x="742" y="339"/>
                    </a:lnTo>
                    <a:lnTo>
                      <a:pt x="742" y="297"/>
                    </a:lnTo>
                    <a:lnTo>
                      <a:pt x="744" y="257"/>
                    </a:lnTo>
                    <a:lnTo>
                      <a:pt x="742" y="217"/>
                    </a:lnTo>
                    <a:lnTo>
                      <a:pt x="742" y="177"/>
                    </a:lnTo>
                    <a:lnTo>
                      <a:pt x="738" y="137"/>
                    </a:lnTo>
                    <a:lnTo>
                      <a:pt x="736" y="97"/>
                    </a:lnTo>
                    <a:lnTo>
                      <a:pt x="732" y="57"/>
                    </a:lnTo>
                    <a:lnTo>
                      <a:pt x="731" y="17"/>
                    </a:lnTo>
                    <a:lnTo>
                      <a:pt x="808" y="0"/>
                    </a:lnTo>
                    <a:lnTo>
                      <a:pt x="826" y="150"/>
                    </a:lnTo>
                    <a:lnTo>
                      <a:pt x="850" y="162"/>
                    </a:lnTo>
                    <a:lnTo>
                      <a:pt x="885" y="116"/>
                    </a:lnTo>
                    <a:lnTo>
                      <a:pt x="886" y="143"/>
                    </a:lnTo>
                    <a:lnTo>
                      <a:pt x="888" y="171"/>
                    </a:lnTo>
                    <a:lnTo>
                      <a:pt x="885" y="202"/>
                    </a:lnTo>
                    <a:lnTo>
                      <a:pt x="881" y="236"/>
                    </a:lnTo>
                    <a:lnTo>
                      <a:pt x="873" y="270"/>
                    </a:lnTo>
                    <a:lnTo>
                      <a:pt x="867" y="304"/>
                    </a:lnTo>
                    <a:lnTo>
                      <a:pt x="858" y="339"/>
                    </a:lnTo>
                    <a:lnTo>
                      <a:pt x="850" y="375"/>
                    </a:lnTo>
                    <a:lnTo>
                      <a:pt x="839" y="405"/>
                    </a:lnTo>
                    <a:lnTo>
                      <a:pt x="829" y="437"/>
                    </a:lnTo>
                    <a:lnTo>
                      <a:pt x="818" y="466"/>
                    </a:lnTo>
                    <a:lnTo>
                      <a:pt x="812" y="495"/>
                    </a:lnTo>
                    <a:lnTo>
                      <a:pt x="807" y="517"/>
                    </a:lnTo>
                    <a:lnTo>
                      <a:pt x="803" y="538"/>
                    </a:lnTo>
                    <a:lnTo>
                      <a:pt x="801" y="555"/>
                    </a:lnTo>
                    <a:lnTo>
                      <a:pt x="805" y="569"/>
                    </a:lnTo>
                    <a:lnTo>
                      <a:pt x="822" y="582"/>
                    </a:lnTo>
                    <a:lnTo>
                      <a:pt x="826" y="569"/>
                    </a:lnTo>
                    <a:lnTo>
                      <a:pt x="833" y="555"/>
                    </a:lnTo>
                    <a:lnTo>
                      <a:pt x="845" y="538"/>
                    </a:lnTo>
                    <a:lnTo>
                      <a:pt x="858" y="523"/>
                    </a:lnTo>
                    <a:lnTo>
                      <a:pt x="867" y="506"/>
                    </a:lnTo>
                    <a:lnTo>
                      <a:pt x="879" y="491"/>
                    </a:lnTo>
                    <a:lnTo>
                      <a:pt x="885" y="479"/>
                    </a:lnTo>
                    <a:lnTo>
                      <a:pt x="888" y="474"/>
                    </a:lnTo>
                    <a:lnTo>
                      <a:pt x="883" y="502"/>
                    </a:lnTo>
                    <a:lnTo>
                      <a:pt x="877" y="534"/>
                    </a:lnTo>
                    <a:lnTo>
                      <a:pt x="867" y="569"/>
                    </a:lnTo>
                    <a:lnTo>
                      <a:pt x="858" y="603"/>
                    </a:lnTo>
                    <a:lnTo>
                      <a:pt x="845" y="637"/>
                    </a:lnTo>
                    <a:lnTo>
                      <a:pt x="831" y="671"/>
                    </a:lnTo>
                    <a:lnTo>
                      <a:pt x="814" y="706"/>
                    </a:lnTo>
                    <a:lnTo>
                      <a:pt x="799" y="740"/>
                    </a:lnTo>
                    <a:lnTo>
                      <a:pt x="776" y="770"/>
                    </a:lnTo>
                    <a:lnTo>
                      <a:pt x="755" y="803"/>
                    </a:lnTo>
                    <a:lnTo>
                      <a:pt x="732" y="831"/>
                    </a:lnTo>
                    <a:lnTo>
                      <a:pt x="710" y="860"/>
                    </a:lnTo>
                    <a:lnTo>
                      <a:pt x="683" y="884"/>
                    </a:lnTo>
                    <a:lnTo>
                      <a:pt x="656" y="907"/>
                    </a:lnTo>
                    <a:lnTo>
                      <a:pt x="628" y="926"/>
                    </a:lnTo>
                    <a:lnTo>
                      <a:pt x="601" y="943"/>
                    </a:lnTo>
                    <a:lnTo>
                      <a:pt x="592" y="940"/>
                    </a:lnTo>
                    <a:lnTo>
                      <a:pt x="596" y="924"/>
                    </a:lnTo>
                    <a:lnTo>
                      <a:pt x="599" y="913"/>
                    </a:lnTo>
                    <a:lnTo>
                      <a:pt x="607" y="903"/>
                    </a:lnTo>
                    <a:lnTo>
                      <a:pt x="615" y="890"/>
                    </a:lnTo>
                    <a:lnTo>
                      <a:pt x="624" y="879"/>
                    </a:lnTo>
                    <a:lnTo>
                      <a:pt x="632" y="863"/>
                    </a:lnTo>
                    <a:lnTo>
                      <a:pt x="641" y="852"/>
                    </a:lnTo>
                    <a:lnTo>
                      <a:pt x="649" y="839"/>
                    </a:lnTo>
                    <a:lnTo>
                      <a:pt x="658" y="829"/>
                    </a:lnTo>
                    <a:lnTo>
                      <a:pt x="670" y="812"/>
                    </a:lnTo>
                    <a:lnTo>
                      <a:pt x="675" y="806"/>
                    </a:lnTo>
                    <a:lnTo>
                      <a:pt x="668" y="789"/>
                    </a:lnTo>
                    <a:lnTo>
                      <a:pt x="615" y="814"/>
                    </a:lnTo>
                    <a:lnTo>
                      <a:pt x="561" y="835"/>
                    </a:lnTo>
                    <a:lnTo>
                      <a:pt x="508" y="848"/>
                    </a:lnTo>
                    <a:lnTo>
                      <a:pt x="457" y="858"/>
                    </a:lnTo>
                    <a:lnTo>
                      <a:pt x="402" y="858"/>
                    </a:lnTo>
                    <a:lnTo>
                      <a:pt x="350" y="854"/>
                    </a:lnTo>
                    <a:lnTo>
                      <a:pt x="299" y="843"/>
                    </a:lnTo>
                    <a:lnTo>
                      <a:pt x="251" y="827"/>
                    </a:lnTo>
                    <a:lnTo>
                      <a:pt x="204" y="801"/>
                    </a:lnTo>
                    <a:lnTo>
                      <a:pt x="162" y="770"/>
                    </a:lnTo>
                    <a:lnTo>
                      <a:pt x="122" y="732"/>
                    </a:lnTo>
                    <a:lnTo>
                      <a:pt x="88" y="690"/>
                    </a:lnTo>
                    <a:lnTo>
                      <a:pt x="56" y="637"/>
                    </a:lnTo>
                    <a:lnTo>
                      <a:pt x="33" y="580"/>
                    </a:lnTo>
                    <a:lnTo>
                      <a:pt x="12" y="514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Freeform 62"/>
              <p:cNvSpPr/>
              <p:nvPr/>
            </p:nvSpPr>
            <p:spPr>
              <a:xfrm flipH="1" rot="19783200">
                <a:off x="2321640" y="4546800"/>
                <a:ext cx="43920" cy="4788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87" h="315">
                    <a:moveTo>
                      <a:pt x="55" y="83"/>
                    </a:moveTo>
                    <a:lnTo>
                      <a:pt x="185" y="0"/>
                    </a:lnTo>
                    <a:lnTo>
                      <a:pt x="287" y="9"/>
                    </a:lnTo>
                    <a:lnTo>
                      <a:pt x="151" y="116"/>
                    </a:lnTo>
                    <a:lnTo>
                      <a:pt x="21" y="315"/>
                    </a:lnTo>
                    <a:lnTo>
                      <a:pt x="12" y="298"/>
                    </a:lnTo>
                    <a:lnTo>
                      <a:pt x="8" y="281"/>
                    </a:lnTo>
                    <a:lnTo>
                      <a:pt x="2" y="266"/>
                    </a:lnTo>
                    <a:lnTo>
                      <a:pt x="2" y="253"/>
                    </a:lnTo>
                    <a:lnTo>
                      <a:pt x="0" y="239"/>
                    </a:lnTo>
                    <a:lnTo>
                      <a:pt x="0" y="226"/>
                    </a:lnTo>
                    <a:lnTo>
                      <a:pt x="2" y="213"/>
                    </a:lnTo>
                    <a:lnTo>
                      <a:pt x="6" y="201"/>
                    </a:lnTo>
                    <a:lnTo>
                      <a:pt x="8" y="188"/>
                    </a:lnTo>
                    <a:lnTo>
                      <a:pt x="14" y="175"/>
                    </a:lnTo>
                    <a:lnTo>
                      <a:pt x="19" y="161"/>
                    </a:lnTo>
                    <a:lnTo>
                      <a:pt x="25" y="148"/>
                    </a:lnTo>
                    <a:lnTo>
                      <a:pt x="31" y="133"/>
                    </a:lnTo>
                    <a:lnTo>
                      <a:pt x="38" y="118"/>
                    </a:lnTo>
                    <a:lnTo>
                      <a:pt x="46" y="100"/>
                    </a:lnTo>
                    <a:lnTo>
                      <a:pt x="55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Freeform 63"/>
              <p:cNvSpPr/>
              <p:nvPr/>
            </p:nvSpPr>
            <p:spPr>
              <a:xfrm flipH="1" rot="19783200">
                <a:off x="2295360" y="4719600"/>
                <a:ext cx="37800" cy="67320"/>
              </a:xfrm>
              <a:custGeom>
                <a:avLst/>
                <a:gdLst>
                  <a:gd name="textAreaLeft" fmla="*/ -360 w 37800"/>
                  <a:gd name="textAreaRight" fmla="*/ 37800 w 37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9" h="443">
                    <a:moveTo>
                      <a:pt x="201" y="0"/>
                    </a:moveTo>
                    <a:lnTo>
                      <a:pt x="247" y="3"/>
                    </a:lnTo>
                    <a:lnTo>
                      <a:pt x="247" y="49"/>
                    </a:lnTo>
                    <a:lnTo>
                      <a:pt x="249" y="91"/>
                    </a:lnTo>
                    <a:lnTo>
                      <a:pt x="247" y="127"/>
                    </a:lnTo>
                    <a:lnTo>
                      <a:pt x="245" y="161"/>
                    </a:lnTo>
                    <a:lnTo>
                      <a:pt x="239" y="190"/>
                    </a:lnTo>
                    <a:lnTo>
                      <a:pt x="235" y="216"/>
                    </a:lnTo>
                    <a:lnTo>
                      <a:pt x="226" y="241"/>
                    </a:lnTo>
                    <a:lnTo>
                      <a:pt x="216" y="266"/>
                    </a:lnTo>
                    <a:lnTo>
                      <a:pt x="201" y="285"/>
                    </a:lnTo>
                    <a:lnTo>
                      <a:pt x="184" y="306"/>
                    </a:lnTo>
                    <a:lnTo>
                      <a:pt x="165" y="327"/>
                    </a:lnTo>
                    <a:lnTo>
                      <a:pt x="142" y="348"/>
                    </a:lnTo>
                    <a:lnTo>
                      <a:pt x="114" y="369"/>
                    </a:lnTo>
                    <a:lnTo>
                      <a:pt x="85" y="391"/>
                    </a:lnTo>
                    <a:lnTo>
                      <a:pt x="49" y="414"/>
                    </a:lnTo>
                    <a:lnTo>
                      <a:pt x="11" y="443"/>
                    </a:lnTo>
                    <a:lnTo>
                      <a:pt x="2" y="431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11" y="367"/>
                    </a:lnTo>
                    <a:lnTo>
                      <a:pt x="21" y="336"/>
                    </a:lnTo>
                    <a:lnTo>
                      <a:pt x="36" y="304"/>
                    </a:lnTo>
                    <a:lnTo>
                      <a:pt x="53" y="270"/>
                    </a:lnTo>
                    <a:lnTo>
                      <a:pt x="74" y="235"/>
                    </a:lnTo>
                    <a:lnTo>
                      <a:pt x="91" y="197"/>
                    </a:lnTo>
                    <a:lnTo>
                      <a:pt x="112" y="163"/>
                    </a:lnTo>
                    <a:lnTo>
                      <a:pt x="131" y="127"/>
                    </a:lnTo>
                    <a:lnTo>
                      <a:pt x="152" y="95"/>
                    </a:lnTo>
                    <a:lnTo>
                      <a:pt x="167" y="64"/>
                    </a:lnTo>
                    <a:lnTo>
                      <a:pt x="182" y="38"/>
                    </a:lnTo>
                    <a:lnTo>
                      <a:pt x="192" y="1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Freeform 64"/>
              <p:cNvSpPr/>
              <p:nvPr/>
            </p:nvSpPr>
            <p:spPr>
              <a:xfrm flipH="1" rot="19783200">
                <a:off x="2205720" y="4610880"/>
                <a:ext cx="60120" cy="124200"/>
              </a:xfrm>
              <a:custGeom>
                <a:avLst/>
                <a:gdLst>
                  <a:gd name="textAreaLeft" fmla="*/ -360 w 60120"/>
                  <a:gd name="textAreaRight" fmla="*/ 60120 w 6012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395" h="814">
                    <a:moveTo>
                      <a:pt x="0" y="8"/>
                    </a:moveTo>
                    <a:lnTo>
                      <a:pt x="25" y="2"/>
                    </a:lnTo>
                    <a:lnTo>
                      <a:pt x="49" y="0"/>
                    </a:lnTo>
                    <a:lnTo>
                      <a:pt x="72" y="0"/>
                    </a:lnTo>
                    <a:lnTo>
                      <a:pt x="95" y="4"/>
                    </a:lnTo>
                    <a:lnTo>
                      <a:pt x="116" y="8"/>
                    </a:lnTo>
                    <a:lnTo>
                      <a:pt x="139" y="15"/>
                    </a:lnTo>
                    <a:lnTo>
                      <a:pt x="160" y="21"/>
                    </a:lnTo>
                    <a:lnTo>
                      <a:pt x="181" y="32"/>
                    </a:lnTo>
                    <a:lnTo>
                      <a:pt x="198" y="42"/>
                    </a:lnTo>
                    <a:lnTo>
                      <a:pt x="217" y="55"/>
                    </a:lnTo>
                    <a:lnTo>
                      <a:pt x="234" y="69"/>
                    </a:lnTo>
                    <a:lnTo>
                      <a:pt x="253" y="86"/>
                    </a:lnTo>
                    <a:lnTo>
                      <a:pt x="268" y="101"/>
                    </a:lnTo>
                    <a:lnTo>
                      <a:pt x="283" y="120"/>
                    </a:lnTo>
                    <a:lnTo>
                      <a:pt x="297" y="139"/>
                    </a:lnTo>
                    <a:lnTo>
                      <a:pt x="312" y="162"/>
                    </a:lnTo>
                    <a:lnTo>
                      <a:pt x="348" y="166"/>
                    </a:lnTo>
                    <a:lnTo>
                      <a:pt x="359" y="209"/>
                    </a:lnTo>
                    <a:lnTo>
                      <a:pt x="375" y="259"/>
                    </a:lnTo>
                    <a:lnTo>
                      <a:pt x="384" y="308"/>
                    </a:lnTo>
                    <a:lnTo>
                      <a:pt x="394" y="363"/>
                    </a:lnTo>
                    <a:lnTo>
                      <a:pt x="395" y="415"/>
                    </a:lnTo>
                    <a:lnTo>
                      <a:pt x="395" y="468"/>
                    </a:lnTo>
                    <a:lnTo>
                      <a:pt x="392" y="519"/>
                    </a:lnTo>
                    <a:lnTo>
                      <a:pt x="386" y="573"/>
                    </a:lnTo>
                    <a:lnTo>
                      <a:pt x="369" y="618"/>
                    </a:lnTo>
                    <a:lnTo>
                      <a:pt x="354" y="664"/>
                    </a:lnTo>
                    <a:lnTo>
                      <a:pt x="329" y="702"/>
                    </a:lnTo>
                    <a:lnTo>
                      <a:pt x="300" y="738"/>
                    </a:lnTo>
                    <a:lnTo>
                      <a:pt x="262" y="767"/>
                    </a:lnTo>
                    <a:lnTo>
                      <a:pt x="221" y="789"/>
                    </a:lnTo>
                    <a:lnTo>
                      <a:pt x="171" y="805"/>
                    </a:lnTo>
                    <a:lnTo>
                      <a:pt x="116" y="814"/>
                    </a:lnTo>
                    <a:lnTo>
                      <a:pt x="46" y="806"/>
                    </a:lnTo>
                    <a:lnTo>
                      <a:pt x="46" y="793"/>
                    </a:lnTo>
                    <a:lnTo>
                      <a:pt x="46" y="780"/>
                    </a:lnTo>
                    <a:lnTo>
                      <a:pt x="46" y="767"/>
                    </a:lnTo>
                    <a:lnTo>
                      <a:pt x="47" y="753"/>
                    </a:lnTo>
                    <a:lnTo>
                      <a:pt x="49" y="738"/>
                    </a:lnTo>
                    <a:lnTo>
                      <a:pt x="53" y="723"/>
                    </a:lnTo>
                    <a:lnTo>
                      <a:pt x="55" y="708"/>
                    </a:lnTo>
                    <a:lnTo>
                      <a:pt x="61" y="694"/>
                    </a:lnTo>
                    <a:lnTo>
                      <a:pt x="63" y="677"/>
                    </a:lnTo>
                    <a:lnTo>
                      <a:pt x="67" y="664"/>
                    </a:lnTo>
                    <a:lnTo>
                      <a:pt x="72" y="649"/>
                    </a:lnTo>
                    <a:lnTo>
                      <a:pt x="78" y="637"/>
                    </a:lnTo>
                    <a:lnTo>
                      <a:pt x="84" y="624"/>
                    </a:lnTo>
                    <a:lnTo>
                      <a:pt x="89" y="613"/>
                    </a:lnTo>
                    <a:lnTo>
                      <a:pt x="97" y="601"/>
                    </a:lnTo>
                    <a:lnTo>
                      <a:pt x="105" y="593"/>
                    </a:lnTo>
                    <a:lnTo>
                      <a:pt x="150" y="611"/>
                    </a:lnTo>
                    <a:lnTo>
                      <a:pt x="150" y="622"/>
                    </a:lnTo>
                    <a:lnTo>
                      <a:pt x="154" y="633"/>
                    </a:lnTo>
                    <a:lnTo>
                      <a:pt x="156" y="645"/>
                    </a:lnTo>
                    <a:lnTo>
                      <a:pt x="160" y="656"/>
                    </a:lnTo>
                    <a:lnTo>
                      <a:pt x="162" y="666"/>
                    </a:lnTo>
                    <a:lnTo>
                      <a:pt x="165" y="675"/>
                    </a:lnTo>
                    <a:lnTo>
                      <a:pt x="167" y="683"/>
                    </a:lnTo>
                    <a:lnTo>
                      <a:pt x="171" y="692"/>
                    </a:lnTo>
                    <a:lnTo>
                      <a:pt x="177" y="700"/>
                    </a:lnTo>
                    <a:lnTo>
                      <a:pt x="182" y="704"/>
                    </a:lnTo>
                    <a:lnTo>
                      <a:pt x="188" y="702"/>
                    </a:lnTo>
                    <a:lnTo>
                      <a:pt x="196" y="694"/>
                    </a:lnTo>
                    <a:lnTo>
                      <a:pt x="221" y="590"/>
                    </a:lnTo>
                    <a:lnTo>
                      <a:pt x="226" y="590"/>
                    </a:lnTo>
                    <a:lnTo>
                      <a:pt x="234" y="597"/>
                    </a:lnTo>
                    <a:lnTo>
                      <a:pt x="240" y="607"/>
                    </a:lnTo>
                    <a:lnTo>
                      <a:pt x="247" y="618"/>
                    </a:lnTo>
                    <a:lnTo>
                      <a:pt x="251" y="628"/>
                    </a:lnTo>
                    <a:lnTo>
                      <a:pt x="257" y="639"/>
                    </a:lnTo>
                    <a:lnTo>
                      <a:pt x="262" y="645"/>
                    </a:lnTo>
                    <a:lnTo>
                      <a:pt x="274" y="649"/>
                    </a:lnTo>
                    <a:lnTo>
                      <a:pt x="281" y="624"/>
                    </a:lnTo>
                    <a:lnTo>
                      <a:pt x="289" y="601"/>
                    </a:lnTo>
                    <a:lnTo>
                      <a:pt x="295" y="578"/>
                    </a:lnTo>
                    <a:lnTo>
                      <a:pt x="302" y="555"/>
                    </a:lnTo>
                    <a:lnTo>
                      <a:pt x="306" y="531"/>
                    </a:lnTo>
                    <a:lnTo>
                      <a:pt x="310" y="508"/>
                    </a:lnTo>
                    <a:lnTo>
                      <a:pt x="312" y="485"/>
                    </a:lnTo>
                    <a:lnTo>
                      <a:pt x="316" y="462"/>
                    </a:lnTo>
                    <a:lnTo>
                      <a:pt x="316" y="438"/>
                    </a:lnTo>
                    <a:lnTo>
                      <a:pt x="316" y="415"/>
                    </a:lnTo>
                    <a:lnTo>
                      <a:pt x="314" y="390"/>
                    </a:lnTo>
                    <a:lnTo>
                      <a:pt x="314" y="367"/>
                    </a:lnTo>
                    <a:lnTo>
                      <a:pt x="310" y="342"/>
                    </a:lnTo>
                    <a:lnTo>
                      <a:pt x="308" y="320"/>
                    </a:lnTo>
                    <a:lnTo>
                      <a:pt x="304" y="297"/>
                    </a:lnTo>
                    <a:lnTo>
                      <a:pt x="302" y="274"/>
                    </a:lnTo>
                    <a:lnTo>
                      <a:pt x="262" y="242"/>
                    </a:lnTo>
                    <a:lnTo>
                      <a:pt x="262" y="379"/>
                    </a:lnTo>
                    <a:lnTo>
                      <a:pt x="186" y="257"/>
                    </a:lnTo>
                    <a:lnTo>
                      <a:pt x="190" y="274"/>
                    </a:lnTo>
                    <a:lnTo>
                      <a:pt x="194" y="295"/>
                    </a:lnTo>
                    <a:lnTo>
                      <a:pt x="194" y="306"/>
                    </a:lnTo>
                    <a:lnTo>
                      <a:pt x="194" y="318"/>
                    </a:lnTo>
                    <a:lnTo>
                      <a:pt x="194" y="329"/>
                    </a:lnTo>
                    <a:lnTo>
                      <a:pt x="196" y="341"/>
                    </a:lnTo>
                    <a:lnTo>
                      <a:pt x="194" y="350"/>
                    </a:lnTo>
                    <a:lnTo>
                      <a:pt x="192" y="361"/>
                    </a:lnTo>
                    <a:lnTo>
                      <a:pt x="190" y="373"/>
                    </a:lnTo>
                    <a:lnTo>
                      <a:pt x="190" y="384"/>
                    </a:lnTo>
                    <a:lnTo>
                      <a:pt x="186" y="394"/>
                    </a:lnTo>
                    <a:lnTo>
                      <a:pt x="186" y="405"/>
                    </a:lnTo>
                    <a:lnTo>
                      <a:pt x="182" y="417"/>
                    </a:lnTo>
                    <a:lnTo>
                      <a:pt x="182" y="428"/>
                    </a:lnTo>
                    <a:lnTo>
                      <a:pt x="91" y="287"/>
                    </a:lnTo>
                    <a:lnTo>
                      <a:pt x="87" y="268"/>
                    </a:lnTo>
                    <a:lnTo>
                      <a:pt x="86" y="251"/>
                    </a:lnTo>
                    <a:lnTo>
                      <a:pt x="84" y="232"/>
                    </a:lnTo>
                    <a:lnTo>
                      <a:pt x="82" y="215"/>
                    </a:lnTo>
                    <a:lnTo>
                      <a:pt x="76" y="196"/>
                    </a:lnTo>
                    <a:lnTo>
                      <a:pt x="70" y="179"/>
                    </a:lnTo>
                    <a:lnTo>
                      <a:pt x="65" y="162"/>
                    </a:lnTo>
                    <a:lnTo>
                      <a:pt x="61" y="145"/>
                    </a:lnTo>
                    <a:lnTo>
                      <a:pt x="53" y="126"/>
                    </a:lnTo>
                    <a:lnTo>
                      <a:pt x="46" y="107"/>
                    </a:lnTo>
                    <a:lnTo>
                      <a:pt x="38" y="90"/>
                    </a:lnTo>
                    <a:lnTo>
                      <a:pt x="32" y="72"/>
                    </a:lnTo>
                    <a:lnTo>
                      <a:pt x="23" y="55"/>
                    </a:lnTo>
                    <a:lnTo>
                      <a:pt x="15" y="38"/>
                    </a:lnTo>
                    <a:lnTo>
                      <a:pt x="8" y="2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Freeform 65"/>
              <p:cNvSpPr/>
              <p:nvPr/>
            </p:nvSpPr>
            <p:spPr>
              <a:xfrm flipH="1" rot="19783200">
                <a:off x="2175840" y="4587840"/>
                <a:ext cx="33840" cy="115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0" h="76">
                    <a:moveTo>
                      <a:pt x="0" y="3"/>
                    </a:moveTo>
                    <a:lnTo>
                      <a:pt x="13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85" y="1"/>
                    </a:lnTo>
                    <a:lnTo>
                      <a:pt x="100" y="3"/>
                    </a:lnTo>
                    <a:lnTo>
                      <a:pt x="115" y="9"/>
                    </a:lnTo>
                    <a:lnTo>
                      <a:pt x="129" y="11"/>
                    </a:lnTo>
                    <a:lnTo>
                      <a:pt x="142" y="17"/>
                    </a:lnTo>
                    <a:lnTo>
                      <a:pt x="155" y="22"/>
                    </a:lnTo>
                    <a:lnTo>
                      <a:pt x="171" y="30"/>
                    </a:lnTo>
                    <a:lnTo>
                      <a:pt x="182" y="36"/>
                    </a:lnTo>
                    <a:lnTo>
                      <a:pt x="195" y="45"/>
                    </a:lnTo>
                    <a:lnTo>
                      <a:pt x="207" y="55"/>
                    </a:lnTo>
                    <a:lnTo>
                      <a:pt x="220" y="66"/>
                    </a:lnTo>
                    <a:lnTo>
                      <a:pt x="209" y="60"/>
                    </a:lnTo>
                    <a:lnTo>
                      <a:pt x="197" y="58"/>
                    </a:lnTo>
                    <a:lnTo>
                      <a:pt x="186" y="57"/>
                    </a:lnTo>
                    <a:lnTo>
                      <a:pt x="174" y="57"/>
                    </a:lnTo>
                    <a:lnTo>
                      <a:pt x="163" y="57"/>
                    </a:lnTo>
                    <a:lnTo>
                      <a:pt x="152" y="57"/>
                    </a:lnTo>
                    <a:lnTo>
                      <a:pt x="140" y="57"/>
                    </a:lnTo>
                    <a:lnTo>
                      <a:pt x="129" y="58"/>
                    </a:lnTo>
                    <a:lnTo>
                      <a:pt x="117" y="58"/>
                    </a:lnTo>
                    <a:lnTo>
                      <a:pt x="106" y="60"/>
                    </a:lnTo>
                    <a:lnTo>
                      <a:pt x="95" y="62"/>
                    </a:lnTo>
                    <a:lnTo>
                      <a:pt x="83" y="64"/>
                    </a:lnTo>
                    <a:lnTo>
                      <a:pt x="72" y="66"/>
                    </a:lnTo>
                    <a:lnTo>
                      <a:pt x="60" y="70"/>
                    </a:lnTo>
                    <a:lnTo>
                      <a:pt x="51" y="72"/>
                    </a:lnTo>
                    <a:lnTo>
                      <a:pt x="41" y="7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Freeform 66"/>
              <p:cNvSpPr/>
              <p:nvPr/>
            </p:nvSpPr>
            <p:spPr>
              <a:xfrm flipH="1" rot="19783200">
                <a:off x="2176920" y="4608000"/>
                <a:ext cx="30240" cy="10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0" h="70">
                    <a:moveTo>
                      <a:pt x="0" y="0"/>
                    </a:moveTo>
                    <a:lnTo>
                      <a:pt x="200" y="4"/>
                    </a:lnTo>
                    <a:lnTo>
                      <a:pt x="200" y="19"/>
                    </a:lnTo>
                    <a:lnTo>
                      <a:pt x="194" y="32"/>
                    </a:lnTo>
                    <a:lnTo>
                      <a:pt x="185" y="42"/>
                    </a:lnTo>
                    <a:lnTo>
                      <a:pt x="175" y="53"/>
                    </a:lnTo>
                    <a:lnTo>
                      <a:pt x="158" y="59"/>
                    </a:lnTo>
                    <a:lnTo>
                      <a:pt x="143" y="64"/>
                    </a:lnTo>
                    <a:lnTo>
                      <a:pt x="128" y="68"/>
                    </a:lnTo>
                    <a:lnTo>
                      <a:pt x="11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Freeform 67"/>
              <p:cNvSpPr/>
              <p:nvPr/>
            </p:nvSpPr>
            <p:spPr>
              <a:xfrm flipH="1" rot="19783200">
                <a:off x="2174400" y="4655160"/>
                <a:ext cx="42480" cy="691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80" h="452">
                    <a:moveTo>
                      <a:pt x="0" y="21"/>
                    </a:moveTo>
                    <a:lnTo>
                      <a:pt x="65" y="2"/>
                    </a:lnTo>
                    <a:lnTo>
                      <a:pt x="122" y="0"/>
                    </a:lnTo>
                    <a:lnTo>
                      <a:pt x="170" y="11"/>
                    </a:lnTo>
                    <a:lnTo>
                      <a:pt x="210" y="38"/>
                    </a:lnTo>
                    <a:lnTo>
                      <a:pt x="238" y="70"/>
                    </a:lnTo>
                    <a:lnTo>
                      <a:pt x="261" y="114"/>
                    </a:lnTo>
                    <a:lnTo>
                      <a:pt x="274" y="163"/>
                    </a:lnTo>
                    <a:lnTo>
                      <a:pt x="280" y="215"/>
                    </a:lnTo>
                    <a:lnTo>
                      <a:pt x="274" y="264"/>
                    </a:lnTo>
                    <a:lnTo>
                      <a:pt x="263" y="315"/>
                    </a:lnTo>
                    <a:lnTo>
                      <a:pt x="244" y="361"/>
                    </a:lnTo>
                    <a:lnTo>
                      <a:pt x="217" y="401"/>
                    </a:lnTo>
                    <a:lnTo>
                      <a:pt x="181" y="429"/>
                    </a:lnTo>
                    <a:lnTo>
                      <a:pt x="139" y="448"/>
                    </a:lnTo>
                    <a:lnTo>
                      <a:pt x="86" y="452"/>
                    </a:lnTo>
                    <a:lnTo>
                      <a:pt x="33" y="445"/>
                    </a:lnTo>
                    <a:lnTo>
                      <a:pt x="42" y="336"/>
                    </a:lnTo>
                    <a:lnTo>
                      <a:pt x="156" y="340"/>
                    </a:lnTo>
                    <a:lnTo>
                      <a:pt x="166" y="329"/>
                    </a:lnTo>
                    <a:lnTo>
                      <a:pt x="174" y="319"/>
                    </a:lnTo>
                    <a:lnTo>
                      <a:pt x="179" y="308"/>
                    </a:lnTo>
                    <a:lnTo>
                      <a:pt x="187" y="298"/>
                    </a:lnTo>
                    <a:lnTo>
                      <a:pt x="191" y="287"/>
                    </a:lnTo>
                    <a:lnTo>
                      <a:pt x="194" y="275"/>
                    </a:lnTo>
                    <a:lnTo>
                      <a:pt x="198" y="264"/>
                    </a:lnTo>
                    <a:lnTo>
                      <a:pt x="202" y="253"/>
                    </a:lnTo>
                    <a:lnTo>
                      <a:pt x="202" y="239"/>
                    </a:lnTo>
                    <a:lnTo>
                      <a:pt x="204" y="226"/>
                    </a:lnTo>
                    <a:lnTo>
                      <a:pt x="204" y="215"/>
                    </a:lnTo>
                    <a:lnTo>
                      <a:pt x="204" y="203"/>
                    </a:lnTo>
                    <a:lnTo>
                      <a:pt x="202" y="190"/>
                    </a:lnTo>
                    <a:lnTo>
                      <a:pt x="202" y="177"/>
                    </a:lnTo>
                    <a:lnTo>
                      <a:pt x="202" y="165"/>
                    </a:lnTo>
                    <a:lnTo>
                      <a:pt x="202" y="154"/>
                    </a:lnTo>
                    <a:lnTo>
                      <a:pt x="177" y="150"/>
                    </a:lnTo>
                    <a:lnTo>
                      <a:pt x="147" y="220"/>
                    </a:lnTo>
                    <a:lnTo>
                      <a:pt x="115" y="137"/>
                    </a:lnTo>
                    <a:lnTo>
                      <a:pt x="84" y="228"/>
                    </a:lnTo>
                    <a:lnTo>
                      <a:pt x="75" y="222"/>
                    </a:lnTo>
                    <a:lnTo>
                      <a:pt x="59" y="222"/>
                    </a:lnTo>
                    <a:lnTo>
                      <a:pt x="50" y="224"/>
                    </a:lnTo>
                    <a:lnTo>
                      <a:pt x="46" y="234"/>
                    </a:lnTo>
                    <a:lnTo>
                      <a:pt x="40" y="218"/>
                    </a:lnTo>
                    <a:lnTo>
                      <a:pt x="39" y="207"/>
                    </a:lnTo>
                    <a:lnTo>
                      <a:pt x="33" y="192"/>
                    </a:lnTo>
                    <a:lnTo>
                      <a:pt x="33" y="180"/>
                    </a:lnTo>
                    <a:lnTo>
                      <a:pt x="29" y="165"/>
                    </a:lnTo>
                    <a:lnTo>
                      <a:pt x="27" y="154"/>
                    </a:lnTo>
                    <a:lnTo>
                      <a:pt x="23" y="139"/>
                    </a:lnTo>
                    <a:lnTo>
                      <a:pt x="23" y="127"/>
                    </a:lnTo>
                    <a:lnTo>
                      <a:pt x="21" y="112"/>
                    </a:lnTo>
                    <a:lnTo>
                      <a:pt x="19" y="99"/>
                    </a:lnTo>
                    <a:lnTo>
                      <a:pt x="18" y="83"/>
                    </a:lnTo>
                    <a:lnTo>
                      <a:pt x="16" y="70"/>
                    </a:lnTo>
                    <a:lnTo>
                      <a:pt x="12" y="57"/>
                    </a:lnTo>
                    <a:lnTo>
                      <a:pt x="8" y="43"/>
                    </a:lnTo>
                    <a:lnTo>
                      <a:pt x="4" y="3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Freeform 68"/>
              <p:cNvSpPr/>
              <p:nvPr/>
            </p:nvSpPr>
            <p:spPr>
              <a:xfrm flipH="1" rot="19783200">
                <a:off x="2527560" y="4416840"/>
                <a:ext cx="381240" cy="3456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501" h="229">
                    <a:moveTo>
                      <a:pt x="46" y="145"/>
                    </a:moveTo>
                    <a:lnTo>
                      <a:pt x="843" y="113"/>
                    </a:lnTo>
                    <a:lnTo>
                      <a:pt x="1729" y="57"/>
                    </a:lnTo>
                    <a:lnTo>
                      <a:pt x="1679" y="16"/>
                    </a:lnTo>
                    <a:lnTo>
                      <a:pt x="2044" y="0"/>
                    </a:lnTo>
                    <a:lnTo>
                      <a:pt x="1921" y="57"/>
                    </a:lnTo>
                    <a:lnTo>
                      <a:pt x="2098" y="137"/>
                    </a:lnTo>
                    <a:lnTo>
                      <a:pt x="2501" y="137"/>
                    </a:lnTo>
                    <a:lnTo>
                      <a:pt x="2023" y="194"/>
                    </a:lnTo>
                    <a:lnTo>
                      <a:pt x="1907" y="120"/>
                    </a:lnTo>
                    <a:lnTo>
                      <a:pt x="1778" y="187"/>
                    </a:lnTo>
                    <a:lnTo>
                      <a:pt x="1742" y="99"/>
                    </a:lnTo>
                    <a:lnTo>
                      <a:pt x="1613" y="183"/>
                    </a:lnTo>
                    <a:lnTo>
                      <a:pt x="1563" y="124"/>
                    </a:lnTo>
                    <a:lnTo>
                      <a:pt x="1438" y="166"/>
                    </a:lnTo>
                    <a:lnTo>
                      <a:pt x="1407" y="124"/>
                    </a:lnTo>
                    <a:lnTo>
                      <a:pt x="1291" y="183"/>
                    </a:lnTo>
                    <a:lnTo>
                      <a:pt x="1250" y="103"/>
                    </a:lnTo>
                    <a:lnTo>
                      <a:pt x="966" y="208"/>
                    </a:lnTo>
                    <a:lnTo>
                      <a:pt x="934" y="124"/>
                    </a:lnTo>
                    <a:lnTo>
                      <a:pt x="660" y="187"/>
                    </a:lnTo>
                    <a:lnTo>
                      <a:pt x="423" y="183"/>
                    </a:lnTo>
                    <a:lnTo>
                      <a:pt x="327" y="229"/>
                    </a:lnTo>
                    <a:lnTo>
                      <a:pt x="0" y="219"/>
                    </a:lnTo>
                    <a:lnTo>
                      <a:pt x="46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Freeform 69"/>
              <p:cNvSpPr/>
              <p:nvPr/>
            </p:nvSpPr>
            <p:spPr>
              <a:xfrm flipH="1" rot="19783200">
                <a:off x="2812680" y="4414680"/>
                <a:ext cx="86040" cy="8928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5" h="586">
                    <a:moveTo>
                      <a:pt x="291" y="0"/>
                    </a:moveTo>
                    <a:lnTo>
                      <a:pt x="407" y="4"/>
                    </a:lnTo>
                    <a:lnTo>
                      <a:pt x="352" y="63"/>
                    </a:lnTo>
                    <a:lnTo>
                      <a:pt x="460" y="88"/>
                    </a:lnTo>
                    <a:lnTo>
                      <a:pt x="382" y="190"/>
                    </a:lnTo>
                    <a:lnTo>
                      <a:pt x="485" y="242"/>
                    </a:lnTo>
                    <a:lnTo>
                      <a:pt x="407" y="344"/>
                    </a:lnTo>
                    <a:lnTo>
                      <a:pt x="477" y="378"/>
                    </a:lnTo>
                    <a:lnTo>
                      <a:pt x="428" y="453"/>
                    </a:lnTo>
                    <a:lnTo>
                      <a:pt x="565" y="536"/>
                    </a:lnTo>
                    <a:lnTo>
                      <a:pt x="415" y="586"/>
                    </a:lnTo>
                    <a:lnTo>
                      <a:pt x="344" y="329"/>
                    </a:lnTo>
                    <a:lnTo>
                      <a:pt x="0" y="320"/>
                    </a:lnTo>
                    <a:lnTo>
                      <a:pt x="249" y="266"/>
                    </a:lnTo>
                    <a:lnTo>
                      <a:pt x="215" y="207"/>
                    </a:lnTo>
                    <a:lnTo>
                      <a:pt x="323" y="162"/>
                    </a:lnTo>
                    <a:lnTo>
                      <a:pt x="221" y="53"/>
                    </a:lnTo>
                    <a:lnTo>
                      <a:pt x="352" y="74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Freeform 70"/>
              <p:cNvSpPr/>
              <p:nvPr/>
            </p:nvSpPr>
            <p:spPr>
              <a:xfrm flipH="1" rot="19783200">
                <a:off x="2915280" y="4438080"/>
                <a:ext cx="15840" cy="298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05" h="196">
                    <a:moveTo>
                      <a:pt x="91" y="0"/>
                    </a:moveTo>
                    <a:lnTo>
                      <a:pt x="105" y="196"/>
                    </a:lnTo>
                    <a:lnTo>
                      <a:pt x="0" y="183"/>
                    </a:lnTo>
                    <a:lnTo>
                      <a:pt x="91" y="92"/>
                    </a:lnTo>
                    <a:lnTo>
                      <a:pt x="34" y="1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Freeform 71"/>
              <p:cNvSpPr/>
              <p:nvPr/>
            </p:nvSpPr>
            <p:spPr>
              <a:xfrm flipH="1" rot="19783200">
                <a:off x="2460600" y="4545000"/>
                <a:ext cx="40680" cy="529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8" h="348">
                    <a:moveTo>
                      <a:pt x="0" y="0"/>
                    </a:moveTo>
                    <a:lnTo>
                      <a:pt x="25" y="190"/>
                    </a:lnTo>
                    <a:lnTo>
                      <a:pt x="91" y="316"/>
                    </a:lnTo>
                    <a:lnTo>
                      <a:pt x="112" y="253"/>
                    </a:lnTo>
                    <a:lnTo>
                      <a:pt x="194" y="348"/>
                    </a:lnTo>
                    <a:lnTo>
                      <a:pt x="194" y="281"/>
                    </a:lnTo>
                    <a:lnTo>
                      <a:pt x="268" y="323"/>
                    </a:lnTo>
                    <a:lnTo>
                      <a:pt x="234" y="148"/>
                    </a:lnTo>
                    <a:lnTo>
                      <a:pt x="165" y="200"/>
                    </a:lnTo>
                    <a:lnTo>
                      <a:pt x="145" y="28"/>
                    </a:lnTo>
                    <a:lnTo>
                      <a:pt x="91" y="137"/>
                    </a:lnTo>
                    <a:lnTo>
                      <a:pt x="70" y="4"/>
                    </a:lnTo>
                    <a:lnTo>
                      <a:pt x="36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Freeform 72"/>
              <p:cNvSpPr/>
              <p:nvPr/>
            </p:nvSpPr>
            <p:spPr>
              <a:xfrm flipH="1" rot="19783200">
                <a:off x="2345400" y="4582800"/>
                <a:ext cx="126000" cy="12960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25" h="846">
                    <a:moveTo>
                      <a:pt x="0" y="0"/>
                    </a:moveTo>
                    <a:lnTo>
                      <a:pt x="29" y="365"/>
                    </a:lnTo>
                    <a:lnTo>
                      <a:pt x="133" y="407"/>
                    </a:lnTo>
                    <a:lnTo>
                      <a:pt x="103" y="485"/>
                    </a:lnTo>
                    <a:lnTo>
                      <a:pt x="186" y="544"/>
                    </a:lnTo>
                    <a:lnTo>
                      <a:pt x="173" y="618"/>
                    </a:lnTo>
                    <a:lnTo>
                      <a:pt x="253" y="670"/>
                    </a:lnTo>
                    <a:lnTo>
                      <a:pt x="240" y="702"/>
                    </a:lnTo>
                    <a:lnTo>
                      <a:pt x="344" y="723"/>
                    </a:lnTo>
                    <a:lnTo>
                      <a:pt x="435" y="806"/>
                    </a:lnTo>
                    <a:lnTo>
                      <a:pt x="502" y="786"/>
                    </a:lnTo>
                    <a:lnTo>
                      <a:pt x="531" y="839"/>
                    </a:lnTo>
                    <a:lnTo>
                      <a:pt x="667" y="789"/>
                    </a:lnTo>
                    <a:lnTo>
                      <a:pt x="677" y="846"/>
                    </a:lnTo>
                    <a:lnTo>
                      <a:pt x="793" y="825"/>
                    </a:lnTo>
                    <a:lnTo>
                      <a:pt x="763" y="768"/>
                    </a:lnTo>
                    <a:lnTo>
                      <a:pt x="825" y="727"/>
                    </a:lnTo>
                    <a:lnTo>
                      <a:pt x="576" y="734"/>
                    </a:lnTo>
                    <a:lnTo>
                      <a:pt x="365" y="670"/>
                    </a:lnTo>
                    <a:lnTo>
                      <a:pt x="207" y="474"/>
                    </a:lnTo>
                    <a:lnTo>
                      <a:pt x="179" y="186"/>
                    </a:lnTo>
                    <a:lnTo>
                      <a:pt x="103" y="323"/>
                    </a:lnTo>
                    <a:lnTo>
                      <a:pt x="5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Freeform 73"/>
              <p:cNvSpPr/>
              <p:nvPr/>
            </p:nvSpPr>
            <p:spPr>
              <a:xfrm flipH="1" rot="19783200">
                <a:off x="2244960" y="4516920"/>
                <a:ext cx="152640" cy="160200"/>
              </a:xfrm>
              <a:custGeom>
                <a:avLst/>
                <a:gdLst>
                  <a:gd name="textAreaLeft" fmla="*/ 360 w 152640"/>
                  <a:gd name="textAreaRight" fmla="*/ 153360 w 152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000" h="1048">
                    <a:moveTo>
                      <a:pt x="0" y="112"/>
                    </a:moveTo>
                    <a:lnTo>
                      <a:pt x="171" y="17"/>
                    </a:lnTo>
                    <a:lnTo>
                      <a:pt x="287" y="0"/>
                    </a:lnTo>
                    <a:lnTo>
                      <a:pt x="395" y="72"/>
                    </a:lnTo>
                    <a:lnTo>
                      <a:pt x="466" y="17"/>
                    </a:lnTo>
                    <a:lnTo>
                      <a:pt x="578" y="121"/>
                    </a:lnTo>
                    <a:lnTo>
                      <a:pt x="623" y="62"/>
                    </a:lnTo>
                    <a:lnTo>
                      <a:pt x="684" y="196"/>
                    </a:lnTo>
                    <a:lnTo>
                      <a:pt x="747" y="158"/>
                    </a:lnTo>
                    <a:lnTo>
                      <a:pt x="789" y="325"/>
                    </a:lnTo>
                    <a:lnTo>
                      <a:pt x="859" y="262"/>
                    </a:lnTo>
                    <a:lnTo>
                      <a:pt x="863" y="428"/>
                    </a:lnTo>
                    <a:lnTo>
                      <a:pt x="926" y="420"/>
                    </a:lnTo>
                    <a:lnTo>
                      <a:pt x="975" y="574"/>
                    </a:lnTo>
                    <a:lnTo>
                      <a:pt x="1000" y="764"/>
                    </a:lnTo>
                    <a:lnTo>
                      <a:pt x="1000" y="1048"/>
                    </a:lnTo>
                    <a:lnTo>
                      <a:pt x="975" y="869"/>
                    </a:lnTo>
                    <a:lnTo>
                      <a:pt x="905" y="1038"/>
                    </a:lnTo>
                    <a:lnTo>
                      <a:pt x="905" y="911"/>
                    </a:lnTo>
                    <a:lnTo>
                      <a:pt x="859" y="981"/>
                    </a:lnTo>
                    <a:lnTo>
                      <a:pt x="914" y="690"/>
                    </a:lnTo>
                    <a:lnTo>
                      <a:pt x="884" y="574"/>
                    </a:lnTo>
                    <a:lnTo>
                      <a:pt x="852" y="606"/>
                    </a:lnTo>
                    <a:lnTo>
                      <a:pt x="776" y="374"/>
                    </a:lnTo>
                    <a:lnTo>
                      <a:pt x="614" y="178"/>
                    </a:lnTo>
                    <a:lnTo>
                      <a:pt x="452" y="121"/>
                    </a:lnTo>
                    <a:lnTo>
                      <a:pt x="211" y="133"/>
                    </a:lnTo>
                    <a:lnTo>
                      <a:pt x="38" y="249"/>
                    </a:lnTo>
                    <a:lnTo>
                      <a:pt x="175" y="6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Freeform 74"/>
              <p:cNvSpPr/>
              <p:nvPr/>
            </p:nvSpPr>
            <p:spPr>
              <a:xfrm flipH="1" rot="19783200">
                <a:off x="2228760" y="4668480"/>
                <a:ext cx="17640" cy="345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16" h="224">
                    <a:moveTo>
                      <a:pt x="116" y="0"/>
                    </a:moveTo>
                    <a:lnTo>
                      <a:pt x="91" y="200"/>
                    </a:lnTo>
                    <a:lnTo>
                      <a:pt x="65" y="158"/>
                    </a:lnTo>
                    <a:lnTo>
                      <a:pt x="4" y="224"/>
                    </a:lnTo>
                    <a:lnTo>
                      <a:pt x="0" y="66"/>
                    </a:lnTo>
                    <a:lnTo>
                      <a:pt x="50" y="101"/>
                    </a:lnTo>
                    <a:lnTo>
                      <a:pt x="53" y="13"/>
                    </a:lnTo>
                    <a:lnTo>
                      <a:pt x="82" y="4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Freeform 75"/>
              <p:cNvSpPr/>
              <p:nvPr/>
            </p:nvSpPr>
            <p:spPr>
              <a:xfrm flipH="1" rot="19783200">
                <a:off x="2190960" y="4688640"/>
                <a:ext cx="15840" cy="140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04" h="95">
                    <a:moveTo>
                      <a:pt x="0" y="29"/>
                    </a:moveTo>
                    <a:lnTo>
                      <a:pt x="0" y="95"/>
                    </a:lnTo>
                    <a:lnTo>
                      <a:pt x="72" y="92"/>
                    </a:lnTo>
                    <a:lnTo>
                      <a:pt x="104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Group 76"/>
          <p:cNvGrpSpPr/>
          <p:nvPr/>
        </p:nvGrpSpPr>
        <p:grpSpPr>
          <a:xfrm>
            <a:off x="2121840" y="4768920"/>
            <a:ext cx="5182920" cy="644040"/>
            <a:chOff x="2121840" y="4768920"/>
            <a:chExt cx="5182920" cy="644040"/>
          </a:xfrm>
        </p:grpSpPr>
        <p:sp>
          <p:nvSpPr>
            <p:cNvPr id="228" name="Text Box 77"/>
            <p:cNvSpPr/>
            <p:nvPr/>
          </p:nvSpPr>
          <p:spPr>
            <a:xfrm>
              <a:off x="2957400" y="4768920"/>
              <a:ext cx="434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os sujetos diferentes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78"/>
            <p:cNvGrpSpPr/>
            <p:nvPr/>
          </p:nvGrpSpPr>
          <p:grpSpPr>
            <a:xfrm>
              <a:off x="2121840" y="4860360"/>
              <a:ext cx="887760" cy="552600"/>
              <a:chOff x="2121840" y="4860360"/>
              <a:chExt cx="887760" cy="552600"/>
            </a:xfrm>
          </p:grpSpPr>
          <p:sp>
            <p:nvSpPr>
              <p:cNvPr id="230" name="Freeform 79"/>
              <p:cNvSpPr/>
              <p:nvPr/>
            </p:nvSpPr>
            <p:spPr>
              <a:xfrm flipH="1" rot="19783200">
                <a:off x="2278800" y="5209920"/>
                <a:ext cx="217800" cy="155880"/>
              </a:xfrm>
              <a:custGeom>
                <a:avLst/>
                <a:gdLst>
                  <a:gd name="textAreaLeft" fmla="*/ -360 w 217800"/>
                  <a:gd name="textAreaRight" fmla="*/ 217800 w 2178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426" h="1021">
                    <a:moveTo>
                      <a:pt x="0" y="74"/>
                    </a:moveTo>
                    <a:lnTo>
                      <a:pt x="331" y="63"/>
                    </a:lnTo>
                    <a:lnTo>
                      <a:pt x="381" y="432"/>
                    </a:lnTo>
                    <a:lnTo>
                      <a:pt x="609" y="614"/>
                    </a:lnTo>
                    <a:lnTo>
                      <a:pt x="875" y="614"/>
                    </a:lnTo>
                    <a:lnTo>
                      <a:pt x="1069" y="333"/>
                    </a:lnTo>
                    <a:lnTo>
                      <a:pt x="1114" y="0"/>
                    </a:lnTo>
                    <a:lnTo>
                      <a:pt x="1409" y="29"/>
                    </a:lnTo>
                    <a:lnTo>
                      <a:pt x="1426" y="327"/>
                    </a:lnTo>
                    <a:lnTo>
                      <a:pt x="1219" y="747"/>
                    </a:lnTo>
                    <a:lnTo>
                      <a:pt x="759" y="1021"/>
                    </a:lnTo>
                    <a:lnTo>
                      <a:pt x="306" y="863"/>
                    </a:lnTo>
                    <a:lnTo>
                      <a:pt x="44" y="49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Freeform 80"/>
              <p:cNvSpPr/>
              <p:nvPr/>
            </p:nvSpPr>
            <p:spPr>
              <a:xfrm flipH="1" rot="19783200">
                <a:off x="2145960" y="5119920"/>
                <a:ext cx="304920" cy="178920"/>
              </a:xfrm>
              <a:custGeom>
                <a:avLst/>
                <a:gdLst>
                  <a:gd name="textAreaLeft" fmla="*/ -360 w 304920"/>
                  <a:gd name="textAreaRight" fmla="*/ 304920 w 3049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999" h="1172">
                    <a:moveTo>
                      <a:pt x="0" y="930"/>
                    </a:moveTo>
                    <a:lnTo>
                      <a:pt x="373" y="922"/>
                    </a:lnTo>
                    <a:lnTo>
                      <a:pt x="436" y="498"/>
                    </a:lnTo>
                    <a:lnTo>
                      <a:pt x="647" y="306"/>
                    </a:lnTo>
                    <a:lnTo>
                      <a:pt x="875" y="361"/>
                    </a:lnTo>
                    <a:lnTo>
                      <a:pt x="1078" y="527"/>
                    </a:lnTo>
                    <a:lnTo>
                      <a:pt x="1137" y="905"/>
                    </a:lnTo>
                    <a:lnTo>
                      <a:pt x="1464" y="898"/>
                    </a:lnTo>
                    <a:lnTo>
                      <a:pt x="1493" y="1172"/>
                    </a:lnTo>
                    <a:lnTo>
                      <a:pt x="1689" y="1080"/>
                    </a:lnTo>
                    <a:lnTo>
                      <a:pt x="1742" y="905"/>
                    </a:lnTo>
                    <a:lnTo>
                      <a:pt x="1890" y="913"/>
                    </a:lnTo>
                    <a:lnTo>
                      <a:pt x="1999" y="814"/>
                    </a:lnTo>
                    <a:lnTo>
                      <a:pt x="1919" y="603"/>
                    </a:lnTo>
                    <a:lnTo>
                      <a:pt x="1689" y="603"/>
                    </a:lnTo>
                    <a:lnTo>
                      <a:pt x="1510" y="445"/>
                    </a:lnTo>
                    <a:lnTo>
                      <a:pt x="1299" y="348"/>
                    </a:lnTo>
                    <a:lnTo>
                      <a:pt x="1040" y="91"/>
                    </a:lnTo>
                    <a:lnTo>
                      <a:pt x="639" y="0"/>
                    </a:lnTo>
                    <a:lnTo>
                      <a:pt x="268" y="91"/>
                    </a:lnTo>
                    <a:lnTo>
                      <a:pt x="90" y="428"/>
                    </a:lnTo>
                    <a:lnTo>
                      <a:pt x="0" y="831"/>
                    </a:lnTo>
                    <a:lnTo>
                      <a:pt x="0" y="9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Freeform 81"/>
              <p:cNvSpPr/>
              <p:nvPr/>
            </p:nvSpPr>
            <p:spPr>
              <a:xfrm flipH="1" rot="19783200">
                <a:off x="2774880" y="5053320"/>
                <a:ext cx="34560" cy="9756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28" h="639">
                    <a:moveTo>
                      <a:pt x="0" y="59"/>
                    </a:moveTo>
                    <a:lnTo>
                      <a:pt x="46" y="639"/>
                    </a:lnTo>
                    <a:lnTo>
                      <a:pt x="228" y="428"/>
                    </a:lnTo>
                    <a:lnTo>
                      <a:pt x="165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Freeform 82"/>
              <p:cNvSpPr/>
              <p:nvPr/>
            </p:nvSpPr>
            <p:spPr>
              <a:xfrm flipH="1" rot="19783200">
                <a:off x="2435400" y="4982400"/>
                <a:ext cx="541440" cy="222480"/>
              </a:xfrm>
              <a:custGeom>
                <a:avLst/>
                <a:gdLst>
                  <a:gd name="textAreaLeft" fmla="*/ 360 w 541440"/>
                  <a:gd name="textAreaRight" fmla="*/ 542160 w 54144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546" h="1458">
                    <a:moveTo>
                      <a:pt x="0" y="595"/>
                    </a:moveTo>
                    <a:lnTo>
                      <a:pt x="257" y="722"/>
                    </a:lnTo>
                    <a:lnTo>
                      <a:pt x="278" y="1424"/>
                    </a:lnTo>
                    <a:lnTo>
                      <a:pt x="552" y="1458"/>
                    </a:lnTo>
                    <a:lnTo>
                      <a:pt x="618" y="1200"/>
                    </a:lnTo>
                    <a:lnTo>
                      <a:pt x="839" y="1192"/>
                    </a:lnTo>
                    <a:lnTo>
                      <a:pt x="922" y="1449"/>
                    </a:lnTo>
                    <a:lnTo>
                      <a:pt x="1207" y="1441"/>
                    </a:lnTo>
                    <a:lnTo>
                      <a:pt x="1217" y="722"/>
                    </a:lnTo>
                    <a:lnTo>
                      <a:pt x="3092" y="574"/>
                    </a:lnTo>
                    <a:lnTo>
                      <a:pt x="3337" y="789"/>
                    </a:lnTo>
                    <a:lnTo>
                      <a:pt x="3546" y="785"/>
                    </a:lnTo>
                    <a:lnTo>
                      <a:pt x="3464" y="216"/>
                    </a:lnTo>
                    <a:lnTo>
                      <a:pt x="3432" y="0"/>
                    </a:lnTo>
                    <a:lnTo>
                      <a:pt x="3215" y="59"/>
                    </a:lnTo>
                    <a:lnTo>
                      <a:pt x="3088" y="291"/>
                    </a:lnTo>
                    <a:lnTo>
                      <a:pt x="2232" y="279"/>
                    </a:lnTo>
                    <a:lnTo>
                      <a:pt x="1055" y="346"/>
                    </a:lnTo>
                    <a:lnTo>
                      <a:pt x="187" y="378"/>
                    </a:lnTo>
                    <a:lnTo>
                      <a:pt x="17" y="445"/>
                    </a:lnTo>
                    <a:lnTo>
                      <a:pt x="0" y="595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Freeform 83"/>
              <p:cNvSpPr/>
              <p:nvPr/>
            </p:nvSpPr>
            <p:spPr>
              <a:xfrm flipH="1" rot="19783200">
                <a:off x="2200680" y="5045760"/>
                <a:ext cx="423360" cy="200520"/>
              </a:xfrm>
              <a:custGeom>
                <a:avLst/>
                <a:gdLst>
                  <a:gd name="textAreaLeft" fmla="*/ 360 w 423360"/>
                  <a:gd name="textAreaRight" fmla="*/ 424080 w 4233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770" h="1314">
                    <a:moveTo>
                      <a:pt x="7" y="848"/>
                    </a:moveTo>
                    <a:lnTo>
                      <a:pt x="59" y="840"/>
                    </a:lnTo>
                    <a:lnTo>
                      <a:pt x="112" y="835"/>
                    </a:lnTo>
                    <a:lnTo>
                      <a:pt x="165" y="831"/>
                    </a:lnTo>
                    <a:lnTo>
                      <a:pt x="219" y="827"/>
                    </a:lnTo>
                    <a:lnTo>
                      <a:pt x="272" y="821"/>
                    </a:lnTo>
                    <a:lnTo>
                      <a:pt x="325" y="819"/>
                    </a:lnTo>
                    <a:lnTo>
                      <a:pt x="378" y="816"/>
                    </a:lnTo>
                    <a:lnTo>
                      <a:pt x="431" y="816"/>
                    </a:lnTo>
                    <a:lnTo>
                      <a:pt x="483" y="812"/>
                    </a:lnTo>
                    <a:lnTo>
                      <a:pt x="536" y="810"/>
                    </a:lnTo>
                    <a:lnTo>
                      <a:pt x="589" y="806"/>
                    </a:lnTo>
                    <a:lnTo>
                      <a:pt x="643" y="806"/>
                    </a:lnTo>
                    <a:lnTo>
                      <a:pt x="696" y="804"/>
                    </a:lnTo>
                    <a:lnTo>
                      <a:pt x="749" y="804"/>
                    </a:lnTo>
                    <a:lnTo>
                      <a:pt x="802" y="802"/>
                    </a:lnTo>
                    <a:lnTo>
                      <a:pt x="857" y="802"/>
                    </a:lnTo>
                    <a:lnTo>
                      <a:pt x="865" y="768"/>
                    </a:lnTo>
                    <a:lnTo>
                      <a:pt x="876" y="738"/>
                    </a:lnTo>
                    <a:lnTo>
                      <a:pt x="890" y="707"/>
                    </a:lnTo>
                    <a:lnTo>
                      <a:pt x="907" y="679"/>
                    </a:lnTo>
                    <a:lnTo>
                      <a:pt x="924" y="650"/>
                    </a:lnTo>
                    <a:lnTo>
                      <a:pt x="947" y="624"/>
                    </a:lnTo>
                    <a:lnTo>
                      <a:pt x="970" y="601"/>
                    </a:lnTo>
                    <a:lnTo>
                      <a:pt x="998" y="580"/>
                    </a:lnTo>
                    <a:lnTo>
                      <a:pt x="1023" y="561"/>
                    </a:lnTo>
                    <a:lnTo>
                      <a:pt x="1053" y="546"/>
                    </a:lnTo>
                    <a:lnTo>
                      <a:pt x="1082" y="532"/>
                    </a:lnTo>
                    <a:lnTo>
                      <a:pt x="1114" y="527"/>
                    </a:lnTo>
                    <a:lnTo>
                      <a:pt x="1144" y="521"/>
                    </a:lnTo>
                    <a:lnTo>
                      <a:pt x="1179" y="523"/>
                    </a:lnTo>
                    <a:lnTo>
                      <a:pt x="1211" y="528"/>
                    </a:lnTo>
                    <a:lnTo>
                      <a:pt x="1247" y="542"/>
                    </a:lnTo>
                    <a:lnTo>
                      <a:pt x="1255" y="544"/>
                    </a:lnTo>
                    <a:lnTo>
                      <a:pt x="1259" y="538"/>
                    </a:lnTo>
                    <a:lnTo>
                      <a:pt x="1274" y="525"/>
                    </a:lnTo>
                    <a:lnTo>
                      <a:pt x="1346" y="346"/>
                    </a:lnTo>
                    <a:lnTo>
                      <a:pt x="1445" y="207"/>
                    </a:lnTo>
                    <a:lnTo>
                      <a:pt x="1563" y="104"/>
                    </a:lnTo>
                    <a:lnTo>
                      <a:pt x="1698" y="40"/>
                    </a:lnTo>
                    <a:lnTo>
                      <a:pt x="1838" y="4"/>
                    </a:lnTo>
                    <a:lnTo>
                      <a:pt x="1987" y="0"/>
                    </a:lnTo>
                    <a:lnTo>
                      <a:pt x="2135" y="26"/>
                    </a:lnTo>
                    <a:lnTo>
                      <a:pt x="2280" y="82"/>
                    </a:lnTo>
                    <a:lnTo>
                      <a:pt x="2411" y="159"/>
                    </a:lnTo>
                    <a:lnTo>
                      <a:pt x="2530" y="264"/>
                    </a:lnTo>
                    <a:lnTo>
                      <a:pt x="2631" y="390"/>
                    </a:lnTo>
                    <a:lnTo>
                      <a:pt x="2709" y="540"/>
                    </a:lnTo>
                    <a:lnTo>
                      <a:pt x="2757" y="705"/>
                    </a:lnTo>
                    <a:lnTo>
                      <a:pt x="2770" y="892"/>
                    </a:lnTo>
                    <a:lnTo>
                      <a:pt x="2747" y="1093"/>
                    </a:lnTo>
                    <a:lnTo>
                      <a:pt x="2683" y="1310"/>
                    </a:lnTo>
                    <a:lnTo>
                      <a:pt x="2624" y="1264"/>
                    </a:lnTo>
                    <a:lnTo>
                      <a:pt x="2631" y="1219"/>
                    </a:lnTo>
                    <a:lnTo>
                      <a:pt x="2639" y="1173"/>
                    </a:lnTo>
                    <a:lnTo>
                      <a:pt x="2643" y="1126"/>
                    </a:lnTo>
                    <a:lnTo>
                      <a:pt x="2648" y="1080"/>
                    </a:lnTo>
                    <a:lnTo>
                      <a:pt x="2648" y="1030"/>
                    </a:lnTo>
                    <a:lnTo>
                      <a:pt x="2648" y="985"/>
                    </a:lnTo>
                    <a:lnTo>
                      <a:pt x="2646" y="935"/>
                    </a:lnTo>
                    <a:lnTo>
                      <a:pt x="2645" y="890"/>
                    </a:lnTo>
                    <a:lnTo>
                      <a:pt x="2637" y="840"/>
                    </a:lnTo>
                    <a:lnTo>
                      <a:pt x="2629" y="793"/>
                    </a:lnTo>
                    <a:lnTo>
                      <a:pt x="2618" y="747"/>
                    </a:lnTo>
                    <a:lnTo>
                      <a:pt x="2608" y="701"/>
                    </a:lnTo>
                    <a:lnTo>
                      <a:pt x="2591" y="656"/>
                    </a:lnTo>
                    <a:lnTo>
                      <a:pt x="2576" y="614"/>
                    </a:lnTo>
                    <a:lnTo>
                      <a:pt x="2557" y="574"/>
                    </a:lnTo>
                    <a:lnTo>
                      <a:pt x="2538" y="536"/>
                    </a:lnTo>
                    <a:lnTo>
                      <a:pt x="2487" y="557"/>
                    </a:lnTo>
                    <a:lnTo>
                      <a:pt x="2491" y="536"/>
                    </a:lnTo>
                    <a:lnTo>
                      <a:pt x="2494" y="517"/>
                    </a:lnTo>
                    <a:lnTo>
                      <a:pt x="2496" y="496"/>
                    </a:lnTo>
                    <a:lnTo>
                      <a:pt x="2500" y="477"/>
                    </a:lnTo>
                    <a:lnTo>
                      <a:pt x="2500" y="466"/>
                    </a:lnTo>
                    <a:lnTo>
                      <a:pt x="2502" y="456"/>
                    </a:lnTo>
                    <a:lnTo>
                      <a:pt x="2502" y="445"/>
                    </a:lnTo>
                    <a:lnTo>
                      <a:pt x="2504" y="435"/>
                    </a:lnTo>
                    <a:lnTo>
                      <a:pt x="2504" y="414"/>
                    </a:lnTo>
                    <a:lnTo>
                      <a:pt x="2504" y="395"/>
                    </a:lnTo>
                    <a:lnTo>
                      <a:pt x="2496" y="384"/>
                    </a:lnTo>
                    <a:lnTo>
                      <a:pt x="2489" y="376"/>
                    </a:lnTo>
                    <a:lnTo>
                      <a:pt x="2481" y="371"/>
                    </a:lnTo>
                    <a:lnTo>
                      <a:pt x="2475" y="371"/>
                    </a:lnTo>
                    <a:lnTo>
                      <a:pt x="2460" y="371"/>
                    </a:lnTo>
                    <a:lnTo>
                      <a:pt x="2449" y="380"/>
                    </a:lnTo>
                    <a:lnTo>
                      <a:pt x="2435" y="390"/>
                    </a:lnTo>
                    <a:lnTo>
                      <a:pt x="2422" y="405"/>
                    </a:lnTo>
                    <a:lnTo>
                      <a:pt x="2411" y="420"/>
                    </a:lnTo>
                    <a:lnTo>
                      <a:pt x="2401" y="437"/>
                    </a:lnTo>
                    <a:lnTo>
                      <a:pt x="2401" y="308"/>
                    </a:lnTo>
                    <a:lnTo>
                      <a:pt x="2388" y="298"/>
                    </a:lnTo>
                    <a:lnTo>
                      <a:pt x="2376" y="291"/>
                    </a:lnTo>
                    <a:lnTo>
                      <a:pt x="2369" y="285"/>
                    </a:lnTo>
                    <a:lnTo>
                      <a:pt x="2363" y="279"/>
                    </a:lnTo>
                    <a:lnTo>
                      <a:pt x="2352" y="272"/>
                    </a:lnTo>
                    <a:lnTo>
                      <a:pt x="2346" y="270"/>
                    </a:lnTo>
                    <a:lnTo>
                      <a:pt x="2337" y="274"/>
                    </a:lnTo>
                    <a:lnTo>
                      <a:pt x="2329" y="285"/>
                    </a:lnTo>
                    <a:lnTo>
                      <a:pt x="2321" y="293"/>
                    </a:lnTo>
                    <a:lnTo>
                      <a:pt x="2316" y="306"/>
                    </a:lnTo>
                    <a:lnTo>
                      <a:pt x="2306" y="319"/>
                    </a:lnTo>
                    <a:lnTo>
                      <a:pt x="2297" y="338"/>
                    </a:lnTo>
                    <a:lnTo>
                      <a:pt x="2259" y="213"/>
                    </a:lnTo>
                    <a:lnTo>
                      <a:pt x="2241" y="211"/>
                    </a:lnTo>
                    <a:lnTo>
                      <a:pt x="2230" y="205"/>
                    </a:lnTo>
                    <a:lnTo>
                      <a:pt x="2221" y="198"/>
                    </a:lnTo>
                    <a:lnTo>
                      <a:pt x="2213" y="194"/>
                    </a:lnTo>
                    <a:lnTo>
                      <a:pt x="2203" y="190"/>
                    </a:lnTo>
                    <a:lnTo>
                      <a:pt x="2194" y="196"/>
                    </a:lnTo>
                    <a:lnTo>
                      <a:pt x="2186" y="201"/>
                    </a:lnTo>
                    <a:lnTo>
                      <a:pt x="2179" y="211"/>
                    </a:lnTo>
                    <a:lnTo>
                      <a:pt x="2169" y="220"/>
                    </a:lnTo>
                    <a:lnTo>
                      <a:pt x="2160" y="237"/>
                    </a:lnTo>
                    <a:lnTo>
                      <a:pt x="2131" y="171"/>
                    </a:lnTo>
                    <a:lnTo>
                      <a:pt x="2118" y="169"/>
                    </a:lnTo>
                    <a:lnTo>
                      <a:pt x="2105" y="167"/>
                    </a:lnTo>
                    <a:lnTo>
                      <a:pt x="2089" y="163"/>
                    </a:lnTo>
                    <a:lnTo>
                      <a:pt x="2074" y="161"/>
                    </a:lnTo>
                    <a:lnTo>
                      <a:pt x="2059" y="154"/>
                    </a:lnTo>
                    <a:lnTo>
                      <a:pt x="2046" y="148"/>
                    </a:lnTo>
                    <a:lnTo>
                      <a:pt x="2034" y="139"/>
                    </a:lnTo>
                    <a:lnTo>
                      <a:pt x="2027" y="129"/>
                    </a:lnTo>
                    <a:lnTo>
                      <a:pt x="2021" y="133"/>
                    </a:lnTo>
                    <a:lnTo>
                      <a:pt x="2015" y="142"/>
                    </a:lnTo>
                    <a:lnTo>
                      <a:pt x="2008" y="156"/>
                    </a:lnTo>
                    <a:lnTo>
                      <a:pt x="2000" y="171"/>
                    </a:lnTo>
                    <a:lnTo>
                      <a:pt x="1991" y="184"/>
                    </a:lnTo>
                    <a:lnTo>
                      <a:pt x="1983" y="198"/>
                    </a:lnTo>
                    <a:lnTo>
                      <a:pt x="1977" y="205"/>
                    </a:lnTo>
                    <a:lnTo>
                      <a:pt x="1977" y="209"/>
                    </a:lnTo>
                    <a:lnTo>
                      <a:pt x="1914" y="135"/>
                    </a:lnTo>
                    <a:lnTo>
                      <a:pt x="1878" y="133"/>
                    </a:lnTo>
                    <a:lnTo>
                      <a:pt x="1844" y="137"/>
                    </a:lnTo>
                    <a:lnTo>
                      <a:pt x="1808" y="140"/>
                    </a:lnTo>
                    <a:lnTo>
                      <a:pt x="1772" y="150"/>
                    </a:lnTo>
                    <a:lnTo>
                      <a:pt x="1734" y="159"/>
                    </a:lnTo>
                    <a:lnTo>
                      <a:pt x="1696" y="173"/>
                    </a:lnTo>
                    <a:lnTo>
                      <a:pt x="1658" y="188"/>
                    </a:lnTo>
                    <a:lnTo>
                      <a:pt x="1624" y="207"/>
                    </a:lnTo>
                    <a:lnTo>
                      <a:pt x="1587" y="224"/>
                    </a:lnTo>
                    <a:lnTo>
                      <a:pt x="1553" y="247"/>
                    </a:lnTo>
                    <a:lnTo>
                      <a:pt x="1523" y="270"/>
                    </a:lnTo>
                    <a:lnTo>
                      <a:pt x="1496" y="298"/>
                    </a:lnTo>
                    <a:lnTo>
                      <a:pt x="1470" y="325"/>
                    </a:lnTo>
                    <a:lnTo>
                      <a:pt x="1449" y="355"/>
                    </a:lnTo>
                    <a:lnTo>
                      <a:pt x="1432" y="386"/>
                    </a:lnTo>
                    <a:lnTo>
                      <a:pt x="1420" y="420"/>
                    </a:lnTo>
                    <a:lnTo>
                      <a:pt x="1451" y="433"/>
                    </a:lnTo>
                    <a:lnTo>
                      <a:pt x="1452" y="422"/>
                    </a:lnTo>
                    <a:lnTo>
                      <a:pt x="1456" y="411"/>
                    </a:lnTo>
                    <a:lnTo>
                      <a:pt x="1460" y="401"/>
                    </a:lnTo>
                    <a:lnTo>
                      <a:pt x="1466" y="393"/>
                    </a:lnTo>
                    <a:lnTo>
                      <a:pt x="1477" y="376"/>
                    </a:lnTo>
                    <a:lnTo>
                      <a:pt x="1492" y="361"/>
                    </a:lnTo>
                    <a:lnTo>
                      <a:pt x="1506" y="346"/>
                    </a:lnTo>
                    <a:lnTo>
                      <a:pt x="1523" y="333"/>
                    </a:lnTo>
                    <a:lnTo>
                      <a:pt x="1540" y="319"/>
                    </a:lnTo>
                    <a:lnTo>
                      <a:pt x="1557" y="308"/>
                    </a:lnTo>
                    <a:lnTo>
                      <a:pt x="1529" y="433"/>
                    </a:lnTo>
                    <a:lnTo>
                      <a:pt x="1536" y="422"/>
                    </a:lnTo>
                    <a:lnTo>
                      <a:pt x="1548" y="411"/>
                    </a:lnTo>
                    <a:lnTo>
                      <a:pt x="1555" y="399"/>
                    </a:lnTo>
                    <a:lnTo>
                      <a:pt x="1567" y="390"/>
                    </a:lnTo>
                    <a:lnTo>
                      <a:pt x="1576" y="378"/>
                    </a:lnTo>
                    <a:lnTo>
                      <a:pt x="1586" y="371"/>
                    </a:lnTo>
                    <a:lnTo>
                      <a:pt x="1597" y="361"/>
                    </a:lnTo>
                    <a:lnTo>
                      <a:pt x="1608" y="353"/>
                    </a:lnTo>
                    <a:lnTo>
                      <a:pt x="1620" y="344"/>
                    </a:lnTo>
                    <a:lnTo>
                      <a:pt x="1631" y="336"/>
                    </a:lnTo>
                    <a:lnTo>
                      <a:pt x="1643" y="329"/>
                    </a:lnTo>
                    <a:lnTo>
                      <a:pt x="1654" y="323"/>
                    </a:lnTo>
                    <a:lnTo>
                      <a:pt x="1665" y="315"/>
                    </a:lnTo>
                    <a:lnTo>
                      <a:pt x="1679" y="310"/>
                    </a:lnTo>
                    <a:lnTo>
                      <a:pt x="1692" y="306"/>
                    </a:lnTo>
                    <a:lnTo>
                      <a:pt x="1707" y="304"/>
                    </a:lnTo>
                    <a:lnTo>
                      <a:pt x="1692" y="315"/>
                    </a:lnTo>
                    <a:lnTo>
                      <a:pt x="1681" y="329"/>
                    </a:lnTo>
                    <a:lnTo>
                      <a:pt x="1669" y="342"/>
                    </a:lnTo>
                    <a:lnTo>
                      <a:pt x="1658" y="357"/>
                    </a:lnTo>
                    <a:lnTo>
                      <a:pt x="1646" y="369"/>
                    </a:lnTo>
                    <a:lnTo>
                      <a:pt x="1639" y="384"/>
                    </a:lnTo>
                    <a:lnTo>
                      <a:pt x="1629" y="399"/>
                    </a:lnTo>
                    <a:lnTo>
                      <a:pt x="1622" y="416"/>
                    </a:lnTo>
                    <a:lnTo>
                      <a:pt x="1612" y="431"/>
                    </a:lnTo>
                    <a:lnTo>
                      <a:pt x="1605" y="447"/>
                    </a:lnTo>
                    <a:lnTo>
                      <a:pt x="1597" y="464"/>
                    </a:lnTo>
                    <a:lnTo>
                      <a:pt x="1591" y="481"/>
                    </a:lnTo>
                    <a:lnTo>
                      <a:pt x="1582" y="498"/>
                    </a:lnTo>
                    <a:lnTo>
                      <a:pt x="1574" y="517"/>
                    </a:lnTo>
                    <a:lnTo>
                      <a:pt x="1567" y="536"/>
                    </a:lnTo>
                    <a:lnTo>
                      <a:pt x="1561" y="557"/>
                    </a:lnTo>
                    <a:lnTo>
                      <a:pt x="1563" y="566"/>
                    </a:lnTo>
                    <a:lnTo>
                      <a:pt x="1568" y="576"/>
                    </a:lnTo>
                    <a:lnTo>
                      <a:pt x="1574" y="585"/>
                    </a:lnTo>
                    <a:lnTo>
                      <a:pt x="1582" y="591"/>
                    </a:lnTo>
                    <a:lnTo>
                      <a:pt x="1631" y="513"/>
                    </a:lnTo>
                    <a:lnTo>
                      <a:pt x="1686" y="450"/>
                    </a:lnTo>
                    <a:lnTo>
                      <a:pt x="1741" y="399"/>
                    </a:lnTo>
                    <a:lnTo>
                      <a:pt x="1800" y="363"/>
                    </a:lnTo>
                    <a:lnTo>
                      <a:pt x="1859" y="334"/>
                    </a:lnTo>
                    <a:lnTo>
                      <a:pt x="1918" y="319"/>
                    </a:lnTo>
                    <a:lnTo>
                      <a:pt x="1977" y="315"/>
                    </a:lnTo>
                    <a:lnTo>
                      <a:pt x="2038" y="323"/>
                    </a:lnTo>
                    <a:lnTo>
                      <a:pt x="2093" y="338"/>
                    </a:lnTo>
                    <a:lnTo>
                      <a:pt x="2148" y="365"/>
                    </a:lnTo>
                    <a:lnTo>
                      <a:pt x="2198" y="401"/>
                    </a:lnTo>
                    <a:lnTo>
                      <a:pt x="2249" y="447"/>
                    </a:lnTo>
                    <a:lnTo>
                      <a:pt x="2291" y="498"/>
                    </a:lnTo>
                    <a:lnTo>
                      <a:pt x="2331" y="561"/>
                    </a:lnTo>
                    <a:lnTo>
                      <a:pt x="2365" y="629"/>
                    </a:lnTo>
                    <a:lnTo>
                      <a:pt x="2395" y="707"/>
                    </a:lnTo>
                    <a:lnTo>
                      <a:pt x="2318" y="732"/>
                    </a:lnTo>
                    <a:lnTo>
                      <a:pt x="2302" y="665"/>
                    </a:lnTo>
                    <a:lnTo>
                      <a:pt x="2278" y="604"/>
                    </a:lnTo>
                    <a:lnTo>
                      <a:pt x="2238" y="549"/>
                    </a:lnTo>
                    <a:lnTo>
                      <a:pt x="2192" y="500"/>
                    </a:lnTo>
                    <a:lnTo>
                      <a:pt x="2137" y="458"/>
                    </a:lnTo>
                    <a:lnTo>
                      <a:pt x="2078" y="430"/>
                    </a:lnTo>
                    <a:lnTo>
                      <a:pt x="2015" y="412"/>
                    </a:lnTo>
                    <a:lnTo>
                      <a:pt x="1952" y="411"/>
                    </a:lnTo>
                    <a:lnTo>
                      <a:pt x="1890" y="422"/>
                    </a:lnTo>
                    <a:lnTo>
                      <a:pt x="1833" y="454"/>
                    </a:lnTo>
                    <a:lnTo>
                      <a:pt x="1781" y="508"/>
                    </a:lnTo>
                    <a:lnTo>
                      <a:pt x="1738" y="584"/>
                    </a:lnTo>
                    <a:lnTo>
                      <a:pt x="1703" y="681"/>
                    </a:lnTo>
                    <a:lnTo>
                      <a:pt x="1683" y="808"/>
                    </a:lnTo>
                    <a:lnTo>
                      <a:pt x="1675" y="962"/>
                    </a:lnTo>
                    <a:lnTo>
                      <a:pt x="1686" y="1147"/>
                    </a:lnTo>
                    <a:lnTo>
                      <a:pt x="1591" y="1164"/>
                    </a:lnTo>
                    <a:lnTo>
                      <a:pt x="1574" y="932"/>
                    </a:lnTo>
                    <a:lnTo>
                      <a:pt x="1546" y="928"/>
                    </a:lnTo>
                    <a:lnTo>
                      <a:pt x="1532" y="945"/>
                    </a:lnTo>
                    <a:lnTo>
                      <a:pt x="1523" y="962"/>
                    </a:lnTo>
                    <a:lnTo>
                      <a:pt x="1513" y="981"/>
                    </a:lnTo>
                    <a:lnTo>
                      <a:pt x="1506" y="1002"/>
                    </a:lnTo>
                    <a:lnTo>
                      <a:pt x="1496" y="1021"/>
                    </a:lnTo>
                    <a:lnTo>
                      <a:pt x="1489" y="1040"/>
                    </a:lnTo>
                    <a:lnTo>
                      <a:pt x="1479" y="1059"/>
                    </a:lnTo>
                    <a:lnTo>
                      <a:pt x="1470" y="1080"/>
                    </a:lnTo>
                    <a:lnTo>
                      <a:pt x="1462" y="1057"/>
                    </a:lnTo>
                    <a:lnTo>
                      <a:pt x="1458" y="1034"/>
                    </a:lnTo>
                    <a:lnTo>
                      <a:pt x="1452" y="1008"/>
                    </a:lnTo>
                    <a:lnTo>
                      <a:pt x="1452" y="983"/>
                    </a:lnTo>
                    <a:lnTo>
                      <a:pt x="1451" y="956"/>
                    </a:lnTo>
                    <a:lnTo>
                      <a:pt x="1451" y="930"/>
                    </a:lnTo>
                    <a:lnTo>
                      <a:pt x="1452" y="901"/>
                    </a:lnTo>
                    <a:lnTo>
                      <a:pt x="1456" y="876"/>
                    </a:lnTo>
                    <a:lnTo>
                      <a:pt x="1456" y="848"/>
                    </a:lnTo>
                    <a:lnTo>
                      <a:pt x="1460" y="825"/>
                    </a:lnTo>
                    <a:lnTo>
                      <a:pt x="1462" y="802"/>
                    </a:lnTo>
                    <a:lnTo>
                      <a:pt x="1466" y="783"/>
                    </a:lnTo>
                    <a:lnTo>
                      <a:pt x="1475" y="736"/>
                    </a:lnTo>
                    <a:lnTo>
                      <a:pt x="1416" y="840"/>
                    </a:lnTo>
                    <a:lnTo>
                      <a:pt x="1375" y="703"/>
                    </a:lnTo>
                    <a:lnTo>
                      <a:pt x="1403" y="553"/>
                    </a:lnTo>
                    <a:lnTo>
                      <a:pt x="1375" y="553"/>
                    </a:lnTo>
                    <a:lnTo>
                      <a:pt x="1361" y="587"/>
                    </a:lnTo>
                    <a:lnTo>
                      <a:pt x="1352" y="622"/>
                    </a:lnTo>
                    <a:lnTo>
                      <a:pt x="1344" y="658"/>
                    </a:lnTo>
                    <a:lnTo>
                      <a:pt x="1338" y="698"/>
                    </a:lnTo>
                    <a:lnTo>
                      <a:pt x="1333" y="736"/>
                    </a:lnTo>
                    <a:lnTo>
                      <a:pt x="1329" y="774"/>
                    </a:lnTo>
                    <a:lnTo>
                      <a:pt x="1327" y="814"/>
                    </a:lnTo>
                    <a:lnTo>
                      <a:pt x="1327" y="854"/>
                    </a:lnTo>
                    <a:lnTo>
                      <a:pt x="1325" y="892"/>
                    </a:lnTo>
                    <a:lnTo>
                      <a:pt x="1325" y="932"/>
                    </a:lnTo>
                    <a:lnTo>
                      <a:pt x="1327" y="972"/>
                    </a:lnTo>
                    <a:lnTo>
                      <a:pt x="1329" y="1011"/>
                    </a:lnTo>
                    <a:lnTo>
                      <a:pt x="1331" y="1048"/>
                    </a:lnTo>
                    <a:lnTo>
                      <a:pt x="1335" y="1086"/>
                    </a:lnTo>
                    <a:lnTo>
                      <a:pt x="1336" y="1122"/>
                    </a:lnTo>
                    <a:lnTo>
                      <a:pt x="1342" y="1160"/>
                    </a:lnTo>
                    <a:lnTo>
                      <a:pt x="1255" y="1164"/>
                    </a:lnTo>
                    <a:lnTo>
                      <a:pt x="1249" y="1150"/>
                    </a:lnTo>
                    <a:lnTo>
                      <a:pt x="1247" y="1139"/>
                    </a:lnTo>
                    <a:lnTo>
                      <a:pt x="1245" y="1127"/>
                    </a:lnTo>
                    <a:lnTo>
                      <a:pt x="1245" y="1116"/>
                    </a:lnTo>
                    <a:lnTo>
                      <a:pt x="1240" y="1105"/>
                    </a:lnTo>
                    <a:lnTo>
                      <a:pt x="1238" y="1095"/>
                    </a:lnTo>
                    <a:lnTo>
                      <a:pt x="1238" y="1084"/>
                    </a:lnTo>
                    <a:lnTo>
                      <a:pt x="1238" y="1074"/>
                    </a:lnTo>
                    <a:lnTo>
                      <a:pt x="1238" y="1053"/>
                    </a:lnTo>
                    <a:lnTo>
                      <a:pt x="1238" y="1034"/>
                    </a:lnTo>
                    <a:lnTo>
                      <a:pt x="1238" y="1015"/>
                    </a:lnTo>
                    <a:lnTo>
                      <a:pt x="1238" y="998"/>
                    </a:lnTo>
                    <a:lnTo>
                      <a:pt x="1201" y="989"/>
                    </a:lnTo>
                    <a:lnTo>
                      <a:pt x="1169" y="1069"/>
                    </a:lnTo>
                    <a:lnTo>
                      <a:pt x="1160" y="1050"/>
                    </a:lnTo>
                    <a:lnTo>
                      <a:pt x="1154" y="1032"/>
                    </a:lnTo>
                    <a:lnTo>
                      <a:pt x="1152" y="1011"/>
                    </a:lnTo>
                    <a:lnTo>
                      <a:pt x="1152" y="992"/>
                    </a:lnTo>
                    <a:lnTo>
                      <a:pt x="1152" y="970"/>
                    </a:lnTo>
                    <a:lnTo>
                      <a:pt x="1156" y="949"/>
                    </a:lnTo>
                    <a:lnTo>
                      <a:pt x="1158" y="928"/>
                    </a:lnTo>
                    <a:lnTo>
                      <a:pt x="1163" y="911"/>
                    </a:lnTo>
                    <a:lnTo>
                      <a:pt x="1167" y="890"/>
                    </a:lnTo>
                    <a:lnTo>
                      <a:pt x="1171" y="873"/>
                    </a:lnTo>
                    <a:lnTo>
                      <a:pt x="1173" y="857"/>
                    </a:lnTo>
                    <a:lnTo>
                      <a:pt x="1175" y="846"/>
                    </a:lnTo>
                    <a:lnTo>
                      <a:pt x="1175" y="833"/>
                    </a:lnTo>
                    <a:lnTo>
                      <a:pt x="1175" y="827"/>
                    </a:lnTo>
                    <a:lnTo>
                      <a:pt x="1173" y="821"/>
                    </a:lnTo>
                    <a:lnTo>
                      <a:pt x="1169" y="823"/>
                    </a:lnTo>
                    <a:lnTo>
                      <a:pt x="1150" y="838"/>
                    </a:lnTo>
                    <a:lnTo>
                      <a:pt x="1139" y="856"/>
                    </a:lnTo>
                    <a:lnTo>
                      <a:pt x="1133" y="865"/>
                    </a:lnTo>
                    <a:lnTo>
                      <a:pt x="1127" y="876"/>
                    </a:lnTo>
                    <a:lnTo>
                      <a:pt x="1122" y="888"/>
                    </a:lnTo>
                    <a:lnTo>
                      <a:pt x="1118" y="899"/>
                    </a:lnTo>
                    <a:lnTo>
                      <a:pt x="1112" y="909"/>
                    </a:lnTo>
                    <a:lnTo>
                      <a:pt x="1108" y="920"/>
                    </a:lnTo>
                    <a:lnTo>
                      <a:pt x="1103" y="932"/>
                    </a:lnTo>
                    <a:lnTo>
                      <a:pt x="1099" y="943"/>
                    </a:lnTo>
                    <a:lnTo>
                      <a:pt x="1078" y="981"/>
                    </a:lnTo>
                    <a:lnTo>
                      <a:pt x="1080" y="934"/>
                    </a:lnTo>
                    <a:lnTo>
                      <a:pt x="1080" y="914"/>
                    </a:lnTo>
                    <a:lnTo>
                      <a:pt x="1080" y="897"/>
                    </a:lnTo>
                    <a:lnTo>
                      <a:pt x="1078" y="876"/>
                    </a:lnTo>
                    <a:lnTo>
                      <a:pt x="1076" y="856"/>
                    </a:lnTo>
                    <a:lnTo>
                      <a:pt x="1076" y="835"/>
                    </a:lnTo>
                    <a:lnTo>
                      <a:pt x="1076" y="817"/>
                    </a:lnTo>
                    <a:lnTo>
                      <a:pt x="1074" y="798"/>
                    </a:lnTo>
                    <a:lnTo>
                      <a:pt x="1074" y="783"/>
                    </a:lnTo>
                    <a:lnTo>
                      <a:pt x="1074" y="770"/>
                    </a:lnTo>
                    <a:lnTo>
                      <a:pt x="1074" y="760"/>
                    </a:lnTo>
                    <a:lnTo>
                      <a:pt x="1066" y="779"/>
                    </a:lnTo>
                    <a:lnTo>
                      <a:pt x="1059" y="800"/>
                    </a:lnTo>
                    <a:lnTo>
                      <a:pt x="1055" y="810"/>
                    </a:lnTo>
                    <a:lnTo>
                      <a:pt x="1051" y="821"/>
                    </a:lnTo>
                    <a:lnTo>
                      <a:pt x="1047" y="831"/>
                    </a:lnTo>
                    <a:lnTo>
                      <a:pt x="1044" y="842"/>
                    </a:lnTo>
                    <a:lnTo>
                      <a:pt x="1032" y="861"/>
                    </a:lnTo>
                    <a:lnTo>
                      <a:pt x="1023" y="880"/>
                    </a:lnTo>
                    <a:lnTo>
                      <a:pt x="1011" y="897"/>
                    </a:lnTo>
                    <a:lnTo>
                      <a:pt x="998" y="914"/>
                    </a:lnTo>
                    <a:lnTo>
                      <a:pt x="998" y="905"/>
                    </a:lnTo>
                    <a:lnTo>
                      <a:pt x="998" y="897"/>
                    </a:lnTo>
                    <a:lnTo>
                      <a:pt x="998" y="886"/>
                    </a:lnTo>
                    <a:lnTo>
                      <a:pt x="1000" y="875"/>
                    </a:lnTo>
                    <a:lnTo>
                      <a:pt x="1000" y="859"/>
                    </a:lnTo>
                    <a:lnTo>
                      <a:pt x="1002" y="848"/>
                    </a:lnTo>
                    <a:lnTo>
                      <a:pt x="1002" y="833"/>
                    </a:lnTo>
                    <a:lnTo>
                      <a:pt x="1004" y="821"/>
                    </a:lnTo>
                    <a:lnTo>
                      <a:pt x="1002" y="808"/>
                    </a:lnTo>
                    <a:lnTo>
                      <a:pt x="1002" y="795"/>
                    </a:lnTo>
                    <a:lnTo>
                      <a:pt x="998" y="783"/>
                    </a:lnTo>
                    <a:lnTo>
                      <a:pt x="996" y="776"/>
                    </a:lnTo>
                    <a:lnTo>
                      <a:pt x="987" y="762"/>
                    </a:lnTo>
                    <a:lnTo>
                      <a:pt x="973" y="760"/>
                    </a:lnTo>
                    <a:lnTo>
                      <a:pt x="966" y="787"/>
                    </a:lnTo>
                    <a:lnTo>
                      <a:pt x="960" y="817"/>
                    </a:lnTo>
                    <a:lnTo>
                      <a:pt x="954" y="848"/>
                    </a:lnTo>
                    <a:lnTo>
                      <a:pt x="952" y="880"/>
                    </a:lnTo>
                    <a:lnTo>
                      <a:pt x="949" y="913"/>
                    </a:lnTo>
                    <a:lnTo>
                      <a:pt x="949" y="947"/>
                    </a:lnTo>
                    <a:lnTo>
                      <a:pt x="949" y="979"/>
                    </a:lnTo>
                    <a:lnTo>
                      <a:pt x="952" y="1013"/>
                    </a:lnTo>
                    <a:lnTo>
                      <a:pt x="954" y="1044"/>
                    </a:lnTo>
                    <a:lnTo>
                      <a:pt x="960" y="1076"/>
                    </a:lnTo>
                    <a:lnTo>
                      <a:pt x="968" y="1107"/>
                    </a:lnTo>
                    <a:lnTo>
                      <a:pt x="981" y="1139"/>
                    </a:lnTo>
                    <a:lnTo>
                      <a:pt x="992" y="1167"/>
                    </a:lnTo>
                    <a:lnTo>
                      <a:pt x="1009" y="1196"/>
                    </a:lnTo>
                    <a:lnTo>
                      <a:pt x="1027" y="1223"/>
                    </a:lnTo>
                    <a:lnTo>
                      <a:pt x="1049" y="1247"/>
                    </a:lnTo>
                    <a:lnTo>
                      <a:pt x="937" y="1314"/>
                    </a:lnTo>
                    <a:lnTo>
                      <a:pt x="895" y="1255"/>
                    </a:lnTo>
                    <a:lnTo>
                      <a:pt x="165" y="1289"/>
                    </a:lnTo>
                    <a:lnTo>
                      <a:pt x="160" y="1192"/>
                    </a:lnTo>
                    <a:lnTo>
                      <a:pt x="198" y="1188"/>
                    </a:lnTo>
                    <a:lnTo>
                      <a:pt x="238" y="1186"/>
                    </a:lnTo>
                    <a:lnTo>
                      <a:pt x="277" y="1185"/>
                    </a:lnTo>
                    <a:lnTo>
                      <a:pt x="319" y="1185"/>
                    </a:lnTo>
                    <a:lnTo>
                      <a:pt x="359" y="1183"/>
                    </a:lnTo>
                    <a:lnTo>
                      <a:pt x="399" y="1183"/>
                    </a:lnTo>
                    <a:lnTo>
                      <a:pt x="441" y="1181"/>
                    </a:lnTo>
                    <a:lnTo>
                      <a:pt x="483" y="1181"/>
                    </a:lnTo>
                    <a:lnTo>
                      <a:pt x="523" y="1177"/>
                    </a:lnTo>
                    <a:lnTo>
                      <a:pt x="563" y="1175"/>
                    </a:lnTo>
                    <a:lnTo>
                      <a:pt x="603" y="1171"/>
                    </a:lnTo>
                    <a:lnTo>
                      <a:pt x="644" y="1167"/>
                    </a:lnTo>
                    <a:lnTo>
                      <a:pt x="682" y="1160"/>
                    </a:lnTo>
                    <a:lnTo>
                      <a:pt x="722" y="1154"/>
                    </a:lnTo>
                    <a:lnTo>
                      <a:pt x="760" y="1145"/>
                    </a:lnTo>
                    <a:lnTo>
                      <a:pt x="800" y="1135"/>
                    </a:lnTo>
                    <a:lnTo>
                      <a:pt x="800" y="1086"/>
                    </a:lnTo>
                    <a:lnTo>
                      <a:pt x="762" y="1086"/>
                    </a:lnTo>
                    <a:lnTo>
                      <a:pt x="722" y="1088"/>
                    </a:lnTo>
                    <a:lnTo>
                      <a:pt x="677" y="1088"/>
                    </a:lnTo>
                    <a:lnTo>
                      <a:pt x="629" y="1089"/>
                    </a:lnTo>
                    <a:lnTo>
                      <a:pt x="578" y="1089"/>
                    </a:lnTo>
                    <a:lnTo>
                      <a:pt x="528" y="1089"/>
                    </a:lnTo>
                    <a:lnTo>
                      <a:pt x="475" y="1089"/>
                    </a:lnTo>
                    <a:lnTo>
                      <a:pt x="424" y="1089"/>
                    </a:lnTo>
                    <a:lnTo>
                      <a:pt x="371" y="1086"/>
                    </a:lnTo>
                    <a:lnTo>
                      <a:pt x="319" y="1082"/>
                    </a:lnTo>
                    <a:lnTo>
                      <a:pt x="268" y="1076"/>
                    </a:lnTo>
                    <a:lnTo>
                      <a:pt x="222" y="1072"/>
                    </a:lnTo>
                    <a:lnTo>
                      <a:pt x="175" y="1065"/>
                    </a:lnTo>
                    <a:lnTo>
                      <a:pt x="135" y="1055"/>
                    </a:lnTo>
                    <a:lnTo>
                      <a:pt x="99" y="1044"/>
                    </a:lnTo>
                    <a:lnTo>
                      <a:pt x="68" y="1034"/>
                    </a:lnTo>
                    <a:lnTo>
                      <a:pt x="99" y="1029"/>
                    </a:lnTo>
                    <a:lnTo>
                      <a:pt x="129" y="1025"/>
                    </a:lnTo>
                    <a:lnTo>
                      <a:pt x="160" y="1021"/>
                    </a:lnTo>
                    <a:lnTo>
                      <a:pt x="192" y="1017"/>
                    </a:lnTo>
                    <a:lnTo>
                      <a:pt x="222" y="1011"/>
                    </a:lnTo>
                    <a:lnTo>
                      <a:pt x="253" y="1008"/>
                    </a:lnTo>
                    <a:lnTo>
                      <a:pt x="283" y="1004"/>
                    </a:lnTo>
                    <a:lnTo>
                      <a:pt x="315" y="1002"/>
                    </a:lnTo>
                    <a:lnTo>
                      <a:pt x="344" y="996"/>
                    </a:lnTo>
                    <a:lnTo>
                      <a:pt x="376" y="992"/>
                    </a:lnTo>
                    <a:lnTo>
                      <a:pt x="405" y="989"/>
                    </a:lnTo>
                    <a:lnTo>
                      <a:pt x="437" y="987"/>
                    </a:lnTo>
                    <a:lnTo>
                      <a:pt x="468" y="983"/>
                    </a:lnTo>
                    <a:lnTo>
                      <a:pt x="500" y="981"/>
                    </a:lnTo>
                    <a:lnTo>
                      <a:pt x="530" y="977"/>
                    </a:lnTo>
                    <a:lnTo>
                      <a:pt x="563" y="977"/>
                    </a:lnTo>
                    <a:lnTo>
                      <a:pt x="566" y="935"/>
                    </a:lnTo>
                    <a:lnTo>
                      <a:pt x="2" y="943"/>
                    </a:lnTo>
                    <a:lnTo>
                      <a:pt x="0" y="930"/>
                    </a:lnTo>
                    <a:lnTo>
                      <a:pt x="0" y="918"/>
                    </a:lnTo>
                    <a:lnTo>
                      <a:pt x="0" y="907"/>
                    </a:lnTo>
                    <a:lnTo>
                      <a:pt x="0" y="895"/>
                    </a:lnTo>
                    <a:lnTo>
                      <a:pt x="0" y="882"/>
                    </a:lnTo>
                    <a:lnTo>
                      <a:pt x="2" y="869"/>
                    </a:lnTo>
                    <a:lnTo>
                      <a:pt x="4" y="857"/>
                    </a:lnTo>
                    <a:lnTo>
                      <a:pt x="7" y="8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Freeform 84"/>
              <p:cNvSpPr/>
              <p:nvPr/>
            </p:nvSpPr>
            <p:spPr>
              <a:xfrm flipH="1" rot="19783200">
                <a:off x="2623320" y="4965120"/>
                <a:ext cx="363960" cy="186480"/>
              </a:xfrm>
              <a:custGeom>
                <a:avLst/>
                <a:gdLst>
                  <a:gd name="textAreaLeft" fmla="*/ -360 w 363960"/>
                  <a:gd name="textAreaRight" fmla="*/ 363960 w 36396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384" h="1223">
                    <a:moveTo>
                      <a:pt x="0" y="242"/>
                    </a:moveTo>
                    <a:lnTo>
                      <a:pt x="6" y="211"/>
                    </a:lnTo>
                    <a:lnTo>
                      <a:pt x="17" y="188"/>
                    </a:lnTo>
                    <a:lnTo>
                      <a:pt x="27" y="167"/>
                    </a:lnTo>
                    <a:lnTo>
                      <a:pt x="40" y="152"/>
                    </a:lnTo>
                    <a:lnTo>
                      <a:pt x="53" y="137"/>
                    </a:lnTo>
                    <a:lnTo>
                      <a:pt x="72" y="126"/>
                    </a:lnTo>
                    <a:lnTo>
                      <a:pt x="91" y="116"/>
                    </a:lnTo>
                    <a:lnTo>
                      <a:pt x="116" y="110"/>
                    </a:lnTo>
                    <a:lnTo>
                      <a:pt x="141" y="103"/>
                    </a:lnTo>
                    <a:lnTo>
                      <a:pt x="171" y="97"/>
                    </a:lnTo>
                    <a:lnTo>
                      <a:pt x="205" y="93"/>
                    </a:lnTo>
                    <a:lnTo>
                      <a:pt x="245" y="91"/>
                    </a:lnTo>
                    <a:lnTo>
                      <a:pt x="287" y="88"/>
                    </a:lnTo>
                    <a:lnTo>
                      <a:pt x="335" y="84"/>
                    </a:lnTo>
                    <a:lnTo>
                      <a:pt x="388" y="80"/>
                    </a:lnTo>
                    <a:lnTo>
                      <a:pt x="449" y="78"/>
                    </a:lnTo>
                    <a:lnTo>
                      <a:pt x="468" y="74"/>
                    </a:lnTo>
                    <a:lnTo>
                      <a:pt x="525" y="72"/>
                    </a:lnTo>
                    <a:lnTo>
                      <a:pt x="610" y="69"/>
                    </a:lnTo>
                    <a:lnTo>
                      <a:pt x="726" y="65"/>
                    </a:lnTo>
                    <a:lnTo>
                      <a:pt x="861" y="59"/>
                    </a:lnTo>
                    <a:lnTo>
                      <a:pt x="1015" y="53"/>
                    </a:lnTo>
                    <a:lnTo>
                      <a:pt x="1181" y="48"/>
                    </a:lnTo>
                    <a:lnTo>
                      <a:pt x="1354" y="42"/>
                    </a:lnTo>
                    <a:lnTo>
                      <a:pt x="1527" y="34"/>
                    </a:lnTo>
                    <a:lnTo>
                      <a:pt x="1696" y="27"/>
                    </a:lnTo>
                    <a:lnTo>
                      <a:pt x="1858" y="21"/>
                    </a:lnTo>
                    <a:lnTo>
                      <a:pt x="2010" y="15"/>
                    </a:lnTo>
                    <a:lnTo>
                      <a:pt x="2141" y="10"/>
                    </a:lnTo>
                    <a:lnTo>
                      <a:pt x="2251" y="4"/>
                    </a:lnTo>
                    <a:lnTo>
                      <a:pt x="2333" y="0"/>
                    </a:lnTo>
                    <a:lnTo>
                      <a:pt x="2384" y="0"/>
                    </a:lnTo>
                    <a:lnTo>
                      <a:pt x="2360" y="95"/>
                    </a:lnTo>
                    <a:lnTo>
                      <a:pt x="2327" y="97"/>
                    </a:lnTo>
                    <a:lnTo>
                      <a:pt x="2297" y="99"/>
                    </a:lnTo>
                    <a:lnTo>
                      <a:pt x="2265" y="101"/>
                    </a:lnTo>
                    <a:lnTo>
                      <a:pt x="2232" y="103"/>
                    </a:lnTo>
                    <a:lnTo>
                      <a:pt x="2198" y="103"/>
                    </a:lnTo>
                    <a:lnTo>
                      <a:pt x="2164" y="105"/>
                    </a:lnTo>
                    <a:lnTo>
                      <a:pt x="2130" y="105"/>
                    </a:lnTo>
                    <a:lnTo>
                      <a:pt x="2095" y="107"/>
                    </a:lnTo>
                    <a:lnTo>
                      <a:pt x="2059" y="107"/>
                    </a:lnTo>
                    <a:lnTo>
                      <a:pt x="2023" y="107"/>
                    </a:lnTo>
                    <a:lnTo>
                      <a:pt x="1989" y="107"/>
                    </a:lnTo>
                    <a:lnTo>
                      <a:pt x="1957" y="107"/>
                    </a:lnTo>
                    <a:lnTo>
                      <a:pt x="1922" y="107"/>
                    </a:lnTo>
                    <a:lnTo>
                      <a:pt x="1890" y="107"/>
                    </a:lnTo>
                    <a:lnTo>
                      <a:pt x="1858" y="107"/>
                    </a:lnTo>
                    <a:lnTo>
                      <a:pt x="1829" y="109"/>
                    </a:lnTo>
                    <a:lnTo>
                      <a:pt x="1833" y="137"/>
                    </a:lnTo>
                    <a:lnTo>
                      <a:pt x="2015" y="154"/>
                    </a:lnTo>
                    <a:lnTo>
                      <a:pt x="1936" y="162"/>
                    </a:lnTo>
                    <a:lnTo>
                      <a:pt x="1856" y="171"/>
                    </a:lnTo>
                    <a:lnTo>
                      <a:pt x="1778" y="179"/>
                    </a:lnTo>
                    <a:lnTo>
                      <a:pt x="1702" y="186"/>
                    </a:lnTo>
                    <a:lnTo>
                      <a:pt x="1622" y="190"/>
                    </a:lnTo>
                    <a:lnTo>
                      <a:pt x="1544" y="196"/>
                    </a:lnTo>
                    <a:lnTo>
                      <a:pt x="1466" y="200"/>
                    </a:lnTo>
                    <a:lnTo>
                      <a:pt x="1388" y="206"/>
                    </a:lnTo>
                    <a:lnTo>
                      <a:pt x="1308" y="207"/>
                    </a:lnTo>
                    <a:lnTo>
                      <a:pt x="1228" y="211"/>
                    </a:lnTo>
                    <a:lnTo>
                      <a:pt x="1150" y="213"/>
                    </a:lnTo>
                    <a:lnTo>
                      <a:pt x="1072" y="217"/>
                    </a:lnTo>
                    <a:lnTo>
                      <a:pt x="993" y="219"/>
                    </a:lnTo>
                    <a:lnTo>
                      <a:pt x="915" y="223"/>
                    </a:lnTo>
                    <a:lnTo>
                      <a:pt x="837" y="226"/>
                    </a:lnTo>
                    <a:lnTo>
                      <a:pt x="759" y="232"/>
                    </a:lnTo>
                    <a:lnTo>
                      <a:pt x="753" y="226"/>
                    </a:lnTo>
                    <a:lnTo>
                      <a:pt x="747" y="219"/>
                    </a:lnTo>
                    <a:lnTo>
                      <a:pt x="745" y="209"/>
                    </a:lnTo>
                    <a:lnTo>
                      <a:pt x="747" y="204"/>
                    </a:lnTo>
                    <a:lnTo>
                      <a:pt x="975" y="169"/>
                    </a:lnTo>
                    <a:lnTo>
                      <a:pt x="975" y="154"/>
                    </a:lnTo>
                    <a:lnTo>
                      <a:pt x="936" y="147"/>
                    </a:lnTo>
                    <a:lnTo>
                      <a:pt x="898" y="143"/>
                    </a:lnTo>
                    <a:lnTo>
                      <a:pt x="859" y="137"/>
                    </a:lnTo>
                    <a:lnTo>
                      <a:pt x="821" y="137"/>
                    </a:lnTo>
                    <a:lnTo>
                      <a:pt x="782" y="135"/>
                    </a:lnTo>
                    <a:lnTo>
                      <a:pt x="742" y="135"/>
                    </a:lnTo>
                    <a:lnTo>
                      <a:pt x="702" y="135"/>
                    </a:lnTo>
                    <a:lnTo>
                      <a:pt x="662" y="137"/>
                    </a:lnTo>
                    <a:lnTo>
                      <a:pt x="620" y="137"/>
                    </a:lnTo>
                    <a:lnTo>
                      <a:pt x="580" y="141"/>
                    </a:lnTo>
                    <a:lnTo>
                      <a:pt x="540" y="143"/>
                    </a:lnTo>
                    <a:lnTo>
                      <a:pt x="500" y="147"/>
                    </a:lnTo>
                    <a:lnTo>
                      <a:pt x="460" y="148"/>
                    </a:lnTo>
                    <a:lnTo>
                      <a:pt x="424" y="154"/>
                    </a:lnTo>
                    <a:lnTo>
                      <a:pt x="386" y="156"/>
                    </a:lnTo>
                    <a:lnTo>
                      <a:pt x="352" y="162"/>
                    </a:lnTo>
                    <a:lnTo>
                      <a:pt x="348" y="171"/>
                    </a:lnTo>
                    <a:lnTo>
                      <a:pt x="350" y="186"/>
                    </a:lnTo>
                    <a:lnTo>
                      <a:pt x="354" y="198"/>
                    </a:lnTo>
                    <a:lnTo>
                      <a:pt x="365" y="207"/>
                    </a:lnTo>
                    <a:lnTo>
                      <a:pt x="380" y="206"/>
                    </a:lnTo>
                    <a:lnTo>
                      <a:pt x="397" y="206"/>
                    </a:lnTo>
                    <a:lnTo>
                      <a:pt x="415" y="206"/>
                    </a:lnTo>
                    <a:lnTo>
                      <a:pt x="434" y="206"/>
                    </a:lnTo>
                    <a:lnTo>
                      <a:pt x="451" y="204"/>
                    </a:lnTo>
                    <a:lnTo>
                      <a:pt x="470" y="204"/>
                    </a:lnTo>
                    <a:lnTo>
                      <a:pt x="489" y="204"/>
                    </a:lnTo>
                    <a:lnTo>
                      <a:pt x="510" y="204"/>
                    </a:lnTo>
                    <a:lnTo>
                      <a:pt x="527" y="204"/>
                    </a:lnTo>
                    <a:lnTo>
                      <a:pt x="546" y="204"/>
                    </a:lnTo>
                    <a:lnTo>
                      <a:pt x="565" y="204"/>
                    </a:lnTo>
                    <a:lnTo>
                      <a:pt x="584" y="204"/>
                    </a:lnTo>
                    <a:lnTo>
                      <a:pt x="603" y="204"/>
                    </a:lnTo>
                    <a:lnTo>
                      <a:pt x="622" y="204"/>
                    </a:lnTo>
                    <a:lnTo>
                      <a:pt x="641" y="206"/>
                    </a:lnTo>
                    <a:lnTo>
                      <a:pt x="660" y="207"/>
                    </a:lnTo>
                    <a:lnTo>
                      <a:pt x="667" y="228"/>
                    </a:lnTo>
                    <a:lnTo>
                      <a:pt x="633" y="234"/>
                    </a:lnTo>
                    <a:lnTo>
                      <a:pt x="599" y="240"/>
                    </a:lnTo>
                    <a:lnTo>
                      <a:pt x="565" y="244"/>
                    </a:lnTo>
                    <a:lnTo>
                      <a:pt x="532" y="247"/>
                    </a:lnTo>
                    <a:lnTo>
                      <a:pt x="498" y="247"/>
                    </a:lnTo>
                    <a:lnTo>
                      <a:pt x="466" y="249"/>
                    </a:lnTo>
                    <a:lnTo>
                      <a:pt x="434" y="249"/>
                    </a:lnTo>
                    <a:lnTo>
                      <a:pt x="401" y="251"/>
                    </a:lnTo>
                    <a:lnTo>
                      <a:pt x="367" y="251"/>
                    </a:lnTo>
                    <a:lnTo>
                      <a:pt x="333" y="251"/>
                    </a:lnTo>
                    <a:lnTo>
                      <a:pt x="299" y="253"/>
                    </a:lnTo>
                    <a:lnTo>
                      <a:pt x="266" y="255"/>
                    </a:lnTo>
                    <a:lnTo>
                      <a:pt x="232" y="257"/>
                    </a:lnTo>
                    <a:lnTo>
                      <a:pt x="200" y="261"/>
                    </a:lnTo>
                    <a:lnTo>
                      <a:pt x="166" y="266"/>
                    </a:lnTo>
                    <a:lnTo>
                      <a:pt x="133" y="274"/>
                    </a:lnTo>
                    <a:lnTo>
                      <a:pt x="129" y="280"/>
                    </a:lnTo>
                    <a:lnTo>
                      <a:pt x="133" y="297"/>
                    </a:lnTo>
                    <a:lnTo>
                      <a:pt x="137" y="312"/>
                    </a:lnTo>
                    <a:lnTo>
                      <a:pt x="141" y="320"/>
                    </a:lnTo>
                    <a:lnTo>
                      <a:pt x="369" y="312"/>
                    </a:lnTo>
                    <a:lnTo>
                      <a:pt x="228" y="358"/>
                    </a:lnTo>
                    <a:lnTo>
                      <a:pt x="232" y="390"/>
                    </a:lnTo>
                    <a:lnTo>
                      <a:pt x="266" y="390"/>
                    </a:lnTo>
                    <a:lnTo>
                      <a:pt x="302" y="394"/>
                    </a:lnTo>
                    <a:lnTo>
                      <a:pt x="339" y="396"/>
                    </a:lnTo>
                    <a:lnTo>
                      <a:pt x="375" y="399"/>
                    </a:lnTo>
                    <a:lnTo>
                      <a:pt x="409" y="401"/>
                    </a:lnTo>
                    <a:lnTo>
                      <a:pt x="445" y="403"/>
                    </a:lnTo>
                    <a:lnTo>
                      <a:pt x="481" y="405"/>
                    </a:lnTo>
                    <a:lnTo>
                      <a:pt x="517" y="409"/>
                    </a:lnTo>
                    <a:lnTo>
                      <a:pt x="551" y="409"/>
                    </a:lnTo>
                    <a:lnTo>
                      <a:pt x="588" y="411"/>
                    </a:lnTo>
                    <a:lnTo>
                      <a:pt x="622" y="411"/>
                    </a:lnTo>
                    <a:lnTo>
                      <a:pt x="658" y="413"/>
                    </a:lnTo>
                    <a:lnTo>
                      <a:pt x="692" y="413"/>
                    </a:lnTo>
                    <a:lnTo>
                      <a:pt x="728" y="413"/>
                    </a:lnTo>
                    <a:lnTo>
                      <a:pt x="764" y="411"/>
                    </a:lnTo>
                    <a:lnTo>
                      <a:pt x="801" y="411"/>
                    </a:lnTo>
                    <a:lnTo>
                      <a:pt x="901" y="327"/>
                    </a:lnTo>
                    <a:lnTo>
                      <a:pt x="909" y="394"/>
                    </a:lnTo>
                    <a:lnTo>
                      <a:pt x="1000" y="411"/>
                    </a:lnTo>
                    <a:lnTo>
                      <a:pt x="1046" y="516"/>
                    </a:lnTo>
                    <a:lnTo>
                      <a:pt x="1025" y="516"/>
                    </a:lnTo>
                    <a:lnTo>
                      <a:pt x="1006" y="516"/>
                    </a:lnTo>
                    <a:lnTo>
                      <a:pt x="985" y="516"/>
                    </a:lnTo>
                    <a:lnTo>
                      <a:pt x="968" y="516"/>
                    </a:lnTo>
                    <a:lnTo>
                      <a:pt x="949" y="514"/>
                    </a:lnTo>
                    <a:lnTo>
                      <a:pt x="930" y="514"/>
                    </a:lnTo>
                    <a:lnTo>
                      <a:pt x="911" y="514"/>
                    </a:lnTo>
                    <a:lnTo>
                      <a:pt x="894" y="514"/>
                    </a:lnTo>
                    <a:lnTo>
                      <a:pt x="875" y="512"/>
                    </a:lnTo>
                    <a:lnTo>
                      <a:pt x="856" y="510"/>
                    </a:lnTo>
                    <a:lnTo>
                      <a:pt x="837" y="508"/>
                    </a:lnTo>
                    <a:lnTo>
                      <a:pt x="818" y="508"/>
                    </a:lnTo>
                    <a:lnTo>
                      <a:pt x="799" y="506"/>
                    </a:lnTo>
                    <a:lnTo>
                      <a:pt x="780" y="506"/>
                    </a:lnTo>
                    <a:lnTo>
                      <a:pt x="761" y="506"/>
                    </a:lnTo>
                    <a:lnTo>
                      <a:pt x="744" y="506"/>
                    </a:lnTo>
                    <a:lnTo>
                      <a:pt x="732" y="512"/>
                    </a:lnTo>
                    <a:lnTo>
                      <a:pt x="730" y="523"/>
                    </a:lnTo>
                    <a:lnTo>
                      <a:pt x="732" y="535"/>
                    </a:lnTo>
                    <a:lnTo>
                      <a:pt x="738" y="544"/>
                    </a:lnTo>
                    <a:lnTo>
                      <a:pt x="947" y="586"/>
                    </a:lnTo>
                    <a:lnTo>
                      <a:pt x="920" y="588"/>
                    </a:lnTo>
                    <a:lnTo>
                      <a:pt x="894" y="590"/>
                    </a:lnTo>
                    <a:lnTo>
                      <a:pt x="867" y="590"/>
                    </a:lnTo>
                    <a:lnTo>
                      <a:pt x="842" y="592"/>
                    </a:lnTo>
                    <a:lnTo>
                      <a:pt x="816" y="590"/>
                    </a:lnTo>
                    <a:lnTo>
                      <a:pt x="789" y="588"/>
                    </a:lnTo>
                    <a:lnTo>
                      <a:pt x="763" y="586"/>
                    </a:lnTo>
                    <a:lnTo>
                      <a:pt x="738" y="586"/>
                    </a:lnTo>
                    <a:lnTo>
                      <a:pt x="709" y="582"/>
                    </a:lnTo>
                    <a:lnTo>
                      <a:pt x="683" y="580"/>
                    </a:lnTo>
                    <a:lnTo>
                      <a:pt x="656" y="580"/>
                    </a:lnTo>
                    <a:lnTo>
                      <a:pt x="631" y="580"/>
                    </a:lnTo>
                    <a:lnTo>
                      <a:pt x="605" y="580"/>
                    </a:lnTo>
                    <a:lnTo>
                      <a:pt x="580" y="582"/>
                    </a:lnTo>
                    <a:lnTo>
                      <a:pt x="557" y="586"/>
                    </a:lnTo>
                    <a:lnTo>
                      <a:pt x="534" y="593"/>
                    </a:lnTo>
                    <a:lnTo>
                      <a:pt x="553" y="601"/>
                    </a:lnTo>
                    <a:lnTo>
                      <a:pt x="574" y="611"/>
                    </a:lnTo>
                    <a:lnTo>
                      <a:pt x="597" y="616"/>
                    </a:lnTo>
                    <a:lnTo>
                      <a:pt x="622" y="624"/>
                    </a:lnTo>
                    <a:lnTo>
                      <a:pt x="645" y="628"/>
                    </a:lnTo>
                    <a:lnTo>
                      <a:pt x="671" y="633"/>
                    </a:lnTo>
                    <a:lnTo>
                      <a:pt x="696" y="639"/>
                    </a:lnTo>
                    <a:lnTo>
                      <a:pt x="725" y="645"/>
                    </a:lnTo>
                    <a:lnTo>
                      <a:pt x="749" y="647"/>
                    </a:lnTo>
                    <a:lnTo>
                      <a:pt x="776" y="652"/>
                    </a:lnTo>
                    <a:lnTo>
                      <a:pt x="804" y="656"/>
                    </a:lnTo>
                    <a:lnTo>
                      <a:pt x="833" y="662"/>
                    </a:lnTo>
                    <a:lnTo>
                      <a:pt x="861" y="666"/>
                    </a:lnTo>
                    <a:lnTo>
                      <a:pt x="890" y="671"/>
                    </a:lnTo>
                    <a:lnTo>
                      <a:pt x="918" y="677"/>
                    </a:lnTo>
                    <a:lnTo>
                      <a:pt x="947" y="685"/>
                    </a:lnTo>
                    <a:lnTo>
                      <a:pt x="917" y="687"/>
                    </a:lnTo>
                    <a:lnTo>
                      <a:pt x="888" y="690"/>
                    </a:lnTo>
                    <a:lnTo>
                      <a:pt x="858" y="694"/>
                    </a:lnTo>
                    <a:lnTo>
                      <a:pt x="829" y="698"/>
                    </a:lnTo>
                    <a:lnTo>
                      <a:pt x="799" y="700"/>
                    </a:lnTo>
                    <a:lnTo>
                      <a:pt x="770" y="702"/>
                    </a:lnTo>
                    <a:lnTo>
                      <a:pt x="740" y="704"/>
                    </a:lnTo>
                    <a:lnTo>
                      <a:pt x="711" y="706"/>
                    </a:lnTo>
                    <a:lnTo>
                      <a:pt x="681" y="706"/>
                    </a:lnTo>
                    <a:lnTo>
                      <a:pt x="650" y="706"/>
                    </a:lnTo>
                    <a:lnTo>
                      <a:pt x="620" y="706"/>
                    </a:lnTo>
                    <a:lnTo>
                      <a:pt x="591" y="706"/>
                    </a:lnTo>
                    <a:lnTo>
                      <a:pt x="561" y="704"/>
                    </a:lnTo>
                    <a:lnTo>
                      <a:pt x="531" y="702"/>
                    </a:lnTo>
                    <a:lnTo>
                      <a:pt x="502" y="700"/>
                    </a:lnTo>
                    <a:lnTo>
                      <a:pt x="474" y="698"/>
                    </a:lnTo>
                    <a:lnTo>
                      <a:pt x="470" y="730"/>
                    </a:lnTo>
                    <a:lnTo>
                      <a:pt x="877" y="776"/>
                    </a:lnTo>
                    <a:lnTo>
                      <a:pt x="850" y="776"/>
                    </a:lnTo>
                    <a:lnTo>
                      <a:pt x="825" y="780"/>
                    </a:lnTo>
                    <a:lnTo>
                      <a:pt x="799" y="782"/>
                    </a:lnTo>
                    <a:lnTo>
                      <a:pt x="776" y="786"/>
                    </a:lnTo>
                    <a:lnTo>
                      <a:pt x="749" y="787"/>
                    </a:lnTo>
                    <a:lnTo>
                      <a:pt x="725" y="791"/>
                    </a:lnTo>
                    <a:lnTo>
                      <a:pt x="698" y="793"/>
                    </a:lnTo>
                    <a:lnTo>
                      <a:pt x="675" y="799"/>
                    </a:lnTo>
                    <a:lnTo>
                      <a:pt x="648" y="801"/>
                    </a:lnTo>
                    <a:lnTo>
                      <a:pt x="624" y="805"/>
                    </a:lnTo>
                    <a:lnTo>
                      <a:pt x="597" y="808"/>
                    </a:lnTo>
                    <a:lnTo>
                      <a:pt x="572" y="812"/>
                    </a:lnTo>
                    <a:lnTo>
                      <a:pt x="546" y="816"/>
                    </a:lnTo>
                    <a:lnTo>
                      <a:pt x="523" y="820"/>
                    </a:lnTo>
                    <a:lnTo>
                      <a:pt x="496" y="825"/>
                    </a:lnTo>
                    <a:lnTo>
                      <a:pt x="474" y="831"/>
                    </a:lnTo>
                    <a:lnTo>
                      <a:pt x="470" y="867"/>
                    </a:lnTo>
                    <a:lnTo>
                      <a:pt x="631" y="852"/>
                    </a:lnTo>
                    <a:lnTo>
                      <a:pt x="460" y="913"/>
                    </a:lnTo>
                    <a:lnTo>
                      <a:pt x="456" y="947"/>
                    </a:lnTo>
                    <a:lnTo>
                      <a:pt x="527" y="989"/>
                    </a:lnTo>
                    <a:lnTo>
                      <a:pt x="428" y="1035"/>
                    </a:lnTo>
                    <a:lnTo>
                      <a:pt x="411" y="1141"/>
                    </a:lnTo>
                    <a:lnTo>
                      <a:pt x="416" y="1141"/>
                    </a:lnTo>
                    <a:lnTo>
                      <a:pt x="428" y="1141"/>
                    </a:lnTo>
                    <a:lnTo>
                      <a:pt x="439" y="1141"/>
                    </a:lnTo>
                    <a:lnTo>
                      <a:pt x="455" y="1143"/>
                    </a:lnTo>
                    <a:lnTo>
                      <a:pt x="470" y="1143"/>
                    </a:lnTo>
                    <a:lnTo>
                      <a:pt x="487" y="1147"/>
                    </a:lnTo>
                    <a:lnTo>
                      <a:pt x="504" y="1147"/>
                    </a:lnTo>
                    <a:lnTo>
                      <a:pt x="521" y="1151"/>
                    </a:lnTo>
                    <a:lnTo>
                      <a:pt x="536" y="1151"/>
                    </a:lnTo>
                    <a:lnTo>
                      <a:pt x="553" y="1151"/>
                    </a:lnTo>
                    <a:lnTo>
                      <a:pt x="569" y="1151"/>
                    </a:lnTo>
                    <a:lnTo>
                      <a:pt x="586" y="1153"/>
                    </a:lnTo>
                    <a:lnTo>
                      <a:pt x="597" y="1151"/>
                    </a:lnTo>
                    <a:lnTo>
                      <a:pt x="610" y="1151"/>
                    </a:lnTo>
                    <a:lnTo>
                      <a:pt x="620" y="1149"/>
                    </a:lnTo>
                    <a:lnTo>
                      <a:pt x="628" y="1147"/>
                    </a:lnTo>
                    <a:lnTo>
                      <a:pt x="628" y="909"/>
                    </a:lnTo>
                    <a:lnTo>
                      <a:pt x="647" y="903"/>
                    </a:lnTo>
                    <a:lnTo>
                      <a:pt x="667" y="902"/>
                    </a:lnTo>
                    <a:lnTo>
                      <a:pt x="686" y="902"/>
                    </a:lnTo>
                    <a:lnTo>
                      <a:pt x="707" y="902"/>
                    </a:lnTo>
                    <a:lnTo>
                      <a:pt x="726" y="902"/>
                    </a:lnTo>
                    <a:lnTo>
                      <a:pt x="747" y="902"/>
                    </a:lnTo>
                    <a:lnTo>
                      <a:pt x="766" y="903"/>
                    </a:lnTo>
                    <a:lnTo>
                      <a:pt x="789" y="905"/>
                    </a:lnTo>
                    <a:lnTo>
                      <a:pt x="808" y="905"/>
                    </a:lnTo>
                    <a:lnTo>
                      <a:pt x="829" y="907"/>
                    </a:lnTo>
                    <a:lnTo>
                      <a:pt x="850" y="909"/>
                    </a:lnTo>
                    <a:lnTo>
                      <a:pt x="871" y="911"/>
                    </a:lnTo>
                    <a:lnTo>
                      <a:pt x="890" y="911"/>
                    </a:lnTo>
                    <a:lnTo>
                      <a:pt x="913" y="911"/>
                    </a:lnTo>
                    <a:lnTo>
                      <a:pt x="932" y="911"/>
                    </a:lnTo>
                    <a:lnTo>
                      <a:pt x="955" y="913"/>
                    </a:lnTo>
                    <a:lnTo>
                      <a:pt x="964" y="924"/>
                    </a:lnTo>
                    <a:lnTo>
                      <a:pt x="972" y="936"/>
                    </a:lnTo>
                    <a:lnTo>
                      <a:pt x="977" y="949"/>
                    </a:lnTo>
                    <a:lnTo>
                      <a:pt x="985" y="964"/>
                    </a:lnTo>
                    <a:lnTo>
                      <a:pt x="989" y="980"/>
                    </a:lnTo>
                    <a:lnTo>
                      <a:pt x="993" y="995"/>
                    </a:lnTo>
                    <a:lnTo>
                      <a:pt x="994" y="1012"/>
                    </a:lnTo>
                    <a:lnTo>
                      <a:pt x="998" y="1029"/>
                    </a:lnTo>
                    <a:lnTo>
                      <a:pt x="998" y="1044"/>
                    </a:lnTo>
                    <a:lnTo>
                      <a:pt x="998" y="1061"/>
                    </a:lnTo>
                    <a:lnTo>
                      <a:pt x="998" y="1077"/>
                    </a:lnTo>
                    <a:lnTo>
                      <a:pt x="1000" y="1094"/>
                    </a:lnTo>
                    <a:lnTo>
                      <a:pt x="1000" y="1109"/>
                    </a:lnTo>
                    <a:lnTo>
                      <a:pt x="1002" y="1124"/>
                    </a:lnTo>
                    <a:lnTo>
                      <a:pt x="1004" y="1139"/>
                    </a:lnTo>
                    <a:lnTo>
                      <a:pt x="1008" y="1155"/>
                    </a:lnTo>
                    <a:lnTo>
                      <a:pt x="1067" y="1168"/>
                    </a:lnTo>
                    <a:lnTo>
                      <a:pt x="1074" y="1223"/>
                    </a:lnTo>
                    <a:lnTo>
                      <a:pt x="922" y="1223"/>
                    </a:lnTo>
                    <a:lnTo>
                      <a:pt x="915" y="1223"/>
                    </a:lnTo>
                    <a:lnTo>
                      <a:pt x="911" y="1223"/>
                    </a:lnTo>
                    <a:lnTo>
                      <a:pt x="907" y="1206"/>
                    </a:lnTo>
                    <a:lnTo>
                      <a:pt x="907" y="1189"/>
                    </a:lnTo>
                    <a:lnTo>
                      <a:pt x="907" y="1170"/>
                    </a:lnTo>
                    <a:lnTo>
                      <a:pt x="907" y="1151"/>
                    </a:lnTo>
                    <a:lnTo>
                      <a:pt x="907" y="1132"/>
                    </a:lnTo>
                    <a:lnTo>
                      <a:pt x="909" y="1115"/>
                    </a:lnTo>
                    <a:lnTo>
                      <a:pt x="907" y="1094"/>
                    </a:lnTo>
                    <a:lnTo>
                      <a:pt x="907" y="1075"/>
                    </a:lnTo>
                    <a:lnTo>
                      <a:pt x="905" y="1058"/>
                    </a:lnTo>
                    <a:lnTo>
                      <a:pt x="903" y="1040"/>
                    </a:lnTo>
                    <a:lnTo>
                      <a:pt x="896" y="1023"/>
                    </a:lnTo>
                    <a:lnTo>
                      <a:pt x="890" y="1008"/>
                    </a:lnTo>
                    <a:lnTo>
                      <a:pt x="879" y="995"/>
                    </a:lnTo>
                    <a:lnTo>
                      <a:pt x="867" y="983"/>
                    </a:lnTo>
                    <a:lnTo>
                      <a:pt x="858" y="983"/>
                    </a:lnTo>
                    <a:lnTo>
                      <a:pt x="848" y="991"/>
                    </a:lnTo>
                    <a:lnTo>
                      <a:pt x="837" y="1002"/>
                    </a:lnTo>
                    <a:lnTo>
                      <a:pt x="827" y="1018"/>
                    </a:lnTo>
                    <a:lnTo>
                      <a:pt x="816" y="1033"/>
                    </a:lnTo>
                    <a:lnTo>
                      <a:pt x="804" y="1050"/>
                    </a:lnTo>
                    <a:lnTo>
                      <a:pt x="793" y="1069"/>
                    </a:lnTo>
                    <a:lnTo>
                      <a:pt x="783" y="1092"/>
                    </a:lnTo>
                    <a:lnTo>
                      <a:pt x="772" y="1111"/>
                    </a:lnTo>
                    <a:lnTo>
                      <a:pt x="761" y="1132"/>
                    </a:lnTo>
                    <a:lnTo>
                      <a:pt x="751" y="1151"/>
                    </a:lnTo>
                    <a:lnTo>
                      <a:pt x="744" y="1172"/>
                    </a:lnTo>
                    <a:lnTo>
                      <a:pt x="734" y="1187"/>
                    </a:lnTo>
                    <a:lnTo>
                      <a:pt x="728" y="1202"/>
                    </a:lnTo>
                    <a:lnTo>
                      <a:pt x="721" y="1213"/>
                    </a:lnTo>
                    <a:lnTo>
                      <a:pt x="719" y="1223"/>
                    </a:lnTo>
                    <a:lnTo>
                      <a:pt x="337" y="1223"/>
                    </a:lnTo>
                    <a:lnTo>
                      <a:pt x="299" y="523"/>
                    </a:lnTo>
                    <a:lnTo>
                      <a:pt x="261" y="512"/>
                    </a:lnTo>
                    <a:lnTo>
                      <a:pt x="226" y="504"/>
                    </a:lnTo>
                    <a:lnTo>
                      <a:pt x="194" y="496"/>
                    </a:lnTo>
                    <a:lnTo>
                      <a:pt x="166" y="491"/>
                    </a:lnTo>
                    <a:lnTo>
                      <a:pt x="137" y="483"/>
                    </a:lnTo>
                    <a:lnTo>
                      <a:pt x="114" y="477"/>
                    </a:lnTo>
                    <a:lnTo>
                      <a:pt x="91" y="468"/>
                    </a:lnTo>
                    <a:lnTo>
                      <a:pt x="74" y="458"/>
                    </a:lnTo>
                    <a:lnTo>
                      <a:pt x="55" y="443"/>
                    </a:lnTo>
                    <a:lnTo>
                      <a:pt x="42" y="426"/>
                    </a:lnTo>
                    <a:lnTo>
                      <a:pt x="29" y="407"/>
                    </a:lnTo>
                    <a:lnTo>
                      <a:pt x="19" y="384"/>
                    </a:lnTo>
                    <a:lnTo>
                      <a:pt x="10" y="356"/>
                    </a:lnTo>
                    <a:lnTo>
                      <a:pt x="6" y="323"/>
                    </a:lnTo>
                    <a:lnTo>
                      <a:pt x="0" y="283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Freeform 85"/>
              <p:cNvSpPr/>
              <p:nvPr/>
            </p:nvSpPr>
            <p:spPr>
              <a:xfrm flipH="1" rot="19783200">
                <a:off x="2847240" y="4887720"/>
                <a:ext cx="69840" cy="21240"/>
              </a:xfrm>
              <a:custGeom>
                <a:avLst/>
                <a:gdLst>
                  <a:gd name="textAreaLeft" fmla="*/ 360 w 69840"/>
                  <a:gd name="textAreaRight" fmla="*/ 70560 w 69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59" h="138">
                    <a:moveTo>
                      <a:pt x="6" y="58"/>
                    </a:moveTo>
                    <a:lnTo>
                      <a:pt x="130" y="0"/>
                    </a:lnTo>
                    <a:lnTo>
                      <a:pt x="459" y="70"/>
                    </a:lnTo>
                    <a:lnTo>
                      <a:pt x="308" y="125"/>
                    </a:lnTo>
                    <a:lnTo>
                      <a:pt x="295" y="127"/>
                    </a:lnTo>
                    <a:lnTo>
                      <a:pt x="278" y="131"/>
                    </a:lnTo>
                    <a:lnTo>
                      <a:pt x="257" y="133"/>
                    </a:lnTo>
                    <a:lnTo>
                      <a:pt x="234" y="136"/>
                    </a:lnTo>
                    <a:lnTo>
                      <a:pt x="206" y="136"/>
                    </a:lnTo>
                    <a:lnTo>
                      <a:pt x="179" y="138"/>
                    </a:lnTo>
                    <a:lnTo>
                      <a:pt x="153" y="138"/>
                    </a:lnTo>
                    <a:lnTo>
                      <a:pt x="126" y="138"/>
                    </a:lnTo>
                    <a:lnTo>
                      <a:pt x="97" y="133"/>
                    </a:lnTo>
                    <a:lnTo>
                      <a:pt x="73" y="129"/>
                    </a:lnTo>
                    <a:lnTo>
                      <a:pt x="48" y="123"/>
                    </a:lnTo>
                    <a:lnTo>
                      <a:pt x="31" y="116"/>
                    </a:lnTo>
                    <a:lnTo>
                      <a:pt x="16" y="102"/>
                    </a:lnTo>
                    <a:lnTo>
                      <a:pt x="6" y="91"/>
                    </a:lnTo>
                    <a:lnTo>
                      <a:pt x="0" y="76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Freeform 86"/>
              <p:cNvSpPr/>
              <p:nvPr/>
            </p:nvSpPr>
            <p:spPr>
              <a:xfrm flipH="1" rot="19783200">
                <a:off x="2956320" y="4978440"/>
                <a:ext cx="17640" cy="867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16" h="571">
                    <a:moveTo>
                      <a:pt x="33" y="0"/>
                    </a:moveTo>
                    <a:lnTo>
                      <a:pt x="46" y="29"/>
                    </a:lnTo>
                    <a:lnTo>
                      <a:pt x="59" y="57"/>
                    </a:lnTo>
                    <a:lnTo>
                      <a:pt x="69" y="88"/>
                    </a:lnTo>
                    <a:lnTo>
                      <a:pt x="78" y="120"/>
                    </a:lnTo>
                    <a:lnTo>
                      <a:pt x="82" y="151"/>
                    </a:lnTo>
                    <a:lnTo>
                      <a:pt x="86" y="183"/>
                    </a:lnTo>
                    <a:lnTo>
                      <a:pt x="88" y="215"/>
                    </a:lnTo>
                    <a:lnTo>
                      <a:pt x="92" y="250"/>
                    </a:lnTo>
                    <a:lnTo>
                      <a:pt x="92" y="282"/>
                    </a:lnTo>
                    <a:lnTo>
                      <a:pt x="92" y="314"/>
                    </a:lnTo>
                    <a:lnTo>
                      <a:pt x="92" y="347"/>
                    </a:lnTo>
                    <a:lnTo>
                      <a:pt x="96" y="379"/>
                    </a:lnTo>
                    <a:lnTo>
                      <a:pt x="96" y="409"/>
                    </a:lnTo>
                    <a:lnTo>
                      <a:pt x="101" y="442"/>
                    </a:lnTo>
                    <a:lnTo>
                      <a:pt x="107" y="474"/>
                    </a:lnTo>
                    <a:lnTo>
                      <a:pt x="116" y="506"/>
                    </a:lnTo>
                    <a:lnTo>
                      <a:pt x="82" y="571"/>
                    </a:lnTo>
                    <a:lnTo>
                      <a:pt x="67" y="571"/>
                    </a:lnTo>
                    <a:lnTo>
                      <a:pt x="56" y="571"/>
                    </a:lnTo>
                    <a:lnTo>
                      <a:pt x="44" y="546"/>
                    </a:lnTo>
                    <a:lnTo>
                      <a:pt x="35" y="514"/>
                    </a:lnTo>
                    <a:lnTo>
                      <a:pt x="25" y="472"/>
                    </a:lnTo>
                    <a:lnTo>
                      <a:pt x="18" y="426"/>
                    </a:lnTo>
                    <a:lnTo>
                      <a:pt x="12" y="375"/>
                    </a:lnTo>
                    <a:lnTo>
                      <a:pt x="8" y="326"/>
                    </a:lnTo>
                    <a:lnTo>
                      <a:pt x="2" y="270"/>
                    </a:lnTo>
                    <a:lnTo>
                      <a:pt x="2" y="217"/>
                    </a:lnTo>
                    <a:lnTo>
                      <a:pt x="0" y="166"/>
                    </a:lnTo>
                    <a:lnTo>
                      <a:pt x="4" y="120"/>
                    </a:lnTo>
                    <a:lnTo>
                      <a:pt x="6" y="77"/>
                    </a:lnTo>
                    <a:lnTo>
                      <a:pt x="14" y="42"/>
                    </a:lnTo>
                    <a:lnTo>
                      <a:pt x="21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Freeform 87"/>
              <p:cNvSpPr/>
              <p:nvPr/>
            </p:nvSpPr>
            <p:spPr>
              <a:xfrm flipH="1" rot="19783200">
                <a:off x="2789280" y="4908960"/>
                <a:ext cx="81720" cy="133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34" h="88">
                    <a:moveTo>
                      <a:pt x="534" y="17"/>
                    </a:moveTo>
                    <a:lnTo>
                      <a:pt x="232" y="88"/>
                    </a:lnTo>
                    <a:lnTo>
                      <a:pt x="217" y="82"/>
                    </a:lnTo>
                    <a:lnTo>
                      <a:pt x="201" y="76"/>
                    </a:lnTo>
                    <a:lnTo>
                      <a:pt x="186" y="70"/>
                    </a:lnTo>
                    <a:lnTo>
                      <a:pt x="173" y="67"/>
                    </a:lnTo>
                    <a:lnTo>
                      <a:pt x="158" y="61"/>
                    </a:lnTo>
                    <a:lnTo>
                      <a:pt x="144" y="59"/>
                    </a:lnTo>
                    <a:lnTo>
                      <a:pt x="129" y="53"/>
                    </a:lnTo>
                    <a:lnTo>
                      <a:pt x="116" y="51"/>
                    </a:lnTo>
                    <a:lnTo>
                      <a:pt x="99" y="46"/>
                    </a:lnTo>
                    <a:lnTo>
                      <a:pt x="85" y="42"/>
                    </a:lnTo>
                    <a:lnTo>
                      <a:pt x="68" y="38"/>
                    </a:lnTo>
                    <a:lnTo>
                      <a:pt x="55" y="34"/>
                    </a:lnTo>
                    <a:lnTo>
                      <a:pt x="40" y="29"/>
                    </a:lnTo>
                    <a:lnTo>
                      <a:pt x="27" y="25"/>
                    </a:lnTo>
                    <a:lnTo>
                      <a:pt x="11" y="21"/>
                    </a:lnTo>
                    <a:lnTo>
                      <a:pt x="0" y="17"/>
                    </a:lnTo>
                    <a:lnTo>
                      <a:pt x="4" y="11"/>
                    </a:lnTo>
                    <a:lnTo>
                      <a:pt x="21" y="6"/>
                    </a:lnTo>
                    <a:lnTo>
                      <a:pt x="44" y="2"/>
                    </a:lnTo>
                    <a:lnTo>
                      <a:pt x="76" y="2"/>
                    </a:lnTo>
                    <a:lnTo>
                      <a:pt x="112" y="0"/>
                    </a:lnTo>
                    <a:lnTo>
                      <a:pt x="156" y="0"/>
                    </a:lnTo>
                    <a:lnTo>
                      <a:pt x="201" y="0"/>
                    </a:lnTo>
                    <a:lnTo>
                      <a:pt x="251" y="2"/>
                    </a:lnTo>
                    <a:lnTo>
                      <a:pt x="297" y="2"/>
                    </a:lnTo>
                    <a:lnTo>
                      <a:pt x="344" y="4"/>
                    </a:lnTo>
                    <a:lnTo>
                      <a:pt x="390" y="6"/>
                    </a:lnTo>
                    <a:lnTo>
                      <a:pt x="432" y="10"/>
                    </a:lnTo>
                    <a:lnTo>
                      <a:pt x="468" y="10"/>
                    </a:lnTo>
                    <a:lnTo>
                      <a:pt x="498" y="13"/>
                    </a:lnTo>
                    <a:lnTo>
                      <a:pt x="519" y="13"/>
                    </a:lnTo>
                    <a:lnTo>
                      <a:pt x="53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Freeform 88"/>
              <p:cNvSpPr/>
              <p:nvPr/>
            </p:nvSpPr>
            <p:spPr>
              <a:xfrm flipH="1" rot="19783200">
                <a:off x="2788200" y="5007240"/>
                <a:ext cx="61560" cy="13932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404" h="915">
                    <a:moveTo>
                      <a:pt x="0" y="103"/>
                    </a:moveTo>
                    <a:lnTo>
                      <a:pt x="10" y="99"/>
                    </a:lnTo>
                    <a:lnTo>
                      <a:pt x="21" y="97"/>
                    </a:lnTo>
                    <a:lnTo>
                      <a:pt x="31" y="93"/>
                    </a:lnTo>
                    <a:lnTo>
                      <a:pt x="42" y="91"/>
                    </a:lnTo>
                    <a:lnTo>
                      <a:pt x="52" y="86"/>
                    </a:lnTo>
                    <a:lnTo>
                      <a:pt x="63" y="80"/>
                    </a:lnTo>
                    <a:lnTo>
                      <a:pt x="75" y="74"/>
                    </a:lnTo>
                    <a:lnTo>
                      <a:pt x="86" y="71"/>
                    </a:lnTo>
                    <a:lnTo>
                      <a:pt x="105" y="57"/>
                    </a:lnTo>
                    <a:lnTo>
                      <a:pt x="126" y="44"/>
                    </a:lnTo>
                    <a:lnTo>
                      <a:pt x="143" y="29"/>
                    </a:lnTo>
                    <a:lnTo>
                      <a:pt x="162" y="15"/>
                    </a:lnTo>
                    <a:lnTo>
                      <a:pt x="179" y="74"/>
                    </a:lnTo>
                    <a:lnTo>
                      <a:pt x="204" y="82"/>
                    </a:lnTo>
                    <a:lnTo>
                      <a:pt x="333" y="0"/>
                    </a:lnTo>
                    <a:lnTo>
                      <a:pt x="327" y="74"/>
                    </a:lnTo>
                    <a:lnTo>
                      <a:pt x="335" y="80"/>
                    </a:lnTo>
                    <a:lnTo>
                      <a:pt x="345" y="88"/>
                    </a:lnTo>
                    <a:lnTo>
                      <a:pt x="352" y="91"/>
                    </a:lnTo>
                    <a:lnTo>
                      <a:pt x="362" y="91"/>
                    </a:lnTo>
                    <a:lnTo>
                      <a:pt x="404" y="875"/>
                    </a:lnTo>
                    <a:lnTo>
                      <a:pt x="386" y="888"/>
                    </a:lnTo>
                    <a:lnTo>
                      <a:pt x="371" y="902"/>
                    </a:lnTo>
                    <a:lnTo>
                      <a:pt x="352" y="911"/>
                    </a:lnTo>
                    <a:lnTo>
                      <a:pt x="333" y="915"/>
                    </a:lnTo>
                    <a:lnTo>
                      <a:pt x="310" y="915"/>
                    </a:lnTo>
                    <a:lnTo>
                      <a:pt x="288" y="915"/>
                    </a:lnTo>
                    <a:lnTo>
                      <a:pt x="265" y="915"/>
                    </a:lnTo>
                    <a:lnTo>
                      <a:pt x="244" y="915"/>
                    </a:lnTo>
                    <a:lnTo>
                      <a:pt x="217" y="915"/>
                    </a:lnTo>
                    <a:lnTo>
                      <a:pt x="194" y="915"/>
                    </a:lnTo>
                    <a:lnTo>
                      <a:pt x="170" y="915"/>
                    </a:lnTo>
                    <a:lnTo>
                      <a:pt x="147" y="915"/>
                    </a:lnTo>
                    <a:lnTo>
                      <a:pt x="124" y="915"/>
                    </a:lnTo>
                    <a:lnTo>
                      <a:pt x="101" y="915"/>
                    </a:lnTo>
                    <a:lnTo>
                      <a:pt x="80" y="915"/>
                    </a:lnTo>
                    <a:lnTo>
                      <a:pt x="63" y="915"/>
                    </a:lnTo>
                    <a:lnTo>
                      <a:pt x="63" y="854"/>
                    </a:lnTo>
                    <a:lnTo>
                      <a:pt x="291" y="854"/>
                    </a:lnTo>
                    <a:lnTo>
                      <a:pt x="282" y="713"/>
                    </a:lnTo>
                    <a:lnTo>
                      <a:pt x="170" y="681"/>
                    </a:lnTo>
                    <a:lnTo>
                      <a:pt x="173" y="675"/>
                    </a:lnTo>
                    <a:lnTo>
                      <a:pt x="183" y="670"/>
                    </a:lnTo>
                    <a:lnTo>
                      <a:pt x="198" y="664"/>
                    </a:lnTo>
                    <a:lnTo>
                      <a:pt x="217" y="658"/>
                    </a:lnTo>
                    <a:lnTo>
                      <a:pt x="234" y="653"/>
                    </a:lnTo>
                    <a:lnTo>
                      <a:pt x="251" y="647"/>
                    </a:lnTo>
                    <a:lnTo>
                      <a:pt x="265" y="641"/>
                    </a:lnTo>
                    <a:lnTo>
                      <a:pt x="274" y="639"/>
                    </a:lnTo>
                    <a:lnTo>
                      <a:pt x="276" y="628"/>
                    </a:lnTo>
                    <a:lnTo>
                      <a:pt x="274" y="614"/>
                    </a:lnTo>
                    <a:lnTo>
                      <a:pt x="270" y="601"/>
                    </a:lnTo>
                    <a:lnTo>
                      <a:pt x="267" y="594"/>
                    </a:lnTo>
                    <a:lnTo>
                      <a:pt x="124" y="559"/>
                    </a:lnTo>
                    <a:lnTo>
                      <a:pt x="263" y="523"/>
                    </a:lnTo>
                    <a:lnTo>
                      <a:pt x="265" y="512"/>
                    </a:lnTo>
                    <a:lnTo>
                      <a:pt x="265" y="500"/>
                    </a:lnTo>
                    <a:lnTo>
                      <a:pt x="261" y="489"/>
                    </a:lnTo>
                    <a:lnTo>
                      <a:pt x="259" y="481"/>
                    </a:lnTo>
                    <a:lnTo>
                      <a:pt x="251" y="466"/>
                    </a:lnTo>
                    <a:lnTo>
                      <a:pt x="257" y="457"/>
                    </a:lnTo>
                    <a:lnTo>
                      <a:pt x="240" y="451"/>
                    </a:lnTo>
                    <a:lnTo>
                      <a:pt x="223" y="445"/>
                    </a:lnTo>
                    <a:lnTo>
                      <a:pt x="206" y="440"/>
                    </a:lnTo>
                    <a:lnTo>
                      <a:pt x="189" y="436"/>
                    </a:lnTo>
                    <a:lnTo>
                      <a:pt x="172" y="430"/>
                    </a:lnTo>
                    <a:lnTo>
                      <a:pt x="154" y="426"/>
                    </a:lnTo>
                    <a:lnTo>
                      <a:pt x="137" y="422"/>
                    </a:lnTo>
                    <a:lnTo>
                      <a:pt x="120" y="422"/>
                    </a:lnTo>
                    <a:lnTo>
                      <a:pt x="274" y="356"/>
                    </a:lnTo>
                    <a:lnTo>
                      <a:pt x="274" y="320"/>
                    </a:lnTo>
                    <a:lnTo>
                      <a:pt x="137" y="268"/>
                    </a:lnTo>
                    <a:lnTo>
                      <a:pt x="242" y="244"/>
                    </a:lnTo>
                    <a:lnTo>
                      <a:pt x="270" y="198"/>
                    </a:lnTo>
                    <a:lnTo>
                      <a:pt x="38" y="208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89"/>
              <p:cNvSpPr/>
              <p:nvPr/>
            </p:nvSpPr>
            <p:spPr>
              <a:xfrm flipH="1" rot="19783200">
                <a:off x="2669760" y="4869720"/>
                <a:ext cx="50040" cy="46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31" h="307">
                    <a:moveTo>
                      <a:pt x="28" y="0"/>
                    </a:moveTo>
                    <a:lnTo>
                      <a:pt x="51" y="2"/>
                    </a:lnTo>
                    <a:lnTo>
                      <a:pt x="76" y="10"/>
                    </a:lnTo>
                    <a:lnTo>
                      <a:pt x="99" y="21"/>
                    </a:lnTo>
                    <a:lnTo>
                      <a:pt x="123" y="38"/>
                    </a:lnTo>
                    <a:lnTo>
                      <a:pt x="144" y="56"/>
                    </a:lnTo>
                    <a:lnTo>
                      <a:pt x="167" y="77"/>
                    </a:lnTo>
                    <a:lnTo>
                      <a:pt x="188" y="99"/>
                    </a:lnTo>
                    <a:lnTo>
                      <a:pt x="209" y="124"/>
                    </a:lnTo>
                    <a:lnTo>
                      <a:pt x="226" y="147"/>
                    </a:lnTo>
                    <a:lnTo>
                      <a:pt x="245" y="173"/>
                    </a:lnTo>
                    <a:lnTo>
                      <a:pt x="260" y="196"/>
                    </a:lnTo>
                    <a:lnTo>
                      <a:pt x="277" y="223"/>
                    </a:lnTo>
                    <a:lnTo>
                      <a:pt x="291" y="244"/>
                    </a:lnTo>
                    <a:lnTo>
                      <a:pt x="306" y="267"/>
                    </a:lnTo>
                    <a:lnTo>
                      <a:pt x="317" y="288"/>
                    </a:lnTo>
                    <a:lnTo>
                      <a:pt x="331" y="307"/>
                    </a:lnTo>
                    <a:lnTo>
                      <a:pt x="315" y="295"/>
                    </a:lnTo>
                    <a:lnTo>
                      <a:pt x="296" y="282"/>
                    </a:lnTo>
                    <a:lnTo>
                      <a:pt x="270" y="265"/>
                    </a:lnTo>
                    <a:lnTo>
                      <a:pt x="243" y="248"/>
                    </a:lnTo>
                    <a:lnTo>
                      <a:pt x="209" y="225"/>
                    </a:lnTo>
                    <a:lnTo>
                      <a:pt x="177" y="204"/>
                    </a:lnTo>
                    <a:lnTo>
                      <a:pt x="142" y="179"/>
                    </a:lnTo>
                    <a:lnTo>
                      <a:pt x="110" y="156"/>
                    </a:lnTo>
                    <a:lnTo>
                      <a:pt x="78" y="130"/>
                    </a:lnTo>
                    <a:lnTo>
                      <a:pt x="51" y="107"/>
                    </a:lnTo>
                    <a:lnTo>
                      <a:pt x="28" y="84"/>
                    </a:lnTo>
                    <a:lnTo>
                      <a:pt x="11" y="63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7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Freeform 90"/>
              <p:cNvSpPr/>
              <p:nvPr/>
            </p:nvSpPr>
            <p:spPr>
              <a:xfrm flipH="1" rot="19783200">
                <a:off x="2678040" y="4890960"/>
                <a:ext cx="48600" cy="4428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20" h="291">
                    <a:moveTo>
                      <a:pt x="2" y="0"/>
                    </a:moveTo>
                    <a:lnTo>
                      <a:pt x="19" y="15"/>
                    </a:lnTo>
                    <a:lnTo>
                      <a:pt x="37" y="32"/>
                    </a:lnTo>
                    <a:lnTo>
                      <a:pt x="56" y="47"/>
                    </a:lnTo>
                    <a:lnTo>
                      <a:pt x="75" y="64"/>
                    </a:lnTo>
                    <a:lnTo>
                      <a:pt x="92" y="80"/>
                    </a:lnTo>
                    <a:lnTo>
                      <a:pt x="113" y="95"/>
                    </a:lnTo>
                    <a:lnTo>
                      <a:pt x="132" y="110"/>
                    </a:lnTo>
                    <a:lnTo>
                      <a:pt x="152" y="127"/>
                    </a:lnTo>
                    <a:lnTo>
                      <a:pt x="171" y="141"/>
                    </a:lnTo>
                    <a:lnTo>
                      <a:pt x="192" y="156"/>
                    </a:lnTo>
                    <a:lnTo>
                      <a:pt x="211" y="169"/>
                    </a:lnTo>
                    <a:lnTo>
                      <a:pt x="232" y="184"/>
                    </a:lnTo>
                    <a:lnTo>
                      <a:pt x="253" y="198"/>
                    </a:lnTo>
                    <a:lnTo>
                      <a:pt x="274" y="211"/>
                    </a:lnTo>
                    <a:lnTo>
                      <a:pt x="295" y="224"/>
                    </a:lnTo>
                    <a:lnTo>
                      <a:pt x="318" y="237"/>
                    </a:lnTo>
                    <a:lnTo>
                      <a:pt x="318" y="247"/>
                    </a:lnTo>
                    <a:lnTo>
                      <a:pt x="320" y="258"/>
                    </a:lnTo>
                    <a:lnTo>
                      <a:pt x="318" y="264"/>
                    </a:lnTo>
                    <a:lnTo>
                      <a:pt x="318" y="272"/>
                    </a:lnTo>
                    <a:lnTo>
                      <a:pt x="312" y="279"/>
                    </a:lnTo>
                    <a:lnTo>
                      <a:pt x="306" y="281"/>
                    </a:lnTo>
                    <a:lnTo>
                      <a:pt x="297" y="281"/>
                    </a:lnTo>
                    <a:lnTo>
                      <a:pt x="287" y="281"/>
                    </a:lnTo>
                    <a:lnTo>
                      <a:pt x="278" y="283"/>
                    </a:lnTo>
                    <a:lnTo>
                      <a:pt x="272" y="291"/>
                    </a:lnTo>
                    <a:lnTo>
                      <a:pt x="156" y="262"/>
                    </a:lnTo>
                    <a:lnTo>
                      <a:pt x="149" y="251"/>
                    </a:lnTo>
                    <a:lnTo>
                      <a:pt x="141" y="241"/>
                    </a:lnTo>
                    <a:lnTo>
                      <a:pt x="130" y="226"/>
                    </a:lnTo>
                    <a:lnTo>
                      <a:pt x="120" y="211"/>
                    </a:lnTo>
                    <a:lnTo>
                      <a:pt x="105" y="192"/>
                    </a:lnTo>
                    <a:lnTo>
                      <a:pt x="94" y="173"/>
                    </a:lnTo>
                    <a:lnTo>
                      <a:pt x="78" y="152"/>
                    </a:lnTo>
                    <a:lnTo>
                      <a:pt x="67" y="131"/>
                    </a:lnTo>
                    <a:lnTo>
                      <a:pt x="52" y="108"/>
                    </a:lnTo>
                    <a:lnTo>
                      <a:pt x="40" y="87"/>
                    </a:lnTo>
                    <a:lnTo>
                      <a:pt x="27" y="66"/>
                    </a:lnTo>
                    <a:lnTo>
                      <a:pt x="19" y="49"/>
                    </a:lnTo>
                    <a:lnTo>
                      <a:pt x="10" y="32"/>
                    </a:lnTo>
                    <a:lnTo>
                      <a:pt x="4" y="19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Freeform 91"/>
              <p:cNvSpPr/>
              <p:nvPr/>
            </p:nvSpPr>
            <p:spPr>
              <a:xfrm flipH="1" rot="19783200">
                <a:off x="2625480" y="5058720"/>
                <a:ext cx="186120" cy="142560"/>
              </a:xfrm>
              <a:custGeom>
                <a:avLst/>
                <a:gdLst>
                  <a:gd name="textAreaLeft" fmla="*/ -360 w 186120"/>
                  <a:gd name="textAreaRight" fmla="*/ 186120 w 186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219" h="933">
                    <a:moveTo>
                      <a:pt x="0" y="140"/>
                    </a:moveTo>
                    <a:lnTo>
                      <a:pt x="15" y="138"/>
                    </a:lnTo>
                    <a:lnTo>
                      <a:pt x="32" y="135"/>
                    </a:lnTo>
                    <a:lnTo>
                      <a:pt x="49" y="129"/>
                    </a:lnTo>
                    <a:lnTo>
                      <a:pt x="67" y="125"/>
                    </a:lnTo>
                    <a:lnTo>
                      <a:pt x="84" y="117"/>
                    </a:lnTo>
                    <a:lnTo>
                      <a:pt x="101" y="110"/>
                    </a:lnTo>
                    <a:lnTo>
                      <a:pt x="118" y="102"/>
                    </a:lnTo>
                    <a:lnTo>
                      <a:pt x="135" y="95"/>
                    </a:lnTo>
                    <a:lnTo>
                      <a:pt x="150" y="83"/>
                    </a:lnTo>
                    <a:lnTo>
                      <a:pt x="165" y="74"/>
                    </a:lnTo>
                    <a:lnTo>
                      <a:pt x="181" y="62"/>
                    </a:lnTo>
                    <a:lnTo>
                      <a:pt x="196" y="53"/>
                    </a:lnTo>
                    <a:lnTo>
                      <a:pt x="209" y="41"/>
                    </a:lnTo>
                    <a:lnTo>
                      <a:pt x="224" y="32"/>
                    </a:lnTo>
                    <a:lnTo>
                      <a:pt x="238" y="22"/>
                    </a:lnTo>
                    <a:lnTo>
                      <a:pt x="253" y="15"/>
                    </a:lnTo>
                    <a:lnTo>
                      <a:pt x="285" y="131"/>
                    </a:lnTo>
                    <a:lnTo>
                      <a:pt x="293" y="129"/>
                    </a:lnTo>
                    <a:lnTo>
                      <a:pt x="302" y="127"/>
                    </a:lnTo>
                    <a:lnTo>
                      <a:pt x="314" y="123"/>
                    </a:lnTo>
                    <a:lnTo>
                      <a:pt x="325" y="119"/>
                    </a:lnTo>
                    <a:lnTo>
                      <a:pt x="337" y="112"/>
                    </a:lnTo>
                    <a:lnTo>
                      <a:pt x="348" y="104"/>
                    </a:lnTo>
                    <a:lnTo>
                      <a:pt x="359" y="97"/>
                    </a:lnTo>
                    <a:lnTo>
                      <a:pt x="373" y="89"/>
                    </a:lnTo>
                    <a:lnTo>
                      <a:pt x="382" y="79"/>
                    </a:lnTo>
                    <a:lnTo>
                      <a:pt x="394" y="70"/>
                    </a:lnTo>
                    <a:lnTo>
                      <a:pt x="403" y="60"/>
                    </a:lnTo>
                    <a:lnTo>
                      <a:pt x="411" y="53"/>
                    </a:lnTo>
                    <a:lnTo>
                      <a:pt x="430" y="36"/>
                    </a:lnTo>
                    <a:lnTo>
                      <a:pt x="441" y="24"/>
                    </a:lnTo>
                    <a:lnTo>
                      <a:pt x="483" y="123"/>
                    </a:lnTo>
                    <a:lnTo>
                      <a:pt x="500" y="117"/>
                    </a:lnTo>
                    <a:lnTo>
                      <a:pt x="517" y="110"/>
                    </a:lnTo>
                    <a:lnTo>
                      <a:pt x="536" y="97"/>
                    </a:lnTo>
                    <a:lnTo>
                      <a:pt x="555" y="83"/>
                    </a:lnTo>
                    <a:lnTo>
                      <a:pt x="570" y="66"/>
                    </a:lnTo>
                    <a:lnTo>
                      <a:pt x="587" y="51"/>
                    </a:lnTo>
                    <a:lnTo>
                      <a:pt x="603" y="36"/>
                    </a:lnTo>
                    <a:lnTo>
                      <a:pt x="616" y="24"/>
                    </a:lnTo>
                    <a:lnTo>
                      <a:pt x="620" y="106"/>
                    </a:lnTo>
                    <a:lnTo>
                      <a:pt x="631" y="106"/>
                    </a:lnTo>
                    <a:lnTo>
                      <a:pt x="643" y="106"/>
                    </a:lnTo>
                    <a:lnTo>
                      <a:pt x="654" y="102"/>
                    </a:lnTo>
                    <a:lnTo>
                      <a:pt x="667" y="100"/>
                    </a:lnTo>
                    <a:lnTo>
                      <a:pt x="679" y="95"/>
                    </a:lnTo>
                    <a:lnTo>
                      <a:pt x="694" y="89"/>
                    </a:lnTo>
                    <a:lnTo>
                      <a:pt x="705" y="81"/>
                    </a:lnTo>
                    <a:lnTo>
                      <a:pt x="721" y="74"/>
                    </a:lnTo>
                    <a:lnTo>
                      <a:pt x="732" y="62"/>
                    </a:lnTo>
                    <a:lnTo>
                      <a:pt x="743" y="53"/>
                    </a:lnTo>
                    <a:lnTo>
                      <a:pt x="755" y="43"/>
                    </a:lnTo>
                    <a:lnTo>
                      <a:pt x="766" y="34"/>
                    </a:lnTo>
                    <a:lnTo>
                      <a:pt x="785" y="15"/>
                    </a:lnTo>
                    <a:lnTo>
                      <a:pt x="802" y="0"/>
                    </a:lnTo>
                    <a:lnTo>
                      <a:pt x="802" y="85"/>
                    </a:lnTo>
                    <a:lnTo>
                      <a:pt x="814" y="87"/>
                    </a:lnTo>
                    <a:lnTo>
                      <a:pt x="827" y="93"/>
                    </a:lnTo>
                    <a:lnTo>
                      <a:pt x="840" y="97"/>
                    </a:lnTo>
                    <a:lnTo>
                      <a:pt x="857" y="102"/>
                    </a:lnTo>
                    <a:lnTo>
                      <a:pt x="871" y="102"/>
                    </a:lnTo>
                    <a:lnTo>
                      <a:pt x="886" y="104"/>
                    </a:lnTo>
                    <a:lnTo>
                      <a:pt x="899" y="104"/>
                    </a:lnTo>
                    <a:lnTo>
                      <a:pt x="915" y="102"/>
                    </a:lnTo>
                    <a:lnTo>
                      <a:pt x="991" y="32"/>
                    </a:lnTo>
                    <a:lnTo>
                      <a:pt x="1061" y="85"/>
                    </a:lnTo>
                    <a:lnTo>
                      <a:pt x="1198" y="85"/>
                    </a:lnTo>
                    <a:lnTo>
                      <a:pt x="1219" y="173"/>
                    </a:lnTo>
                    <a:lnTo>
                      <a:pt x="253" y="239"/>
                    </a:lnTo>
                    <a:lnTo>
                      <a:pt x="253" y="268"/>
                    </a:lnTo>
                    <a:lnTo>
                      <a:pt x="255" y="296"/>
                    </a:lnTo>
                    <a:lnTo>
                      <a:pt x="257" y="325"/>
                    </a:lnTo>
                    <a:lnTo>
                      <a:pt x="259" y="355"/>
                    </a:lnTo>
                    <a:lnTo>
                      <a:pt x="259" y="384"/>
                    </a:lnTo>
                    <a:lnTo>
                      <a:pt x="259" y="412"/>
                    </a:lnTo>
                    <a:lnTo>
                      <a:pt x="259" y="443"/>
                    </a:lnTo>
                    <a:lnTo>
                      <a:pt x="260" y="473"/>
                    </a:lnTo>
                    <a:lnTo>
                      <a:pt x="259" y="502"/>
                    </a:lnTo>
                    <a:lnTo>
                      <a:pt x="259" y="532"/>
                    </a:lnTo>
                    <a:lnTo>
                      <a:pt x="259" y="561"/>
                    </a:lnTo>
                    <a:lnTo>
                      <a:pt x="259" y="591"/>
                    </a:lnTo>
                    <a:lnTo>
                      <a:pt x="257" y="620"/>
                    </a:lnTo>
                    <a:lnTo>
                      <a:pt x="257" y="650"/>
                    </a:lnTo>
                    <a:lnTo>
                      <a:pt x="257" y="679"/>
                    </a:lnTo>
                    <a:lnTo>
                      <a:pt x="257" y="709"/>
                    </a:lnTo>
                    <a:lnTo>
                      <a:pt x="49" y="933"/>
                    </a:lnTo>
                    <a:lnTo>
                      <a:pt x="44" y="916"/>
                    </a:lnTo>
                    <a:lnTo>
                      <a:pt x="42" y="899"/>
                    </a:lnTo>
                    <a:lnTo>
                      <a:pt x="42" y="882"/>
                    </a:lnTo>
                    <a:lnTo>
                      <a:pt x="46" y="865"/>
                    </a:lnTo>
                    <a:lnTo>
                      <a:pt x="48" y="848"/>
                    </a:lnTo>
                    <a:lnTo>
                      <a:pt x="53" y="831"/>
                    </a:lnTo>
                    <a:lnTo>
                      <a:pt x="59" y="814"/>
                    </a:lnTo>
                    <a:lnTo>
                      <a:pt x="68" y="798"/>
                    </a:lnTo>
                    <a:lnTo>
                      <a:pt x="74" y="781"/>
                    </a:lnTo>
                    <a:lnTo>
                      <a:pt x="84" y="764"/>
                    </a:lnTo>
                    <a:lnTo>
                      <a:pt x="95" y="749"/>
                    </a:lnTo>
                    <a:lnTo>
                      <a:pt x="106" y="737"/>
                    </a:lnTo>
                    <a:lnTo>
                      <a:pt x="118" y="722"/>
                    </a:lnTo>
                    <a:lnTo>
                      <a:pt x="129" y="711"/>
                    </a:lnTo>
                    <a:lnTo>
                      <a:pt x="141" y="699"/>
                    </a:lnTo>
                    <a:lnTo>
                      <a:pt x="154" y="692"/>
                    </a:lnTo>
                    <a:lnTo>
                      <a:pt x="158" y="642"/>
                    </a:lnTo>
                    <a:lnTo>
                      <a:pt x="150" y="631"/>
                    </a:lnTo>
                    <a:lnTo>
                      <a:pt x="143" y="620"/>
                    </a:lnTo>
                    <a:lnTo>
                      <a:pt x="135" y="608"/>
                    </a:lnTo>
                    <a:lnTo>
                      <a:pt x="129" y="599"/>
                    </a:lnTo>
                    <a:lnTo>
                      <a:pt x="122" y="587"/>
                    </a:lnTo>
                    <a:lnTo>
                      <a:pt x="116" y="576"/>
                    </a:lnTo>
                    <a:lnTo>
                      <a:pt x="110" y="564"/>
                    </a:lnTo>
                    <a:lnTo>
                      <a:pt x="106" y="553"/>
                    </a:lnTo>
                    <a:lnTo>
                      <a:pt x="101" y="540"/>
                    </a:lnTo>
                    <a:lnTo>
                      <a:pt x="95" y="526"/>
                    </a:lnTo>
                    <a:lnTo>
                      <a:pt x="91" y="513"/>
                    </a:lnTo>
                    <a:lnTo>
                      <a:pt x="91" y="502"/>
                    </a:lnTo>
                    <a:lnTo>
                      <a:pt x="87" y="488"/>
                    </a:lnTo>
                    <a:lnTo>
                      <a:pt x="87" y="477"/>
                    </a:lnTo>
                    <a:lnTo>
                      <a:pt x="87" y="464"/>
                    </a:lnTo>
                    <a:lnTo>
                      <a:pt x="91" y="452"/>
                    </a:lnTo>
                    <a:lnTo>
                      <a:pt x="25" y="422"/>
                    </a:lnTo>
                    <a:lnTo>
                      <a:pt x="19" y="403"/>
                    </a:lnTo>
                    <a:lnTo>
                      <a:pt x="15" y="386"/>
                    </a:lnTo>
                    <a:lnTo>
                      <a:pt x="11" y="369"/>
                    </a:lnTo>
                    <a:lnTo>
                      <a:pt x="11" y="351"/>
                    </a:lnTo>
                    <a:lnTo>
                      <a:pt x="8" y="332"/>
                    </a:lnTo>
                    <a:lnTo>
                      <a:pt x="6" y="315"/>
                    </a:lnTo>
                    <a:lnTo>
                      <a:pt x="6" y="298"/>
                    </a:lnTo>
                    <a:lnTo>
                      <a:pt x="6" y="281"/>
                    </a:lnTo>
                    <a:lnTo>
                      <a:pt x="4" y="262"/>
                    </a:lnTo>
                    <a:lnTo>
                      <a:pt x="2" y="245"/>
                    </a:lnTo>
                    <a:lnTo>
                      <a:pt x="2" y="228"/>
                    </a:lnTo>
                    <a:lnTo>
                      <a:pt x="2" y="211"/>
                    </a:lnTo>
                    <a:lnTo>
                      <a:pt x="0" y="192"/>
                    </a:lnTo>
                    <a:lnTo>
                      <a:pt x="0" y="175"/>
                    </a:lnTo>
                    <a:lnTo>
                      <a:pt x="0" y="157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Freeform 92"/>
              <p:cNvSpPr/>
              <p:nvPr/>
            </p:nvSpPr>
            <p:spPr>
              <a:xfrm flipH="1" rot="19783200">
                <a:off x="2634840" y="5111280"/>
                <a:ext cx="106920" cy="16200"/>
              </a:xfrm>
              <a:custGeom>
                <a:avLst/>
                <a:gdLst>
                  <a:gd name="textAreaLeft" fmla="*/ -360 w 106920"/>
                  <a:gd name="textAreaRight" fmla="*/ 106920 w 106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01" h="105">
                    <a:moveTo>
                      <a:pt x="0" y="35"/>
                    </a:moveTo>
                    <a:lnTo>
                      <a:pt x="39" y="29"/>
                    </a:lnTo>
                    <a:lnTo>
                      <a:pt x="83" y="23"/>
                    </a:lnTo>
                    <a:lnTo>
                      <a:pt x="125" y="19"/>
                    </a:lnTo>
                    <a:lnTo>
                      <a:pt x="169" y="16"/>
                    </a:lnTo>
                    <a:lnTo>
                      <a:pt x="211" y="10"/>
                    </a:lnTo>
                    <a:lnTo>
                      <a:pt x="254" y="8"/>
                    </a:lnTo>
                    <a:lnTo>
                      <a:pt x="296" y="4"/>
                    </a:lnTo>
                    <a:lnTo>
                      <a:pt x="340" y="4"/>
                    </a:lnTo>
                    <a:lnTo>
                      <a:pt x="382" y="0"/>
                    </a:lnTo>
                    <a:lnTo>
                      <a:pt x="425" y="0"/>
                    </a:lnTo>
                    <a:lnTo>
                      <a:pt x="467" y="0"/>
                    </a:lnTo>
                    <a:lnTo>
                      <a:pt x="511" y="2"/>
                    </a:lnTo>
                    <a:lnTo>
                      <a:pt x="553" y="2"/>
                    </a:lnTo>
                    <a:lnTo>
                      <a:pt x="597" y="8"/>
                    </a:lnTo>
                    <a:lnTo>
                      <a:pt x="638" y="12"/>
                    </a:lnTo>
                    <a:lnTo>
                      <a:pt x="684" y="19"/>
                    </a:lnTo>
                    <a:lnTo>
                      <a:pt x="690" y="25"/>
                    </a:lnTo>
                    <a:lnTo>
                      <a:pt x="697" y="37"/>
                    </a:lnTo>
                    <a:lnTo>
                      <a:pt x="701" y="48"/>
                    </a:lnTo>
                    <a:lnTo>
                      <a:pt x="699" y="59"/>
                    </a:lnTo>
                    <a:lnTo>
                      <a:pt x="667" y="59"/>
                    </a:lnTo>
                    <a:lnTo>
                      <a:pt x="631" y="63"/>
                    </a:lnTo>
                    <a:lnTo>
                      <a:pt x="591" y="69"/>
                    </a:lnTo>
                    <a:lnTo>
                      <a:pt x="547" y="75"/>
                    </a:lnTo>
                    <a:lnTo>
                      <a:pt x="498" y="80"/>
                    </a:lnTo>
                    <a:lnTo>
                      <a:pt x="448" y="86"/>
                    </a:lnTo>
                    <a:lnTo>
                      <a:pt x="395" y="92"/>
                    </a:lnTo>
                    <a:lnTo>
                      <a:pt x="344" y="99"/>
                    </a:lnTo>
                    <a:lnTo>
                      <a:pt x="290" y="101"/>
                    </a:lnTo>
                    <a:lnTo>
                      <a:pt x="239" y="105"/>
                    </a:lnTo>
                    <a:lnTo>
                      <a:pt x="190" y="105"/>
                    </a:lnTo>
                    <a:lnTo>
                      <a:pt x="146" y="105"/>
                    </a:lnTo>
                    <a:lnTo>
                      <a:pt x="102" y="99"/>
                    </a:lnTo>
                    <a:lnTo>
                      <a:pt x="64" y="94"/>
                    </a:lnTo>
                    <a:lnTo>
                      <a:pt x="34" y="84"/>
                    </a:lnTo>
                    <a:lnTo>
                      <a:pt x="9" y="7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93"/>
              <p:cNvSpPr/>
              <p:nvPr/>
            </p:nvSpPr>
            <p:spPr>
              <a:xfrm flipH="1" rot="19783200">
                <a:off x="2535480" y="4937040"/>
                <a:ext cx="28440" cy="622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189" h="411">
                    <a:moveTo>
                      <a:pt x="0" y="232"/>
                    </a:moveTo>
                    <a:lnTo>
                      <a:pt x="0" y="226"/>
                    </a:lnTo>
                    <a:lnTo>
                      <a:pt x="6" y="217"/>
                    </a:lnTo>
                    <a:lnTo>
                      <a:pt x="10" y="204"/>
                    </a:lnTo>
                    <a:lnTo>
                      <a:pt x="18" y="190"/>
                    </a:lnTo>
                    <a:lnTo>
                      <a:pt x="25" y="171"/>
                    </a:lnTo>
                    <a:lnTo>
                      <a:pt x="35" y="154"/>
                    </a:lnTo>
                    <a:lnTo>
                      <a:pt x="42" y="135"/>
                    </a:lnTo>
                    <a:lnTo>
                      <a:pt x="54" y="116"/>
                    </a:lnTo>
                    <a:lnTo>
                      <a:pt x="61" y="95"/>
                    </a:lnTo>
                    <a:lnTo>
                      <a:pt x="71" y="76"/>
                    </a:lnTo>
                    <a:lnTo>
                      <a:pt x="78" y="57"/>
                    </a:lnTo>
                    <a:lnTo>
                      <a:pt x="88" y="42"/>
                    </a:lnTo>
                    <a:lnTo>
                      <a:pt x="94" y="25"/>
                    </a:lnTo>
                    <a:lnTo>
                      <a:pt x="99" y="15"/>
                    </a:lnTo>
                    <a:lnTo>
                      <a:pt x="103" y="6"/>
                    </a:lnTo>
                    <a:lnTo>
                      <a:pt x="109" y="4"/>
                    </a:lnTo>
                    <a:lnTo>
                      <a:pt x="126" y="0"/>
                    </a:lnTo>
                    <a:lnTo>
                      <a:pt x="135" y="23"/>
                    </a:lnTo>
                    <a:lnTo>
                      <a:pt x="145" y="46"/>
                    </a:lnTo>
                    <a:lnTo>
                      <a:pt x="153" y="70"/>
                    </a:lnTo>
                    <a:lnTo>
                      <a:pt x="160" y="97"/>
                    </a:lnTo>
                    <a:lnTo>
                      <a:pt x="164" y="122"/>
                    </a:lnTo>
                    <a:lnTo>
                      <a:pt x="168" y="148"/>
                    </a:lnTo>
                    <a:lnTo>
                      <a:pt x="172" y="173"/>
                    </a:lnTo>
                    <a:lnTo>
                      <a:pt x="175" y="202"/>
                    </a:lnTo>
                    <a:lnTo>
                      <a:pt x="175" y="226"/>
                    </a:lnTo>
                    <a:lnTo>
                      <a:pt x="177" y="253"/>
                    </a:lnTo>
                    <a:lnTo>
                      <a:pt x="177" y="280"/>
                    </a:lnTo>
                    <a:lnTo>
                      <a:pt x="179" y="306"/>
                    </a:lnTo>
                    <a:lnTo>
                      <a:pt x="179" y="331"/>
                    </a:lnTo>
                    <a:lnTo>
                      <a:pt x="181" y="358"/>
                    </a:lnTo>
                    <a:lnTo>
                      <a:pt x="183" y="384"/>
                    </a:lnTo>
                    <a:lnTo>
                      <a:pt x="189" y="411"/>
                    </a:lnTo>
                    <a:lnTo>
                      <a:pt x="25" y="38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Freeform 94"/>
              <p:cNvSpPr/>
              <p:nvPr/>
            </p:nvSpPr>
            <p:spPr>
              <a:xfrm flipH="1" rot="19783200">
                <a:off x="2424600" y="5009040"/>
                <a:ext cx="33480" cy="6120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21" h="403">
                    <a:moveTo>
                      <a:pt x="0" y="308"/>
                    </a:moveTo>
                    <a:lnTo>
                      <a:pt x="6" y="286"/>
                    </a:lnTo>
                    <a:lnTo>
                      <a:pt x="16" y="265"/>
                    </a:lnTo>
                    <a:lnTo>
                      <a:pt x="23" y="244"/>
                    </a:lnTo>
                    <a:lnTo>
                      <a:pt x="35" y="225"/>
                    </a:lnTo>
                    <a:lnTo>
                      <a:pt x="42" y="204"/>
                    </a:lnTo>
                    <a:lnTo>
                      <a:pt x="54" y="185"/>
                    </a:lnTo>
                    <a:lnTo>
                      <a:pt x="65" y="166"/>
                    </a:lnTo>
                    <a:lnTo>
                      <a:pt x="76" y="149"/>
                    </a:lnTo>
                    <a:lnTo>
                      <a:pt x="88" y="128"/>
                    </a:lnTo>
                    <a:lnTo>
                      <a:pt x="99" y="109"/>
                    </a:lnTo>
                    <a:lnTo>
                      <a:pt x="111" y="90"/>
                    </a:lnTo>
                    <a:lnTo>
                      <a:pt x="122" y="73"/>
                    </a:lnTo>
                    <a:lnTo>
                      <a:pt x="133" y="54"/>
                    </a:lnTo>
                    <a:lnTo>
                      <a:pt x="147" y="35"/>
                    </a:lnTo>
                    <a:lnTo>
                      <a:pt x="160" y="17"/>
                    </a:lnTo>
                    <a:lnTo>
                      <a:pt x="175" y="0"/>
                    </a:lnTo>
                    <a:lnTo>
                      <a:pt x="221" y="10"/>
                    </a:lnTo>
                    <a:lnTo>
                      <a:pt x="217" y="42"/>
                    </a:lnTo>
                    <a:lnTo>
                      <a:pt x="217" y="76"/>
                    </a:lnTo>
                    <a:lnTo>
                      <a:pt x="215" y="107"/>
                    </a:lnTo>
                    <a:lnTo>
                      <a:pt x="215" y="139"/>
                    </a:lnTo>
                    <a:lnTo>
                      <a:pt x="213" y="168"/>
                    </a:lnTo>
                    <a:lnTo>
                      <a:pt x="211" y="198"/>
                    </a:lnTo>
                    <a:lnTo>
                      <a:pt x="206" y="225"/>
                    </a:lnTo>
                    <a:lnTo>
                      <a:pt x="202" y="251"/>
                    </a:lnTo>
                    <a:lnTo>
                      <a:pt x="192" y="274"/>
                    </a:lnTo>
                    <a:lnTo>
                      <a:pt x="181" y="297"/>
                    </a:lnTo>
                    <a:lnTo>
                      <a:pt x="166" y="318"/>
                    </a:lnTo>
                    <a:lnTo>
                      <a:pt x="149" y="339"/>
                    </a:lnTo>
                    <a:lnTo>
                      <a:pt x="126" y="356"/>
                    </a:lnTo>
                    <a:lnTo>
                      <a:pt x="99" y="373"/>
                    </a:lnTo>
                    <a:lnTo>
                      <a:pt x="65" y="388"/>
                    </a:lnTo>
                    <a:lnTo>
                      <a:pt x="29" y="40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95"/>
              <p:cNvSpPr/>
              <p:nvPr/>
            </p:nvSpPr>
            <p:spPr>
              <a:xfrm flipH="1" rot="19783200">
                <a:off x="2287440" y="5233320"/>
                <a:ext cx="271080" cy="119160"/>
              </a:xfrm>
              <a:custGeom>
                <a:avLst/>
                <a:gdLst>
                  <a:gd name="textAreaLeft" fmla="*/ -360 w 271080"/>
                  <a:gd name="textAreaRight" fmla="*/ 271080 w 27108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776" h="784">
                    <a:moveTo>
                      <a:pt x="0" y="166"/>
                    </a:moveTo>
                    <a:lnTo>
                      <a:pt x="112" y="99"/>
                    </a:lnTo>
                    <a:lnTo>
                      <a:pt x="116" y="99"/>
                    </a:lnTo>
                    <a:lnTo>
                      <a:pt x="122" y="105"/>
                    </a:lnTo>
                    <a:lnTo>
                      <a:pt x="127" y="116"/>
                    </a:lnTo>
                    <a:lnTo>
                      <a:pt x="137" y="130"/>
                    </a:lnTo>
                    <a:lnTo>
                      <a:pt x="144" y="141"/>
                    </a:lnTo>
                    <a:lnTo>
                      <a:pt x="158" y="152"/>
                    </a:lnTo>
                    <a:lnTo>
                      <a:pt x="163" y="154"/>
                    </a:lnTo>
                    <a:lnTo>
                      <a:pt x="171" y="158"/>
                    </a:lnTo>
                    <a:lnTo>
                      <a:pt x="181" y="158"/>
                    </a:lnTo>
                    <a:lnTo>
                      <a:pt x="192" y="158"/>
                    </a:lnTo>
                    <a:lnTo>
                      <a:pt x="186" y="92"/>
                    </a:lnTo>
                    <a:lnTo>
                      <a:pt x="200" y="111"/>
                    </a:lnTo>
                    <a:lnTo>
                      <a:pt x="215" y="132"/>
                    </a:lnTo>
                    <a:lnTo>
                      <a:pt x="230" y="149"/>
                    </a:lnTo>
                    <a:lnTo>
                      <a:pt x="247" y="166"/>
                    </a:lnTo>
                    <a:lnTo>
                      <a:pt x="260" y="181"/>
                    </a:lnTo>
                    <a:lnTo>
                      <a:pt x="277" y="198"/>
                    </a:lnTo>
                    <a:lnTo>
                      <a:pt x="295" y="213"/>
                    </a:lnTo>
                    <a:lnTo>
                      <a:pt x="312" y="229"/>
                    </a:lnTo>
                    <a:lnTo>
                      <a:pt x="289" y="99"/>
                    </a:lnTo>
                    <a:lnTo>
                      <a:pt x="350" y="166"/>
                    </a:lnTo>
                    <a:lnTo>
                      <a:pt x="363" y="152"/>
                    </a:lnTo>
                    <a:lnTo>
                      <a:pt x="329" y="12"/>
                    </a:lnTo>
                    <a:lnTo>
                      <a:pt x="418" y="4"/>
                    </a:lnTo>
                    <a:lnTo>
                      <a:pt x="418" y="17"/>
                    </a:lnTo>
                    <a:lnTo>
                      <a:pt x="420" y="35"/>
                    </a:lnTo>
                    <a:lnTo>
                      <a:pt x="422" y="48"/>
                    </a:lnTo>
                    <a:lnTo>
                      <a:pt x="426" y="65"/>
                    </a:lnTo>
                    <a:lnTo>
                      <a:pt x="430" y="80"/>
                    </a:lnTo>
                    <a:lnTo>
                      <a:pt x="433" y="95"/>
                    </a:lnTo>
                    <a:lnTo>
                      <a:pt x="437" y="111"/>
                    </a:lnTo>
                    <a:lnTo>
                      <a:pt x="443" y="128"/>
                    </a:lnTo>
                    <a:lnTo>
                      <a:pt x="521" y="128"/>
                    </a:lnTo>
                    <a:lnTo>
                      <a:pt x="509" y="139"/>
                    </a:lnTo>
                    <a:lnTo>
                      <a:pt x="502" y="154"/>
                    </a:lnTo>
                    <a:lnTo>
                      <a:pt x="494" y="168"/>
                    </a:lnTo>
                    <a:lnTo>
                      <a:pt x="490" y="185"/>
                    </a:lnTo>
                    <a:lnTo>
                      <a:pt x="487" y="198"/>
                    </a:lnTo>
                    <a:lnTo>
                      <a:pt x="489" y="213"/>
                    </a:lnTo>
                    <a:lnTo>
                      <a:pt x="490" y="229"/>
                    </a:lnTo>
                    <a:lnTo>
                      <a:pt x="500" y="244"/>
                    </a:lnTo>
                    <a:lnTo>
                      <a:pt x="504" y="244"/>
                    </a:lnTo>
                    <a:lnTo>
                      <a:pt x="515" y="246"/>
                    </a:lnTo>
                    <a:lnTo>
                      <a:pt x="528" y="248"/>
                    </a:lnTo>
                    <a:lnTo>
                      <a:pt x="546" y="251"/>
                    </a:lnTo>
                    <a:lnTo>
                      <a:pt x="559" y="253"/>
                    </a:lnTo>
                    <a:lnTo>
                      <a:pt x="574" y="257"/>
                    </a:lnTo>
                    <a:lnTo>
                      <a:pt x="584" y="259"/>
                    </a:lnTo>
                    <a:lnTo>
                      <a:pt x="591" y="261"/>
                    </a:lnTo>
                    <a:lnTo>
                      <a:pt x="555" y="341"/>
                    </a:lnTo>
                    <a:lnTo>
                      <a:pt x="559" y="350"/>
                    </a:lnTo>
                    <a:lnTo>
                      <a:pt x="570" y="360"/>
                    </a:lnTo>
                    <a:lnTo>
                      <a:pt x="584" y="364"/>
                    </a:lnTo>
                    <a:lnTo>
                      <a:pt x="601" y="367"/>
                    </a:lnTo>
                    <a:lnTo>
                      <a:pt x="616" y="367"/>
                    </a:lnTo>
                    <a:lnTo>
                      <a:pt x="633" y="369"/>
                    </a:lnTo>
                    <a:lnTo>
                      <a:pt x="648" y="371"/>
                    </a:lnTo>
                    <a:lnTo>
                      <a:pt x="663" y="373"/>
                    </a:lnTo>
                    <a:lnTo>
                      <a:pt x="622" y="443"/>
                    </a:lnTo>
                    <a:lnTo>
                      <a:pt x="631" y="453"/>
                    </a:lnTo>
                    <a:lnTo>
                      <a:pt x="644" y="461"/>
                    </a:lnTo>
                    <a:lnTo>
                      <a:pt x="658" y="464"/>
                    </a:lnTo>
                    <a:lnTo>
                      <a:pt x="675" y="466"/>
                    </a:lnTo>
                    <a:lnTo>
                      <a:pt x="688" y="464"/>
                    </a:lnTo>
                    <a:lnTo>
                      <a:pt x="703" y="461"/>
                    </a:lnTo>
                    <a:lnTo>
                      <a:pt x="715" y="455"/>
                    </a:lnTo>
                    <a:lnTo>
                      <a:pt x="728" y="447"/>
                    </a:lnTo>
                    <a:lnTo>
                      <a:pt x="713" y="548"/>
                    </a:lnTo>
                    <a:lnTo>
                      <a:pt x="749" y="577"/>
                    </a:lnTo>
                    <a:lnTo>
                      <a:pt x="836" y="485"/>
                    </a:lnTo>
                    <a:lnTo>
                      <a:pt x="816" y="590"/>
                    </a:lnTo>
                    <a:lnTo>
                      <a:pt x="846" y="601"/>
                    </a:lnTo>
                    <a:lnTo>
                      <a:pt x="920" y="523"/>
                    </a:lnTo>
                    <a:lnTo>
                      <a:pt x="937" y="615"/>
                    </a:lnTo>
                    <a:lnTo>
                      <a:pt x="951" y="616"/>
                    </a:lnTo>
                    <a:lnTo>
                      <a:pt x="966" y="620"/>
                    </a:lnTo>
                    <a:lnTo>
                      <a:pt x="981" y="622"/>
                    </a:lnTo>
                    <a:lnTo>
                      <a:pt x="994" y="622"/>
                    </a:lnTo>
                    <a:lnTo>
                      <a:pt x="1061" y="531"/>
                    </a:lnTo>
                    <a:lnTo>
                      <a:pt x="1089" y="618"/>
                    </a:lnTo>
                    <a:lnTo>
                      <a:pt x="1150" y="603"/>
                    </a:lnTo>
                    <a:lnTo>
                      <a:pt x="1205" y="586"/>
                    </a:lnTo>
                    <a:lnTo>
                      <a:pt x="1257" y="563"/>
                    </a:lnTo>
                    <a:lnTo>
                      <a:pt x="1306" y="538"/>
                    </a:lnTo>
                    <a:lnTo>
                      <a:pt x="1348" y="508"/>
                    </a:lnTo>
                    <a:lnTo>
                      <a:pt x="1388" y="476"/>
                    </a:lnTo>
                    <a:lnTo>
                      <a:pt x="1424" y="442"/>
                    </a:lnTo>
                    <a:lnTo>
                      <a:pt x="1458" y="403"/>
                    </a:lnTo>
                    <a:lnTo>
                      <a:pt x="1485" y="360"/>
                    </a:lnTo>
                    <a:lnTo>
                      <a:pt x="1513" y="314"/>
                    </a:lnTo>
                    <a:lnTo>
                      <a:pt x="1536" y="267"/>
                    </a:lnTo>
                    <a:lnTo>
                      <a:pt x="1561" y="219"/>
                    </a:lnTo>
                    <a:lnTo>
                      <a:pt x="1582" y="166"/>
                    </a:lnTo>
                    <a:lnTo>
                      <a:pt x="1603" y="112"/>
                    </a:lnTo>
                    <a:lnTo>
                      <a:pt x="1620" y="55"/>
                    </a:lnTo>
                    <a:lnTo>
                      <a:pt x="1639" y="0"/>
                    </a:lnTo>
                    <a:lnTo>
                      <a:pt x="1639" y="21"/>
                    </a:lnTo>
                    <a:lnTo>
                      <a:pt x="1639" y="42"/>
                    </a:lnTo>
                    <a:lnTo>
                      <a:pt x="1639" y="63"/>
                    </a:lnTo>
                    <a:lnTo>
                      <a:pt x="1639" y="86"/>
                    </a:lnTo>
                    <a:lnTo>
                      <a:pt x="1635" y="107"/>
                    </a:lnTo>
                    <a:lnTo>
                      <a:pt x="1633" y="128"/>
                    </a:lnTo>
                    <a:lnTo>
                      <a:pt x="1629" y="149"/>
                    </a:lnTo>
                    <a:lnTo>
                      <a:pt x="1625" y="171"/>
                    </a:lnTo>
                    <a:lnTo>
                      <a:pt x="1618" y="190"/>
                    </a:lnTo>
                    <a:lnTo>
                      <a:pt x="1612" y="213"/>
                    </a:lnTo>
                    <a:lnTo>
                      <a:pt x="1605" y="232"/>
                    </a:lnTo>
                    <a:lnTo>
                      <a:pt x="1599" y="255"/>
                    </a:lnTo>
                    <a:lnTo>
                      <a:pt x="1589" y="274"/>
                    </a:lnTo>
                    <a:lnTo>
                      <a:pt x="1580" y="295"/>
                    </a:lnTo>
                    <a:lnTo>
                      <a:pt x="1570" y="316"/>
                    </a:lnTo>
                    <a:lnTo>
                      <a:pt x="1563" y="337"/>
                    </a:lnTo>
                    <a:lnTo>
                      <a:pt x="1589" y="345"/>
                    </a:lnTo>
                    <a:lnTo>
                      <a:pt x="1597" y="329"/>
                    </a:lnTo>
                    <a:lnTo>
                      <a:pt x="1606" y="316"/>
                    </a:lnTo>
                    <a:lnTo>
                      <a:pt x="1614" y="301"/>
                    </a:lnTo>
                    <a:lnTo>
                      <a:pt x="1624" y="289"/>
                    </a:lnTo>
                    <a:lnTo>
                      <a:pt x="1631" y="274"/>
                    </a:lnTo>
                    <a:lnTo>
                      <a:pt x="1641" y="261"/>
                    </a:lnTo>
                    <a:lnTo>
                      <a:pt x="1650" y="248"/>
                    </a:lnTo>
                    <a:lnTo>
                      <a:pt x="1660" y="234"/>
                    </a:lnTo>
                    <a:lnTo>
                      <a:pt x="1667" y="219"/>
                    </a:lnTo>
                    <a:lnTo>
                      <a:pt x="1675" y="204"/>
                    </a:lnTo>
                    <a:lnTo>
                      <a:pt x="1681" y="189"/>
                    </a:lnTo>
                    <a:lnTo>
                      <a:pt x="1688" y="175"/>
                    </a:lnTo>
                    <a:lnTo>
                      <a:pt x="1692" y="160"/>
                    </a:lnTo>
                    <a:lnTo>
                      <a:pt x="1698" y="145"/>
                    </a:lnTo>
                    <a:lnTo>
                      <a:pt x="1702" y="128"/>
                    </a:lnTo>
                    <a:lnTo>
                      <a:pt x="1705" y="112"/>
                    </a:lnTo>
                    <a:lnTo>
                      <a:pt x="1776" y="137"/>
                    </a:lnTo>
                    <a:lnTo>
                      <a:pt x="1740" y="238"/>
                    </a:lnTo>
                    <a:lnTo>
                      <a:pt x="1700" y="333"/>
                    </a:lnTo>
                    <a:lnTo>
                      <a:pt x="1652" y="419"/>
                    </a:lnTo>
                    <a:lnTo>
                      <a:pt x="1599" y="500"/>
                    </a:lnTo>
                    <a:lnTo>
                      <a:pt x="1536" y="571"/>
                    </a:lnTo>
                    <a:lnTo>
                      <a:pt x="1470" y="634"/>
                    </a:lnTo>
                    <a:lnTo>
                      <a:pt x="1399" y="685"/>
                    </a:lnTo>
                    <a:lnTo>
                      <a:pt x="1325" y="729"/>
                    </a:lnTo>
                    <a:lnTo>
                      <a:pt x="1243" y="759"/>
                    </a:lnTo>
                    <a:lnTo>
                      <a:pt x="1160" y="778"/>
                    </a:lnTo>
                    <a:lnTo>
                      <a:pt x="1072" y="784"/>
                    </a:lnTo>
                    <a:lnTo>
                      <a:pt x="983" y="778"/>
                    </a:lnTo>
                    <a:lnTo>
                      <a:pt x="890" y="755"/>
                    </a:lnTo>
                    <a:lnTo>
                      <a:pt x="798" y="719"/>
                    </a:lnTo>
                    <a:lnTo>
                      <a:pt x="705" y="668"/>
                    </a:lnTo>
                    <a:lnTo>
                      <a:pt x="612" y="601"/>
                    </a:lnTo>
                    <a:lnTo>
                      <a:pt x="608" y="596"/>
                    </a:lnTo>
                    <a:lnTo>
                      <a:pt x="603" y="588"/>
                    </a:lnTo>
                    <a:lnTo>
                      <a:pt x="593" y="575"/>
                    </a:lnTo>
                    <a:lnTo>
                      <a:pt x="582" y="559"/>
                    </a:lnTo>
                    <a:lnTo>
                      <a:pt x="566" y="538"/>
                    </a:lnTo>
                    <a:lnTo>
                      <a:pt x="551" y="518"/>
                    </a:lnTo>
                    <a:lnTo>
                      <a:pt x="532" y="495"/>
                    </a:lnTo>
                    <a:lnTo>
                      <a:pt x="515" y="472"/>
                    </a:lnTo>
                    <a:lnTo>
                      <a:pt x="494" y="445"/>
                    </a:lnTo>
                    <a:lnTo>
                      <a:pt x="477" y="422"/>
                    </a:lnTo>
                    <a:lnTo>
                      <a:pt x="458" y="398"/>
                    </a:lnTo>
                    <a:lnTo>
                      <a:pt x="443" y="375"/>
                    </a:lnTo>
                    <a:lnTo>
                      <a:pt x="426" y="352"/>
                    </a:lnTo>
                    <a:lnTo>
                      <a:pt x="414" y="333"/>
                    </a:lnTo>
                    <a:lnTo>
                      <a:pt x="403" y="316"/>
                    </a:lnTo>
                    <a:lnTo>
                      <a:pt x="397" y="306"/>
                    </a:lnTo>
                    <a:lnTo>
                      <a:pt x="359" y="312"/>
                    </a:lnTo>
                    <a:lnTo>
                      <a:pt x="329" y="320"/>
                    </a:lnTo>
                    <a:lnTo>
                      <a:pt x="297" y="324"/>
                    </a:lnTo>
                    <a:lnTo>
                      <a:pt x="268" y="327"/>
                    </a:lnTo>
                    <a:lnTo>
                      <a:pt x="239" y="327"/>
                    </a:lnTo>
                    <a:lnTo>
                      <a:pt x="215" y="327"/>
                    </a:lnTo>
                    <a:lnTo>
                      <a:pt x="190" y="324"/>
                    </a:lnTo>
                    <a:lnTo>
                      <a:pt x="167" y="320"/>
                    </a:lnTo>
                    <a:lnTo>
                      <a:pt x="144" y="310"/>
                    </a:lnTo>
                    <a:lnTo>
                      <a:pt x="122" y="299"/>
                    </a:lnTo>
                    <a:lnTo>
                      <a:pt x="101" y="284"/>
                    </a:lnTo>
                    <a:lnTo>
                      <a:pt x="80" y="268"/>
                    </a:lnTo>
                    <a:lnTo>
                      <a:pt x="59" y="246"/>
                    </a:lnTo>
                    <a:lnTo>
                      <a:pt x="40" y="223"/>
                    </a:lnTo>
                    <a:lnTo>
                      <a:pt x="19" y="194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Freeform 96"/>
              <p:cNvSpPr/>
              <p:nvPr/>
            </p:nvSpPr>
            <p:spPr>
              <a:xfrm flipH="1" rot="19783200">
                <a:off x="2297520" y="5190480"/>
                <a:ext cx="135360" cy="143280"/>
              </a:xfrm>
              <a:custGeom>
                <a:avLst/>
                <a:gdLst>
                  <a:gd name="textAreaLeft" fmla="*/ 360 w 135360"/>
                  <a:gd name="textAreaRight" fmla="*/ 136080 w 13536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888" h="943">
                    <a:moveTo>
                      <a:pt x="0" y="441"/>
                    </a:moveTo>
                    <a:lnTo>
                      <a:pt x="96" y="432"/>
                    </a:lnTo>
                    <a:lnTo>
                      <a:pt x="101" y="453"/>
                    </a:lnTo>
                    <a:lnTo>
                      <a:pt x="107" y="476"/>
                    </a:lnTo>
                    <a:lnTo>
                      <a:pt x="115" y="498"/>
                    </a:lnTo>
                    <a:lnTo>
                      <a:pt x="124" y="523"/>
                    </a:lnTo>
                    <a:lnTo>
                      <a:pt x="134" y="546"/>
                    </a:lnTo>
                    <a:lnTo>
                      <a:pt x="145" y="571"/>
                    </a:lnTo>
                    <a:lnTo>
                      <a:pt x="156" y="593"/>
                    </a:lnTo>
                    <a:lnTo>
                      <a:pt x="172" y="618"/>
                    </a:lnTo>
                    <a:lnTo>
                      <a:pt x="183" y="637"/>
                    </a:lnTo>
                    <a:lnTo>
                      <a:pt x="200" y="658"/>
                    </a:lnTo>
                    <a:lnTo>
                      <a:pt x="215" y="675"/>
                    </a:lnTo>
                    <a:lnTo>
                      <a:pt x="234" y="692"/>
                    </a:lnTo>
                    <a:lnTo>
                      <a:pt x="251" y="706"/>
                    </a:lnTo>
                    <a:lnTo>
                      <a:pt x="274" y="719"/>
                    </a:lnTo>
                    <a:lnTo>
                      <a:pt x="295" y="728"/>
                    </a:lnTo>
                    <a:lnTo>
                      <a:pt x="320" y="736"/>
                    </a:lnTo>
                    <a:lnTo>
                      <a:pt x="339" y="738"/>
                    </a:lnTo>
                    <a:lnTo>
                      <a:pt x="360" y="742"/>
                    </a:lnTo>
                    <a:lnTo>
                      <a:pt x="379" y="744"/>
                    </a:lnTo>
                    <a:lnTo>
                      <a:pt x="402" y="747"/>
                    </a:lnTo>
                    <a:lnTo>
                      <a:pt x="421" y="746"/>
                    </a:lnTo>
                    <a:lnTo>
                      <a:pt x="442" y="746"/>
                    </a:lnTo>
                    <a:lnTo>
                      <a:pt x="462" y="744"/>
                    </a:lnTo>
                    <a:lnTo>
                      <a:pt x="485" y="742"/>
                    </a:lnTo>
                    <a:lnTo>
                      <a:pt x="504" y="734"/>
                    </a:lnTo>
                    <a:lnTo>
                      <a:pt x="525" y="728"/>
                    </a:lnTo>
                    <a:lnTo>
                      <a:pt x="544" y="717"/>
                    </a:lnTo>
                    <a:lnTo>
                      <a:pt x="565" y="708"/>
                    </a:lnTo>
                    <a:lnTo>
                      <a:pt x="584" y="694"/>
                    </a:lnTo>
                    <a:lnTo>
                      <a:pt x="603" y="679"/>
                    </a:lnTo>
                    <a:lnTo>
                      <a:pt x="620" y="660"/>
                    </a:lnTo>
                    <a:lnTo>
                      <a:pt x="639" y="639"/>
                    </a:lnTo>
                    <a:lnTo>
                      <a:pt x="662" y="603"/>
                    </a:lnTo>
                    <a:lnTo>
                      <a:pt x="681" y="567"/>
                    </a:lnTo>
                    <a:lnTo>
                      <a:pt x="698" y="531"/>
                    </a:lnTo>
                    <a:lnTo>
                      <a:pt x="713" y="495"/>
                    </a:lnTo>
                    <a:lnTo>
                      <a:pt x="723" y="455"/>
                    </a:lnTo>
                    <a:lnTo>
                      <a:pt x="731" y="417"/>
                    </a:lnTo>
                    <a:lnTo>
                      <a:pt x="736" y="377"/>
                    </a:lnTo>
                    <a:lnTo>
                      <a:pt x="742" y="339"/>
                    </a:lnTo>
                    <a:lnTo>
                      <a:pt x="742" y="297"/>
                    </a:lnTo>
                    <a:lnTo>
                      <a:pt x="744" y="257"/>
                    </a:lnTo>
                    <a:lnTo>
                      <a:pt x="742" y="217"/>
                    </a:lnTo>
                    <a:lnTo>
                      <a:pt x="742" y="177"/>
                    </a:lnTo>
                    <a:lnTo>
                      <a:pt x="738" y="137"/>
                    </a:lnTo>
                    <a:lnTo>
                      <a:pt x="736" y="97"/>
                    </a:lnTo>
                    <a:lnTo>
                      <a:pt x="732" y="57"/>
                    </a:lnTo>
                    <a:lnTo>
                      <a:pt x="731" y="17"/>
                    </a:lnTo>
                    <a:lnTo>
                      <a:pt x="808" y="0"/>
                    </a:lnTo>
                    <a:lnTo>
                      <a:pt x="826" y="150"/>
                    </a:lnTo>
                    <a:lnTo>
                      <a:pt x="850" y="162"/>
                    </a:lnTo>
                    <a:lnTo>
                      <a:pt x="885" y="116"/>
                    </a:lnTo>
                    <a:lnTo>
                      <a:pt x="886" y="143"/>
                    </a:lnTo>
                    <a:lnTo>
                      <a:pt x="888" y="171"/>
                    </a:lnTo>
                    <a:lnTo>
                      <a:pt x="885" y="202"/>
                    </a:lnTo>
                    <a:lnTo>
                      <a:pt x="881" y="236"/>
                    </a:lnTo>
                    <a:lnTo>
                      <a:pt x="873" y="270"/>
                    </a:lnTo>
                    <a:lnTo>
                      <a:pt x="867" y="304"/>
                    </a:lnTo>
                    <a:lnTo>
                      <a:pt x="858" y="339"/>
                    </a:lnTo>
                    <a:lnTo>
                      <a:pt x="850" y="375"/>
                    </a:lnTo>
                    <a:lnTo>
                      <a:pt x="839" y="405"/>
                    </a:lnTo>
                    <a:lnTo>
                      <a:pt x="829" y="437"/>
                    </a:lnTo>
                    <a:lnTo>
                      <a:pt x="818" y="466"/>
                    </a:lnTo>
                    <a:lnTo>
                      <a:pt x="812" y="495"/>
                    </a:lnTo>
                    <a:lnTo>
                      <a:pt x="807" y="517"/>
                    </a:lnTo>
                    <a:lnTo>
                      <a:pt x="803" y="538"/>
                    </a:lnTo>
                    <a:lnTo>
                      <a:pt x="801" y="555"/>
                    </a:lnTo>
                    <a:lnTo>
                      <a:pt x="805" y="569"/>
                    </a:lnTo>
                    <a:lnTo>
                      <a:pt x="822" y="582"/>
                    </a:lnTo>
                    <a:lnTo>
                      <a:pt x="826" y="569"/>
                    </a:lnTo>
                    <a:lnTo>
                      <a:pt x="833" y="555"/>
                    </a:lnTo>
                    <a:lnTo>
                      <a:pt x="845" y="538"/>
                    </a:lnTo>
                    <a:lnTo>
                      <a:pt x="858" y="523"/>
                    </a:lnTo>
                    <a:lnTo>
                      <a:pt x="867" y="506"/>
                    </a:lnTo>
                    <a:lnTo>
                      <a:pt x="879" y="491"/>
                    </a:lnTo>
                    <a:lnTo>
                      <a:pt x="885" y="479"/>
                    </a:lnTo>
                    <a:lnTo>
                      <a:pt x="888" y="474"/>
                    </a:lnTo>
                    <a:lnTo>
                      <a:pt x="883" y="502"/>
                    </a:lnTo>
                    <a:lnTo>
                      <a:pt x="877" y="534"/>
                    </a:lnTo>
                    <a:lnTo>
                      <a:pt x="867" y="569"/>
                    </a:lnTo>
                    <a:lnTo>
                      <a:pt x="858" y="603"/>
                    </a:lnTo>
                    <a:lnTo>
                      <a:pt x="845" y="637"/>
                    </a:lnTo>
                    <a:lnTo>
                      <a:pt x="831" y="671"/>
                    </a:lnTo>
                    <a:lnTo>
                      <a:pt x="814" y="706"/>
                    </a:lnTo>
                    <a:lnTo>
                      <a:pt x="799" y="740"/>
                    </a:lnTo>
                    <a:lnTo>
                      <a:pt x="776" y="770"/>
                    </a:lnTo>
                    <a:lnTo>
                      <a:pt x="755" y="803"/>
                    </a:lnTo>
                    <a:lnTo>
                      <a:pt x="732" y="831"/>
                    </a:lnTo>
                    <a:lnTo>
                      <a:pt x="710" y="860"/>
                    </a:lnTo>
                    <a:lnTo>
                      <a:pt x="683" y="884"/>
                    </a:lnTo>
                    <a:lnTo>
                      <a:pt x="656" y="907"/>
                    </a:lnTo>
                    <a:lnTo>
                      <a:pt x="628" y="926"/>
                    </a:lnTo>
                    <a:lnTo>
                      <a:pt x="601" y="943"/>
                    </a:lnTo>
                    <a:lnTo>
                      <a:pt x="592" y="940"/>
                    </a:lnTo>
                    <a:lnTo>
                      <a:pt x="596" y="924"/>
                    </a:lnTo>
                    <a:lnTo>
                      <a:pt x="599" y="913"/>
                    </a:lnTo>
                    <a:lnTo>
                      <a:pt x="607" y="903"/>
                    </a:lnTo>
                    <a:lnTo>
                      <a:pt x="615" y="890"/>
                    </a:lnTo>
                    <a:lnTo>
                      <a:pt x="624" y="879"/>
                    </a:lnTo>
                    <a:lnTo>
                      <a:pt x="632" y="863"/>
                    </a:lnTo>
                    <a:lnTo>
                      <a:pt x="641" y="852"/>
                    </a:lnTo>
                    <a:lnTo>
                      <a:pt x="649" y="839"/>
                    </a:lnTo>
                    <a:lnTo>
                      <a:pt x="658" y="829"/>
                    </a:lnTo>
                    <a:lnTo>
                      <a:pt x="670" y="812"/>
                    </a:lnTo>
                    <a:lnTo>
                      <a:pt x="675" y="806"/>
                    </a:lnTo>
                    <a:lnTo>
                      <a:pt x="668" y="789"/>
                    </a:lnTo>
                    <a:lnTo>
                      <a:pt x="615" y="814"/>
                    </a:lnTo>
                    <a:lnTo>
                      <a:pt x="561" y="835"/>
                    </a:lnTo>
                    <a:lnTo>
                      <a:pt x="508" y="848"/>
                    </a:lnTo>
                    <a:lnTo>
                      <a:pt x="457" y="858"/>
                    </a:lnTo>
                    <a:lnTo>
                      <a:pt x="402" y="858"/>
                    </a:lnTo>
                    <a:lnTo>
                      <a:pt x="350" y="854"/>
                    </a:lnTo>
                    <a:lnTo>
                      <a:pt x="299" y="843"/>
                    </a:lnTo>
                    <a:lnTo>
                      <a:pt x="251" y="827"/>
                    </a:lnTo>
                    <a:lnTo>
                      <a:pt x="204" y="801"/>
                    </a:lnTo>
                    <a:lnTo>
                      <a:pt x="162" y="770"/>
                    </a:lnTo>
                    <a:lnTo>
                      <a:pt x="122" y="732"/>
                    </a:lnTo>
                    <a:lnTo>
                      <a:pt x="88" y="690"/>
                    </a:lnTo>
                    <a:lnTo>
                      <a:pt x="56" y="637"/>
                    </a:lnTo>
                    <a:lnTo>
                      <a:pt x="33" y="580"/>
                    </a:lnTo>
                    <a:lnTo>
                      <a:pt x="12" y="514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Freeform 97"/>
              <p:cNvSpPr/>
              <p:nvPr/>
            </p:nvSpPr>
            <p:spPr>
              <a:xfrm flipH="1" rot="19783200">
                <a:off x="2321640" y="5155920"/>
                <a:ext cx="43920" cy="4788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87" h="315">
                    <a:moveTo>
                      <a:pt x="55" y="83"/>
                    </a:moveTo>
                    <a:lnTo>
                      <a:pt x="185" y="0"/>
                    </a:lnTo>
                    <a:lnTo>
                      <a:pt x="287" y="9"/>
                    </a:lnTo>
                    <a:lnTo>
                      <a:pt x="151" y="116"/>
                    </a:lnTo>
                    <a:lnTo>
                      <a:pt x="21" y="315"/>
                    </a:lnTo>
                    <a:lnTo>
                      <a:pt x="12" y="298"/>
                    </a:lnTo>
                    <a:lnTo>
                      <a:pt x="8" y="281"/>
                    </a:lnTo>
                    <a:lnTo>
                      <a:pt x="2" y="266"/>
                    </a:lnTo>
                    <a:lnTo>
                      <a:pt x="2" y="253"/>
                    </a:lnTo>
                    <a:lnTo>
                      <a:pt x="0" y="239"/>
                    </a:lnTo>
                    <a:lnTo>
                      <a:pt x="0" y="226"/>
                    </a:lnTo>
                    <a:lnTo>
                      <a:pt x="2" y="213"/>
                    </a:lnTo>
                    <a:lnTo>
                      <a:pt x="6" y="201"/>
                    </a:lnTo>
                    <a:lnTo>
                      <a:pt x="8" y="188"/>
                    </a:lnTo>
                    <a:lnTo>
                      <a:pt x="14" y="175"/>
                    </a:lnTo>
                    <a:lnTo>
                      <a:pt x="19" y="161"/>
                    </a:lnTo>
                    <a:lnTo>
                      <a:pt x="25" y="148"/>
                    </a:lnTo>
                    <a:lnTo>
                      <a:pt x="31" y="133"/>
                    </a:lnTo>
                    <a:lnTo>
                      <a:pt x="38" y="118"/>
                    </a:lnTo>
                    <a:lnTo>
                      <a:pt x="46" y="100"/>
                    </a:lnTo>
                    <a:lnTo>
                      <a:pt x="55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Freeform 98"/>
              <p:cNvSpPr/>
              <p:nvPr/>
            </p:nvSpPr>
            <p:spPr>
              <a:xfrm flipH="1" rot="19783200">
                <a:off x="2295720" y="5328720"/>
                <a:ext cx="37800" cy="67320"/>
              </a:xfrm>
              <a:custGeom>
                <a:avLst/>
                <a:gdLst>
                  <a:gd name="textAreaLeft" fmla="*/ -360 w 37800"/>
                  <a:gd name="textAreaRight" fmla="*/ 37800 w 37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9" h="443">
                    <a:moveTo>
                      <a:pt x="201" y="0"/>
                    </a:moveTo>
                    <a:lnTo>
                      <a:pt x="247" y="3"/>
                    </a:lnTo>
                    <a:lnTo>
                      <a:pt x="247" y="49"/>
                    </a:lnTo>
                    <a:lnTo>
                      <a:pt x="249" y="91"/>
                    </a:lnTo>
                    <a:lnTo>
                      <a:pt x="247" y="127"/>
                    </a:lnTo>
                    <a:lnTo>
                      <a:pt x="245" y="161"/>
                    </a:lnTo>
                    <a:lnTo>
                      <a:pt x="239" y="190"/>
                    </a:lnTo>
                    <a:lnTo>
                      <a:pt x="235" y="216"/>
                    </a:lnTo>
                    <a:lnTo>
                      <a:pt x="226" y="241"/>
                    </a:lnTo>
                    <a:lnTo>
                      <a:pt x="216" y="266"/>
                    </a:lnTo>
                    <a:lnTo>
                      <a:pt x="201" y="285"/>
                    </a:lnTo>
                    <a:lnTo>
                      <a:pt x="184" y="306"/>
                    </a:lnTo>
                    <a:lnTo>
                      <a:pt x="165" y="327"/>
                    </a:lnTo>
                    <a:lnTo>
                      <a:pt x="142" y="348"/>
                    </a:lnTo>
                    <a:lnTo>
                      <a:pt x="114" y="369"/>
                    </a:lnTo>
                    <a:lnTo>
                      <a:pt x="85" y="391"/>
                    </a:lnTo>
                    <a:lnTo>
                      <a:pt x="49" y="414"/>
                    </a:lnTo>
                    <a:lnTo>
                      <a:pt x="11" y="443"/>
                    </a:lnTo>
                    <a:lnTo>
                      <a:pt x="2" y="431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11" y="367"/>
                    </a:lnTo>
                    <a:lnTo>
                      <a:pt x="21" y="336"/>
                    </a:lnTo>
                    <a:lnTo>
                      <a:pt x="36" y="304"/>
                    </a:lnTo>
                    <a:lnTo>
                      <a:pt x="53" y="270"/>
                    </a:lnTo>
                    <a:lnTo>
                      <a:pt x="74" y="235"/>
                    </a:lnTo>
                    <a:lnTo>
                      <a:pt x="91" y="197"/>
                    </a:lnTo>
                    <a:lnTo>
                      <a:pt x="112" y="163"/>
                    </a:lnTo>
                    <a:lnTo>
                      <a:pt x="131" y="127"/>
                    </a:lnTo>
                    <a:lnTo>
                      <a:pt x="152" y="95"/>
                    </a:lnTo>
                    <a:lnTo>
                      <a:pt x="167" y="64"/>
                    </a:lnTo>
                    <a:lnTo>
                      <a:pt x="182" y="38"/>
                    </a:lnTo>
                    <a:lnTo>
                      <a:pt x="192" y="1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99"/>
              <p:cNvSpPr/>
              <p:nvPr/>
            </p:nvSpPr>
            <p:spPr>
              <a:xfrm flipH="1" rot="19783200">
                <a:off x="2206080" y="5220360"/>
                <a:ext cx="60120" cy="124200"/>
              </a:xfrm>
              <a:custGeom>
                <a:avLst/>
                <a:gdLst>
                  <a:gd name="textAreaLeft" fmla="*/ -360 w 60120"/>
                  <a:gd name="textAreaRight" fmla="*/ 60120 w 6012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395" h="814">
                    <a:moveTo>
                      <a:pt x="0" y="8"/>
                    </a:moveTo>
                    <a:lnTo>
                      <a:pt x="25" y="2"/>
                    </a:lnTo>
                    <a:lnTo>
                      <a:pt x="49" y="0"/>
                    </a:lnTo>
                    <a:lnTo>
                      <a:pt x="72" y="0"/>
                    </a:lnTo>
                    <a:lnTo>
                      <a:pt x="95" y="4"/>
                    </a:lnTo>
                    <a:lnTo>
                      <a:pt x="116" y="8"/>
                    </a:lnTo>
                    <a:lnTo>
                      <a:pt x="139" y="15"/>
                    </a:lnTo>
                    <a:lnTo>
                      <a:pt x="160" y="21"/>
                    </a:lnTo>
                    <a:lnTo>
                      <a:pt x="181" y="32"/>
                    </a:lnTo>
                    <a:lnTo>
                      <a:pt x="198" y="42"/>
                    </a:lnTo>
                    <a:lnTo>
                      <a:pt x="217" y="55"/>
                    </a:lnTo>
                    <a:lnTo>
                      <a:pt x="234" y="69"/>
                    </a:lnTo>
                    <a:lnTo>
                      <a:pt x="253" y="86"/>
                    </a:lnTo>
                    <a:lnTo>
                      <a:pt x="268" y="101"/>
                    </a:lnTo>
                    <a:lnTo>
                      <a:pt x="283" y="120"/>
                    </a:lnTo>
                    <a:lnTo>
                      <a:pt x="297" y="139"/>
                    </a:lnTo>
                    <a:lnTo>
                      <a:pt x="312" y="162"/>
                    </a:lnTo>
                    <a:lnTo>
                      <a:pt x="348" y="166"/>
                    </a:lnTo>
                    <a:lnTo>
                      <a:pt x="359" y="209"/>
                    </a:lnTo>
                    <a:lnTo>
                      <a:pt x="375" y="259"/>
                    </a:lnTo>
                    <a:lnTo>
                      <a:pt x="384" y="308"/>
                    </a:lnTo>
                    <a:lnTo>
                      <a:pt x="394" y="363"/>
                    </a:lnTo>
                    <a:lnTo>
                      <a:pt x="395" y="415"/>
                    </a:lnTo>
                    <a:lnTo>
                      <a:pt x="395" y="468"/>
                    </a:lnTo>
                    <a:lnTo>
                      <a:pt x="392" y="519"/>
                    </a:lnTo>
                    <a:lnTo>
                      <a:pt x="386" y="573"/>
                    </a:lnTo>
                    <a:lnTo>
                      <a:pt x="369" y="618"/>
                    </a:lnTo>
                    <a:lnTo>
                      <a:pt x="354" y="664"/>
                    </a:lnTo>
                    <a:lnTo>
                      <a:pt x="329" y="702"/>
                    </a:lnTo>
                    <a:lnTo>
                      <a:pt x="300" y="738"/>
                    </a:lnTo>
                    <a:lnTo>
                      <a:pt x="262" y="767"/>
                    </a:lnTo>
                    <a:lnTo>
                      <a:pt x="221" y="789"/>
                    </a:lnTo>
                    <a:lnTo>
                      <a:pt x="171" y="805"/>
                    </a:lnTo>
                    <a:lnTo>
                      <a:pt x="116" y="814"/>
                    </a:lnTo>
                    <a:lnTo>
                      <a:pt x="46" y="806"/>
                    </a:lnTo>
                    <a:lnTo>
                      <a:pt x="46" y="793"/>
                    </a:lnTo>
                    <a:lnTo>
                      <a:pt x="46" y="780"/>
                    </a:lnTo>
                    <a:lnTo>
                      <a:pt x="46" y="767"/>
                    </a:lnTo>
                    <a:lnTo>
                      <a:pt x="47" y="753"/>
                    </a:lnTo>
                    <a:lnTo>
                      <a:pt x="49" y="738"/>
                    </a:lnTo>
                    <a:lnTo>
                      <a:pt x="53" y="723"/>
                    </a:lnTo>
                    <a:lnTo>
                      <a:pt x="55" y="708"/>
                    </a:lnTo>
                    <a:lnTo>
                      <a:pt x="61" y="694"/>
                    </a:lnTo>
                    <a:lnTo>
                      <a:pt x="63" y="677"/>
                    </a:lnTo>
                    <a:lnTo>
                      <a:pt x="67" y="664"/>
                    </a:lnTo>
                    <a:lnTo>
                      <a:pt x="72" y="649"/>
                    </a:lnTo>
                    <a:lnTo>
                      <a:pt x="78" y="637"/>
                    </a:lnTo>
                    <a:lnTo>
                      <a:pt x="84" y="624"/>
                    </a:lnTo>
                    <a:lnTo>
                      <a:pt x="89" y="613"/>
                    </a:lnTo>
                    <a:lnTo>
                      <a:pt x="97" y="601"/>
                    </a:lnTo>
                    <a:lnTo>
                      <a:pt x="105" y="593"/>
                    </a:lnTo>
                    <a:lnTo>
                      <a:pt x="150" y="611"/>
                    </a:lnTo>
                    <a:lnTo>
                      <a:pt x="150" y="622"/>
                    </a:lnTo>
                    <a:lnTo>
                      <a:pt x="154" y="633"/>
                    </a:lnTo>
                    <a:lnTo>
                      <a:pt x="156" y="645"/>
                    </a:lnTo>
                    <a:lnTo>
                      <a:pt x="160" y="656"/>
                    </a:lnTo>
                    <a:lnTo>
                      <a:pt x="162" y="666"/>
                    </a:lnTo>
                    <a:lnTo>
                      <a:pt x="165" y="675"/>
                    </a:lnTo>
                    <a:lnTo>
                      <a:pt x="167" y="683"/>
                    </a:lnTo>
                    <a:lnTo>
                      <a:pt x="171" y="692"/>
                    </a:lnTo>
                    <a:lnTo>
                      <a:pt x="177" y="700"/>
                    </a:lnTo>
                    <a:lnTo>
                      <a:pt x="182" y="704"/>
                    </a:lnTo>
                    <a:lnTo>
                      <a:pt x="188" y="702"/>
                    </a:lnTo>
                    <a:lnTo>
                      <a:pt x="196" y="694"/>
                    </a:lnTo>
                    <a:lnTo>
                      <a:pt x="221" y="590"/>
                    </a:lnTo>
                    <a:lnTo>
                      <a:pt x="226" y="590"/>
                    </a:lnTo>
                    <a:lnTo>
                      <a:pt x="234" y="597"/>
                    </a:lnTo>
                    <a:lnTo>
                      <a:pt x="240" y="607"/>
                    </a:lnTo>
                    <a:lnTo>
                      <a:pt x="247" y="618"/>
                    </a:lnTo>
                    <a:lnTo>
                      <a:pt x="251" y="628"/>
                    </a:lnTo>
                    <a:lnTo>
                      <a:pt x="257" y="639"/>
                    </a:lnTo>
                    <a:lnTo>
                      <a:pt x="262" y="645"/>
                    </a:lnTo>
                    <a:lnTo>
                      <a:pt x="274" y="649"/>
                    </a:lnTo>
                    <a:lnTo>
                      <a:pt x="281" y="624"/>
                    </a:lnTo>
                    <a:lnTo>
                      <a:pt x="289" y="601"/>
                    </a:lnTo>
                    <a:lnTo>
                      <a:pt x="295" y="578"/>
                    </a:lnTo>
                    <a:lnTo>
                      <a:pt x="302" y="555"/>
                    </a:lnTo>
                    <a:lnTo>
                      <a:pt x="306" y="531"/>
                    </a:lnTo>
                    <a:lnTo>
                      <a:pt x="310" y="508"/>
                    </a:lnTo>
                    <a:lnTo>
                      <a:pt x="312" y="485"/>
                    </a:lnTo>
                    <a:lnTo>
                      <a:pt x="316" y="462"/>
                    </a:lnTo>
                    <a:lnTo>
                      <a:pt x="316" y="438"/>
                    </a:lnTo>
                    <a:lnTo>
                      <a:pt x="316" y="415"/>
                    </a:lnTo>
                    <a:lnTo>
                      <a:pt x="314" y="390"/>
                    </a:lnTo>
                    <a:lnTo>
                      <a:pt x="314" y="367"/>
                    </a:lnTo>
                    <a:lnTo>
                      <a:pt x="310" y="342"/>
                    </a:lnTo>
                    <a:lnTo>
                      <a:pt x="308" y="320"/>
                    </a:lnTo>
                    <a:lnTo>
                      <a:pt x="304" y="297"/>
                    </a:lnTo>
                    <a:lnTo>
                      <a:pt x="302" y="274"/>
                    </a:lnTo>
                    <a:lnTo>
                      <a:pt x="262" y="242"/>
                    </a:lnTo>
                    <a:lnTo>
                      <a:pt x="262" y="379"/>
                    </a:lnTo>
                    <a:lnTo>
                      <a:pt x="186" y="257"/>
                    </a:lnTo>
                    <a:lnTo>
                      <a:pt x="190" y="274"/>
                    </a:lnTo>
                    <a:lnTo>
                      <a:pt x="194" y="295"/>
                    </a:lnTo>
                    <a:lnTo>
                      <a:pt x="194" y="306"/>
                    </a:lnTo>
                    <a:lnTo>
                      <a:pt x="194" y="318"/>
                    </a:lnTo>
                    <a:lnTo>
                      <a:pt x="194" y="329"/>
                    </a:lnTo>
                    <a:lnTo>
                      <a:pt x="196" y="341"/>
                    </a:lnTo>
                    <a:lnTo>
                      <a:pt x="194" y="350"/>
                    </a:lnTo>
                    <a:lnTo>
                      <a:pt x="192" y="361"/>
                    </a:lnTo>
                    <a:lnTo>
                      <a:pt x="190" y="373"/>
                    </a:lnTo>
                    <a:lnTo>
                      <a:pt x="190" y="384"/>
                    </a:lnTo>
                    <a:lnTo>
                      <a:pt x="186" y="394"/>
                    </a:lnTo>
                    <a:lnTo>
                      <a:pt x="186" y="405"/>
                    </a:lnTo>
                    <a:lnTo>
                      <a:pt x="182" y="417"/>
                    </a:lnTo>
                    <a:lnTo>
                      <a:pt x="182" y="428"/>
                    </a:lnTo>
                    <a:lnTo>
                      <a:pt x="91" y="287"/>
                    </a:lnTo>
                    <a:lnTo>
                      <a:pt x="87" y="268"/>
                    </a:lnTo>
                    <a:lnTo>
                      <a:pt x="86" y="251"/>
                    </a:lnTo>
                    <a:lnTo>
                      <a:pt x="84" y="232"/>
                    </a:lnTo>
                    <a:lnTo>
                      <a:pt x="82" y="215"/>
                    </a:lnTo>
                    <a:lnTo>
                      <a:pt x="76" y="196"/>
                    </a:lnTo>
                    <a:lnTo>
                      <a:pt x="70" y="179"/>
                    </a:lnTo>
                    <a:lnTo>
                      <a:pt x="65" y="162"/>
                    </a:lnTo>
                    <a:lnTo>
                      <a:pt x="61" y="145"/>
                    </a:lnTo>
                    <a:lnTo>
                      <a:pt x="53" y="126"/>
                    </a:lnTo>
                    <a:lnTo>
                      <a:pt x="46" y="107"/>
                    </a:lnTo>
                    <a:lnTo>
                      <a:pt x="38" y="90"/>
                    </a:lnTo>
                    <a:lnTo>
                      <a:pt x="32" y="72"/>
                    </a:lnTo>
                    <a:lnTo>
                      <a:pt x="23" y="55"/>
                    </a:lnTo>
                    <a:lnTo>
                      <a:pt x="15" y="38"/>
                    </a:lnTo>
                    <a:lnTo>
                      <a:pt x="8" y="2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00"/>
              <p:cNvSpPr/>
              <p:nvPr/>
            </p:nvSpPr>
            <p:spPr>
              <a:xfrm flipH="1" rot="19783200">
                <a:off x="2176200" y="5197320"/>
                <a:ext cx="33840" cy="115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0" h="76">
                    <a:moveTo>
                      <a:pt x="0" y="3"/>
                    </a:moveTo>
                    <a:lnTo>
                      <a:pt x="13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85" y="1"/>
                    </a:lnTo>
                    <a:lnTo>
                      <a:pt x="100" y="3"/>
                    </a:lnTo>
                    <a:lnTo>
                      <a:pt x="115" y="9"/>
                    </a:lnTo>
                    <a:lnTo>
                      <a:pt x="129" y="11"/>
                    </a:lnTo>
                    <a:lnTo>
                      <a:pt x="142" y="17"/>
                    </a:lnTo>
                    <a:lnTo>
                      <a:pt x="155" y="22"/>
                    </a:lnTo>
                    <a:lnTo>
                      <a:pt x="171" y="30"/>
                    </a:lnTo>
                    <a:lnTo>
                      <a:pt x="182" y="36"/>
                    </a:lnTo>
                    <a:lnTo>
                      <a:pt x="195" y="45"/>
                    </a:lnTo>
                    <a:lnTo>
                      <a:pt x="207" y="55"/>
                    </a:lnTo>
                    <a:lnTo>
                      <a:pt x="220" y="66"/>
                    </a:lnTo>
                    <a:lnTo>
                      <a:pt x="209" y="60"/>
                    </a:lnTo>
                    <a:lnTo>
                      <a:pt x="197" y="58"/>
                    </a:lnTo>
                    <a:lnTo>
                      <a:pt x="186" y="57"/>
                    </a:lnTo>
                    <a:lnTo>
                      <a:pt x="174" y="57"/>
                    </a:lnTo>
                    <a:lnTo>
                      <a:pt x="163" y="57"/>
                    </a:lnTo>
                    <a:lnTo>
                      <a:pt x="152" y="57"/>
                    </a:lnTo>
                    <a:lnTo>
                      <a:pt x="140" y="57"/>
                    </a:lnTo>
                    <a:lnTo>
                      <a:pt x="129" y="58"/>
                    </a:lnTo>
                    <a:lnTo>
                      <a:pt x="117" y="58"/>
                    </a:lnTo>
                    <a:lnTo>
                      <a:pt x="106" y="60"/>
                    </a:lnTo>
                    <a:lnTo>
                      <a:pt x="95" y="62"/>
                    </a:lnTo>
                    <a:lnTo>
                      <a:pt x="83" y="64"/>
                    </a:lnTo>
                    <a:lnTo>
                      <a:pt x="72" y="66"/>
                    </a:lnTo>
                    <a:lnTo>
                      <a:pt x="60" y="70"/>
                    </a:lnTo>
                    <a:lnTo>
                      <a:pt x="51" y="72"/>
                    </a:lnTo>
                    <a:lnTo>
                      <a:pt x="41" y="7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101"/>
              <p:cNvSpPr/>
              <p:nvPr/>
            </p:nvSpPr>
            <p:spPr>
              <a:xfrm flipH="1" rot="19783200">
                <a:off x="2177280" y="5217480"/>
                <a:ext cx="30240" cy="10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0" h="70">
                    <a:moveTo>
                      <a:pt x="0" y="0"/>
                    </a:moveTo>
                    <a:lnTo>
                      <a:pt x="200" y="4"/>
                    </a:lnTo>
                    <a:lnTo>
                      <a:pt x="200" y="19"/>
                    </a:lnTo>
                    <a:lnTo>
                      <a:pt x="194" y="32"/>
                    </a:lnTo>
                    <a:lnTo>
                      <a:pt x="185" y="42"/>
                    </a:lnTo>
                    <a:lnTo>
                      <a:pt x="175" y="53"/>
                    </a:lnTo>
                    <a:lnTo>
                      <a:pt x="158" y="59"/>
                    </a:lnTo>
                    <a:lnTo>
                      <a:pt x="143" y="64"/>
                    </a:lnTo>
                    <a:lnTo>
                      <a:pt x="128" y="68"/>
                    </a:lnTo>
                    <a:lnTo>
                      <a:pt x="11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Freeform 102"/>
              <p:cNvSpPr/>
              <p:nvPr/>
            </p:nvSpPr>
            <p:spPr>
              <a:xfrm flipH="1" rot="19783200">
                <a:off x="2174760" y="5264640"/>
                <a:ext cx="42480" cy="691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80" h="452">
                    <a:moveTo>
                      <a:pt x="0" y="21"/>
                    </a:moveTo>
                    <a:lnTo>
                      <a:pt x="65" y="2"/>
                    </a:lnTo>
                    <a:lnTo>
                      <a:pt x="122" y="0"/>
                    </a:lnTo>
                    <a:lnTo>
                      <a:pt x="170" y="11"/>
                    </a:lnTo>
                    <a:lnTo>
                      <a:pt x="210" y="38"/>
                    </a:lnTo>
                    <a:lnTo>
                      <a:pt x="238" y="70"/>
                    </a:lnTo>
                    <a:lnTo>
                      <a:pt x="261" y="114"/>
                    </a:lnTo>
                    <a:lnTo>
                      <a:pt x="274" y="163"/>
                    </a:lnTo>
                    <a:lnTo>
                      <a:pt x="280" y="215"/>
                    </a:lnTo>
                    <a:lnTo>
                      <a:pt x="274" y="264"/>
                    </a:lnTo>
                    <a:lnTo>
                      <a:pt x="263" y="315"/>
                    </a:lnTo>
                    <a:lnTo>
                      <a:pt x="244" y="361"/>
                    </a:lnTo>
                    <a:lnTo>
                      <a:pt x="217" y="401"/>
                    </a:lnTo>
                    <a:lnTo>
                      <a:pt x="181" y="429"/>
                    </a:lnTo>
                    <a:lnTo>
                      <a:pt x="139" y="448"/>
                    </a:lnTo>
                    <a:lnTo>
                      <a:pt x="86" y="452"/>
                    </a:lnTo>
                    <a:lnTo>
                      <a:pt x="33" y="445"/>
                    </a:lnTo>
                    <a:lnTo>
                      <a:pt x="42" y="336"/>
                    </a:lnTo>
                    <a:lnTo>
                      <a:pt x="156" y="340"/>
                    </a:lnTo>
                    <a:lnTo>
                      <a:pt x="166" y="329"/>
                    </a:lnTo>
                    <a:lnTo>
                      <a:pt x="174" y="319"/>
                    </a:lnTo>
                    <a:lnTo>
                      <a:pt x="179" y="308"/>
                    </a:lnTo>
                    <a:lnTo>
                      <a:pt x="187" y="298"/>
                    </a:lnTo>
                    <a:lnTo>
                      <a:pt x="191" y="287"/>
                    </a:lnTo>
                    <a:lnTo>
                      <a:pt x="194" y="275"/>
                    </a:lnTo>
                    <a:lnTo>
                      <a:pt x="198" y="264"/>
                    </a:lnTo>
                    <a:lnTo>
                      <a:pt x="202" y="253"/>
                    </a:lnTo>
                    <a:lnTo>
                      <a:pt x="202" y="239"/>
                    </a:lnTo>
                    <a:lnTo>
                      <a:pt x="204" y="226"/>
                    </a:lnTo>
                    <a:lnTo>
                      <a:pt x="204" y="215"/>
                    </a:lnTo>
                    <a:lnTo>
                      <a:pt x="204" y="203"/>
                    </a:lnTo>
                    <a:lnTo>
                      <a:pt x="202" y="190"/>
                    </a:lnTo>
                    <a:lnTo>
                      <a:pt x="202" y="177"/>
                    </a:lnTo>
                    <a:lnTo>
                      <a:pt x="202" y="165"/>
                    </a:lnTo>
                    <a:lnTo>
                      <a:pt x="202" y="154"/>
                    </a:lnTo>
                    <a:lnTo>
                      <a:pt x="177" y="150"/>
                    </a:lnTo>
                    <a:lnTo>
                      <a:pt x="147" y="220"/>
                    </a:lnTo>
                    <a:lnTo>
                      <a:pt x="115" y="137"/>
                    </a:lnTo>
                    <a:lnTo>
                      <a:pt x="84" y="228"/>
                    </a:lnTo>
                    <a:lnTo>
                      <a:pt x="75" y="222"/>
                    </a:lnTo>
                    <a:lnTo>
                      <a:pt x="59" y="222"/>
                    </a:lnTo>
                    <a:lnTo>
                      <a:pt x="50" y="224"/>
                    </a:lnTo>
                    <a:lnTo>
                      <a:pt x="46" y="234"/>
                    </a:lnTo>
                    <a:lnTo>
                      <a:pt x="40" y="218"/>
                    </a:lnTo>
                    <a:lnTo>
                      <a:pt x="39" y="207"/>
                    </a:lnTo>
                    <a:lnTo>
                      <a:pt x="33" y="192"/>
                    </a:lnTo>
                    <a:lnTo>
                      <a:pt x="33" y="180"/>
                    </a:lnTo>
                    <a:lnTo>
                      <a:pt x="29" y="165"/>
                    </a:lnTo>
                    <a:lnTo>
                      <a:pt x="27" y="154"/>
                    </a:lnTo>
                    <a:lnTo>
                      <a:pt x="23" y="139"/>
                    </a:lnTo>
                    <a:lnTo>
                      <a:pt x="23" y="127"/>
                    </a:lnTo>
                    <a:lnTo>
                      <a:pt x="21" y="112"/>
                    </a:lnTo>
                    <a:lnTo>
                      <a:pt x="19" y="99"/>
                    </a:lnTo>
                    <a:lnTo>
                      <a:pt x="18" y="83"/>
                    </a:lnTo>
                    <a:lnTo>
                      <a:pt x="16" y="70"/>
                    </a:lnTo>
                    <a:lnTo>
                      <a:pt x="12" y="57"/>
                    </a:lnTo>
                    <a:lnTo>
                      <a:pt x="8" y="43"/>
                    </a:lnTo>
                    <a:lnTo>
                      <a:pt x="4" y="3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103"/>
              <p:cNvSpPr/>
              <p:nvPr/>
            </p:nvSpPr>
            <p:spPr>
              <a:xfrm flipH="1" rot="19783200">
                <a:off x="2528280" y="5025600"/>
                <a:ext cx="381240" cy="3456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501" h="229">
                    <a:moveTo>
                      <a:pt x="46" y="145"/>
                    </a:moveTo>
                    <a:lnTo>
                      <a:pt x="843" y="113"/>
                    </a:lnTo>
                    <a:lnTo>
                      <a:pt x="1729" y="57"/>
                    </a:lnTo>
                    <a:lnTo>
                      <a:pt x="1679" y="16"/>
                    </a:lnTo>
                    <a:lnTo>
                      <a:pt x="2044" y="0"/>
                    </a:lnTo>
                    <a:lnTo>
                      <a:pt x="1921" y="57"/>
                    </a:lnTo>
                    <a:lnTo>
                      <a:pt x="2098" y="137"/>
                    </a:lnTo>
                    <a:lnTo>
                      <a:pt x="2501" y="137"/>
                    </a:lnTo>
                    <a:lnTo>
                      <a:pt x="2023" y="194"/>
                    </a:lnTo>
                    <a:lnTo>
                      <a:pt x="1907" y="120"/>
                    </a:lnTo>
                    <a:lnTo>
                      <a:pt x="1778" y="187"/>
                    </a:lnTo>
                    <a:lnTo>
                      <a:pt x="1742" y="99"/>
                    </a:lnTo>
                    <a:lnTo>
                      <a:pt x="1613" y="183"/>
                    </a:lnTo>
                    <a:lnTo>
                      <a:pt x="1563" y="124"/>
                    </a:lnTo>
                    <a:lnTo>
                      <a:pt x="1438" y="166"/>
                    </a:lnTo>
                    <a:lnTo>
                      <a:pt x="1407" y="124"/>
                    </a:lnTo>
                    <a:lnTo>
                      <a:pt x="1291" y="183"/>
                    </a:lnTo>
                    <a:lnTo>
                      <a:pt x="1250" y="103"/>
                    </a:lnTo>
                    <a:lnTo>
                      <a:pt x="966" y="208"/>
                    </a:lnTo>
                    <a:lnTo>
                      <a:pt x="934" y="124"/>
                    </a:lnTo>
                    <a:lnTo>
                      <a:pt x="660" y="187"/>
                    </a:lnTo>
                    <a:lnTo>
                      <a:pt x="423" y="183"/>
                    </a:lnTo>
                    <a:lnTo>
                      <a:pt x="327" y="229"/>
                    </a:lnTo>
                    <a:lnTo>
                      <a:pt x="0" y="219"/>
                    </a:lnTo>
                    <a:lnTo>
                      <a:pt x="46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104"/>
              <p:cNvSpPr/>
              <p:nvPr/>
            </p:nvSpPr>
            <p:spPr>
              <a:xfrm flipH="1" rot="19783200">
                <a:off x="2813040" y="5024160"/>
                <a:ext cx="86040" cy="8856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65" h="586">
                    <a:moveTo>
                      <a:pt x="291" y="0"/>
                    </a:moveTo>
                    <a:lnTo>
                      <a:pt x="407" y="4"/>
                    </a:lnTo>
                    <a:lnTo>
                      <a:pt x="352" y="63"/>
                    </a:lnTo>
                    <a:lnTo>
                      <a:pt x="460" y="88"/>
                    </a:lnTo>
                    <a:lnTo>
                      <a:pt x="382" y="190"/>
                    </a:lnTo>
                    <a:lnTo>
                      <a:pt x="485" y="242"/>
                    </a:lnTo>
                    <a:lnTo>
                      <a:pt x="407" y="344"/>
                    </a:lnTo>
                    <a:lnTo>
                      <a:pt x="477" y="378"/>
                    </a:lnTo>
                    <a:lnTo>
                      <a:pt x="428" y="453"/>
                    </a:lnTo>
                    <a:lnTo>
                      <a:pt x="565" y="536"/>
                    </a:lnTo>
                    <a:lnTo>
                      <a:pt x="415" y="586"/>
                    </a:lnTo>
                    <a:lnTo>
                      <a:pt x="344" y="329"/>
                    </a:lnTo>
                    <a:lnTo>
                      <a:pt x="0" y="320"/>
                    </a:lnTo>
                    <a:lnTo>
                      <a:pt x="249" y="266"/>
                    </a:lnTo>
                    <a:lnTo>
                      <a:pt x="215" y="207"/>
                    </a:lnTo>
                    <a:lnTo>
                      <a:pt x="323" y="162"/>
                    </a:lnTo>
                    <a:lnTo>
                      <a:pt x="221" y="53"/>
                    </a:lnTo>
                    <a:lnTo>
                      <a:pt x="352" y="74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Freeform 105"/>
              <p:cNvSpPr/>
              <p:nvPr/>
            </p:nvSpPr>
            <p:spPr>
              <a:xfrm flipH="1" rot="19783200">
                <a:off x="2915640" y="5047560"/>
                <a:ext cx="15840" cy="298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05" h="196">
                    <a:moveTo>
                      <a:pt x="91" y="0"/>
                    </a:moveTo>
                    <a:lnTo>
                      <a:pt x="105" y="196"/>
                    </a:lnTo>
                    <a:lnTo>
                      <a:pt x="0" y="183"/>
                    </a:lnTo>
                    <a:lnTo>
                      <a:pt x="91" y="92"/>
                    </a:lnTo>
                    <a:lnTo>
                      <a:pt x="34" y="1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Freeform 106"/>
              <p:cNvSpPr/>
              <p:nvPr/>
            </p:nvSpPr>
            <p:spPr>
              <a:xfrm flipH="1" rot="19783200">
                <a:off x="2460960" y="5154480"/>
                <a:ext cx="40680" cy="529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8" h="348">
                    <a:moveTo>
                      <a:pt x="0" y="0"/>
                    </a:moveTo>
                    <a:lnTo>
                      <a:pt x="25" y="190"/>
                    </a:lnTo>
                    <a:lnTo>
                      <a:pt x="91" y="316"/>
                    </a:lnTo>
                    <a:lnTo>
                      <a:pt x="112" y="253"/>
                    </a:lnTo>
                    <a:lnTo>
                      <a:pt x="194" y="348"/>
                    </a:lnTo>
                    <a:lnTo>
                      <a:pt x="194" y="281"/>
                    </a:lnTo>
                    <a:lnTo>
                      <a:pt x="268" y="323"/>
                    </a:lnTo>
                    <a:lnTo>
                      <a:pt x="234" y="148"/>
                    </a:lnTo>
                    <a:lnTo>
                      <a:pt x="165" y="200"/>
                    </a:lnTo>
                    <a:lnTo>
                      <a:pt x="145" y="28"/>
                    </a:lnTo>
                    <a:lnTo>
                      <a:pt x="91" y="137"/>
                    </a:lnTo>
                    <a:lnTo>
                      <a:pt x="70" y="4"/>
                    </a:lnTo>
                    <a:lnTo>
                      <a:pt x="36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Freeform 107"/>
              <p:cNvSpPr/>
              <p:nvPr/>
            </p:nvSpPr>
            <p:spPr>
              <a:xfrm flipH="1" rot="19783200">
                <a:off x="2345400" y="5192280"/>
                <a:ext cx="126000" cy="12888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825" h="846">
                    <a:moveTo>
                      <a:pt x="0" y="0"/>
                    </a:moveTo>
                    <a:lnTo>
                      <a:pt x="29" y="365"/>
                    </a:lnTo>
                    <a:lnTo>
                      <a:pt x="133" y="407"/>
                    </a:lnTo>
                    <a:lnTo>
                      <a:pt x="103" y="485"/>
                    </a:lnTo>
                    <a:lnTo>
                      <a:pt x="186" y="544"/>
                    </a:lnTo>
                    <a:lnTo>
                      <a:pt x="173" y="618"/>
                    </a:lnTo>
                    <a:lnTo>
                      <a:pt x="253" y="670"/>
                    </a:lnTo>
                    <a:lnTo>
                      <a:pt x="240" y="702"/>
                    </a:lnTo>
                    <a:lnTo>
                      <a:pt x="344" y="723"/>
                    </a:lnTo>
                    <a:lnTo>
                      <a:pt x="435" y="806"/>
                    </a:lnTo>
                    <a:lnTo>
                      <a:pt x="502" y="786"/>
                    </a:lnTo>
                    <a:lnTo>
                      <a:pt x="531" y="839"/>
                    </a:lnTo>
                    <a:lnTo>
                      <a:pt x="667" y="789"/>
                    </a:lnTo>
                    <a:lnTo>
                      <a:pt x="677" y="846"/>
                    </a:lnTo>
                    <a:lnTo>
                      <a:pt x="793" y="825"/>
                    </a:lnTo>
                    <a:lnTo>
                      <a:pt x="763" y="768"/>
                    </a:lnTo>
                    <a:lnTo>
                      <a:pt x="825" y="727"/>
                    </a:lnTo>
                    <a:lnTo>
                      <a:pt x="576" y="734"/>
                    </a:lnTo>
                    <a:lnTo>
                      <a:pt x="365" y="670"/>
                    </a:lnTo>
                    <a:lnTo>
                      <a:pt x="207" y="474"/>
                    </a:lnTo>
                    <a:lnTo>
                      <a:pt x="179" y="186"/>
                    </a:lnTo>
                    <a:lnTo>
                      <a:pt x="103" y="323"/>
                    </a:lnTo>
                    <a:lnTo>
                      <a:pt x="5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Freeform 108"/>
              <p:cNvSpPr/>
              <p:nvPr/>
            </p:nvSpPr>
            <p:spPr>
              <a:xfrm flipH="1" rot="19783200">
                <a:off x="2245320" y="5126400"/>
                <a:ext cx="152640" cy="159840"/>
              </a:xfrm>
              <a:custGeom>
                <a:avLst/>
                <a:gdLst>
                  <a:gd name="textAreaLeft" fmla="*/ 360 w 152640"/>
                  <a:gd name="textAreaRight" fmla="*/ 153360 w 1526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000" h="1048">
                    <a:moveTo>
                      <a:pt x="0" y="112"/>
                    </a:moveTo>
                    <a:lnTo>
                      <a:pt x="171" y="17"/>
                    </a:lnTo>
                    <a:lnTo>
                      <a:pt x="287" y="0"/>
                    </a:lnTo>
                    <a:lnTo>
                      <a:pt x="395" y="72"/>
                    </a:lnTo>
                    <a:lnTo>
                      <a:pt x="466" y="17"/>
                    </a:lnTo>
                    <a:lnTo>
                      <a:pt x="578" y="121"/>
                    </a:lnTo>
                    <a:lnTo>
                      <a:pt x="623" y="62"/>
                    </a:lnTo>
                    <a:lnTo>
                      <a:pt x="684" y="196"/>
                    </a:lnTo>
                    <a:lnTo>
                      <a:pt x="747" y="158"/>
                    </a:lnTo>
                    <a:lnTo>
                      <a:pt x="789" y="325"/>
                    </a:lnTo>
                    <a:lnTo>
                      <a:pt x="859" y="262"/>
                    </a:lnTo>
                    <a:lnTo>
                      <a:pt x="863" y="428"/>
                    </a:lnTo>
                    <a:lnTo>
                      <a:pt x="926" y="420"/>
                    </a:lnTo>
                    <a:lnTo>
                      <a:pt x="975" y="574"/>
                    </a:lnTo>
                    <a:lnTo>
                      <a:pt x="1000" y="764"/>
                    </a:lnTo>
                    <a:lnTo>
                      <a:pt x="1000" y="1048"/>
                    </a:lnTo>
                    <a:lnTo>
                      <a:pt x="975" y="869"/>
                    </a:lnTo>
                    <a:lnTo>
                      <a:pt x="905" y="1038"/>
                    </a:lnTo>
                    <a:lnTo>
                      <a:pt x="905" y="911"/>
                    </a:lnTo>
                    <a:lnTo>
                      <a:pt x="859" y="981"/>
                    </a:lnTo>
                    <a:lnTo>
                      <a:pt x="914" y="690"/>
                    </a:lnTo>
                    <a:lnTo>
                      <a:pt x="884" y="574"/>
                    </a:lnTo>
                    <a:lnTo>
                      <a:pt x="852" y="606"/>
                    </a:lnTo>
                    <a:lnTo>
                      <a:pt x="776" y="374"/>
                    </a:lnTo>
                    <a:lnTo>
                      <a:pt x="614" y="178"/>
                    </a:lnTo>
                    <a:lnTo>
                      <a:pt x="452" y="121"/>
                    </a:lnTo>
                    <a:lnTo>
                      <a:pt x="211" y="133"/>
                    </a:lnTo>
                    <a:lnTo>
                      <a:pt x="38" y="249"/>
                    </a:lnTo>
                    <a:lnTo>
                      <a:pt x="175" y="6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09"/>
              <p:cNvSpPr/>
              <p:nvPr/>
            </p:nvSpPr>
            <p:spPr>
              <a:xfrm flipH="1" rot="19783200">
                <a:off x="2228760" y="5277600"/>
                <a:ext cx="17640" cy="345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16" h="224">
                    <a:moveTo>
                      <a:pt x="116" y="0"/>
                    </a:moveTo>
                    <a:lnTo>
                      <a:pt x="91" y="200"/>
                    </a:lnTo>
                    <a:lnTo>
                      <a:pt x="65" y="158"/>
                    </a:lnTo>
                    <a:lnTo>
                      <a:pt x="4" y="224"/>
                    </a:lnTo>
                    <a:lnTo>
                      <a:pt x="0" y="66"/>
                    </a:lnTo>
                    <a:lnTo>
                      <a:pt x="50" y="101"/>
                    </a:lnTo>
                    <a:lnTo>
                      <a:pt x="53" y="13"/>
                    </a:lnTo>
                    <a:lnTo>
                      <a:pt x="82" y="4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10"/>
              <p:cNvSpPr/>
              <p:nvPr/>
            </p:nvSpPr>
            <p:spPr>
              <a:xfrm flipH="1" rot="19783200">
                <a:off x="2191320" y="5298120"/>
                <a:ext cx="15840" cy="140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04" h="95">
                    <a:moveTo>
                      <a:pt x="0" y="29"/>
                    </a:moveTo>
                    <a:lnTo>
                      <a:pt x="0" y="95"/>
                    </a:lnTo>
                    <a:lnTo>
                      <a:pt x="72" y="92"/>
                    </a:lnTo>
                    <a:lnTo>
                      <a:pt x="104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Group 111"/>
          <p:cNvGrpSpPr/>
          <p:nvPr/>
        </p:nvGrpSpPr>
        <p:grpSpPr>
          <a:xfrm>
            <a:off x="2121480" y="5378400"/>
            <a:ext cx="4293360" cy="645120"/>
            <a:chOff x="2121480" y="5378400"/>
            <a:chExt cx="4293360" cy="645120"/>
          </a:xfrm>
        </p:grpSpPr>
        <p:sp>
          <p:nvSpPr>
            <p:cNvPr id="263" name="Text Box 112"/>
            <p:cNvSpPr/>
            <p:nvPr/>
          </p:nvSpPr>
          <p:spPr>
            <a:xfrm>
              <a:off x="2957400" y="537840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la palabra “</a:t>
              </a: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que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”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Group 113"/>
            <p:cNvGrpSpPr/>
            <p:nvPr/>
          </p:nvGrpSpPr>
          <p:grpSpPr>
            <a:xfrm>
              <a:off x="2121480" y="5470200"/>
              <a:ext cx="887400" cy="553320"/>
              <a:chOff x="2121480" y="5470200"/>
              <a:chExt cx="887400" cy="553320"/>
            </a:xfrm>
          </p:grpSpPr>
          <p:sp>
            <p:nvSpPr>
              <p:cNvPr id="265" name="Freeform 114"/>
              <p:cNvSpPr/>
              <p:nvPr/>
            </p:nvSpPr>
            <p:spPr>
              <a:xfrm flipH="1" rot="19783200">
                <a:off x="2278440" y="5820120"/>
                <a:ext cx="217800" cy="155880"/>
              </a:xfrm>
              <a:custGeom>
                <a:avLst/>
                <a:gdLst>
                  <a:gd name="textAreaLeft" fmla="*/ -360 w 217800"/>
                  <a:gd name="textAreaRight" fmla="*/ 217800 w 2178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426" h="1021">
                    <a:moveTo>
                      <a:pt x="0" y="74"/>
                    </a:moveTo>
                    <a:lnTo>
                      <a:pt x="331" y="63"/>
                    </a:lnTo>
                    <a:lnTo>
                      <a:pt x="381" y="432"/>
                    </a:lnTo>
                    <a:lnTo>
                      <a:pt x="609" y="614"/>
                    </a:lnTo>
                    <a:lnTo>
                      <a:pt x="875" y="614"/>
                    </a:lnTo>
                    <a:lnTo>
                      <a:pt x="1069" y="333"/>
                    </a:lnTo>
                    <a:lnTo>
                      <a:pt x="1114" y="0"/>
                    </a:lnTo>
                    <a:lnTo>
                      <a:pt x="1409" y="29"/>
                    </a:lnTo>
                    <a:lnTo>
                      <a:pt x="1426" y="327"/>
                    </a:lnTo>
                    <a:lnTo>
                      <a:pt x="1219" y="747"/>
                    </a:lnTo>
                    <a:lnTo>
                      <a:pt x="759" y="1021"/>
                    </a:lnTo>
                    <a:lnTo>
                      <a:pt x="306" y="863"/>
                    </a:lnTo>
                    <a:lnTo>
                      <a:pt x="44" y="49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Freeform 115"/>
              <p:cNvSpPr/>
              <p:nvPr/>
            </p:nvSpPr>
            <p:spPr>
              <a:xfrm flipH="1" rot="19783200">
                <a:off x="2145600" y="5729760"/>
                <a:ext cx="304920" cy="178920"/>
              </a:xfrm>
              <a:custGeom>
                <a:avLst/>
                <a:gdLst>
                  <a:gd name="textAreaLeft" fmla="*/ -360 w 304920"/>
                  <a:gd name="textAreaRight" fmla="*/ 304920 w 3049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999" h="1172">
                    <a:moveTo>
                      <a:pt x="0" y="930"/>
                    </a:moveTo>
                    <a:lnTo>
                      <a:pt x="373" y="922"/>
                    </a:lnTo>
                    <a:lnTo>
                      <a:pt x="436" y="498"/>
                    </a:lnTo>
                    <a:lnTo>
                      <a:pt x="647" y="306"/>
                    </a:lnTo>
                    <a:lnTo>
                      <a:pt x="875" y="361"/>
                    </a:lnTo>
                    <a:lnTo>
                      <a:pt x="1078" y="527"/>
                    </a:lnTo>
                    <a:lnTo>
                      <a:pt x="1137" y="905"/>
                    </a:lnTo>
                    <a:lnTo>
                      <a:pt x="1464" y="898"/>
                    </a:lnTo>
                    <a:lnTo>
                      <a:pt x="1493" y="1172"/>
                    </a:lnTo>
                    <a:lnTo>
                      <a:pt x="1689" y="1080"/>
                    </a:lnTo>
                    <a:lnTo>
                      <a:pt x="1742" y="905"/>
                    </a:lnTo>
                    <a:lnTo>
                      <a:pt x="1890" y="913"/>
                    </a:lnTo>
                    <a:lnTo>
                      <a:pt x="1999" y="814"/>
                    </a:lnTo>
                    <a:lnTo>
                      <a:pt x="1919" y="603"/>
                    </a:lnTo>
                    <a:lnTo>
                      <a:pt x="1689" y="603"/>
                    </a:lnTo>
                    <a:lnTo>
                      <a:pt x="1510" y="445"/>
                    </a:lnTo>
                    <a:lnTo>
                      <a:pt x="1299" y="348"/>
                    </a:lnTo>
                    <a:lnTo>
                      <a:pt x="1040" y="91"/>
                    </a:lnTo>
                    <a:lnTo>
                      <a:pt x="639" y="0"/>
                    </a:lnTo>
                    <a:lnTo>
                      <a:pt x="268" y="91"/>
                    </a:lnTo>
                    <a:lnTo>
                      <a:pt x="90" y="428"/>
                    </a:lnTo>
                    <a:lnTo>
                      <a:pt x="0" y="831"/>
                    </a:lnTo>
                    <a:lnTo>
                      <a:pt x="0" y="9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Freeform 116"/>
              <p:cNvSpPr/>
              <p:nvPr/>
            </p:nvSpPr>
            <p:spPr>
              <a:xfrm flipH="1" rot="19783200">
                <a:off x="2774520" y="5663520"/>
                <a:ext cx="34560" cy="9756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28" h="639">
                    <a:moveTo>
                      <a:pt x="0" y="59"/>
                    </a:moveTo>
                    <a:lnTo>
                      <a:pt x="46" y="639"/>
                    </a:lnTo>
                    <a:lnTo>
                      <a:pt x="228" y="428"/>
                    </a:lnTo>
                    <a:lnTo>
                      <a:pt x="165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Freeform 117"/>
              <p:cNvSpPr/>
              <p:nvPr/>
            </p:nvSpPr>
            <p:spPr>
              <a:xfrm flipH="1" rot="19783200">
                <a:off x="2435400" y="5592600"/>
                <a:ext cx="541080" cy="222480"/>
              </a:xfrm>
              <a:custGeom>
                <a:avLst/>
                <a:gdLst>
                  <a:gd name="textAreaLeft" fmla="*/ -360 w 541080"/>
                  <a:gd name="textAreaRight" fmla="*/ 541080 w 54108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546" h="1458">
                    <a:moveTo>
                      <a:pt x="0" y="595"/>
                    </a:moveTo>
                    <a:lnTo>
                      <a:pt x="257" y="722"/>
                    </a:lnTo>
                    <a:lnTo>
                      <a:pt x="278" y="1424"/>
                    </a:lnTo>
                    <a:lnTo>
                      <a:pt x="552" y="1458"/>
                    </a:lnTo>
                    <a:lnTo>
                      <a:pt x="618" y="1200"/>
                    </a:lnTo>
                    <a:lnTo>
                      <a:pt x="839" y="1192"/>
                    </a:lnTo>
                    <a:lnTo>
                      <a:pt x="922" y="1449"/>
                    </a:lnTo>
                    <a:lnTo>
                      <a:pt x="1207" y="1441"/>
                    </a:lnTo>
                    <a:lnTo>
                      <a:pt x="1217" y="722"/>
                    </a:lnTo>
                    <a:lnTo>
                      <a:pt x="3092" y="574"/>
                    </a:lnTo>
                    <a:lnTo>
                      <a:pt x="3337" y="789"/>
                    </a:lnTo>
                    <a:lnTo>
                      <a:pt x="3546" y="785"/>
                    </a:lnTo>
                    <a:lnTo>
                      <a:pt x="3464" y="216"/>
                    </a:lnTo>
                    <a:lnTo>
                      <a:pt x="3432" y="0"/>
                    </a:lnTo>
                    <a:lnTo>
                      <a:pt x="3215" y="59"/>
                    </a:lnTo>
                    <a:lnTo>
                      <a:pt x="3088" y="291"/>
                    </a:lnTo>
                    <a:lnTo>
                      <a:pt x="2232" y="279"/>
                    </a:lnTo>
                    <a:lnTo>
                      <a:pt x="1055" y="346"/>
                    </a:lnTo>
                    <a:lnTo>
                      <a:pt x="187" y="378"/>
                    </a:lnTo>
                    <a:lnTo>
                      <a:pt x="17" y="445"/>
                    </a:lnTo>
                    <a:lnTo>
                      <a:pt x="0" y="595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118"/>
              <p:cNvSpPr/>
              <p:nvPr/>
            </p:nvSpPr>
            <p:spPr>
              <a:xfrm flipH="1" rot="19783200">
                <a:off x="2201040" y="5655240"/>
                <a:ext cx="423000" cy="200880"/>
              </a:xfrm>
              <a:custGeom>
                <a:avLst/>
                <a:gdLst>
                  <a:gd name="textAreaLeft" fmla="*/ -360 w 423000"/>
                  <a:gd name="textAreaRight" fmla="*/ 423000 w 42300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2770" h="1314">
                    <a:moveTo>
                      <a:pt x="7" y="848"/>
                    </a:moveTo>
                    <a:lnTo>
                      <a:pt x="59" y="840"/>
                    </a:lnTo>
                    <a:lnTo>
                      <a:pt x="112" y="835"/>
                    </a:lnTo>
                    <a:lnTo>
                      <a:pt x="165" y="831"/>
                    </a:lnTo>
                    <a:lnTo>
                      <a:pt x="219" y="827"/>
                    </a:lnTo>
                    <a:lnTo>
                      <a:pt x="272" y="821"/>
                    </a:lnTo>
                    <a:lnTo>
                      <a:pt x="325" y="819"/>
                    </a:lnTo>
                    <a:lnTo>
                      <a:pt x="378" y="816"/>
                    </a:lnTo>
                    <a:lnTo>
                      <a:pt x="431" y="816"/>
                    </a:lnTo>
                    <a:lnTo>
                      <a:pt x="483" y="812"/>
                    </a:lnTo>
                    <a:lnTo>
                      <a:pt x="536" y="810"/>
                    </a:lnTo>
                    <a:lnTo>
                      <a:pt x="589" y="806"/>
                    </a:lnTo>
                    <a:lnTo>
                      <a:pt x="643" y="806"/>
                    </a:lnTo>
                    <a:lnTo>
                      <a:pt x="696" y="804"/>
                    </a:lnTo>
                    <a:lnTo>
                      <a:pt x="749" y="804"/>
                    </a:lnTo>
                    <a:lnTo>
                      <a:pt x="802" y="802"/>
                    </a:lnTo>
                    <a:lnTo>
                      <a:pt x="857" y="802"/>
                    </a:lnTo>
                    <a:lnTo>
                      <a:pt x="865" y="768"/>
                    </a:lnTo>
                    <a:lnTo>
                      <a:pt x="876" y="738"/>
                    </a:lnTo>
                    <a:lnTo>
                      <a:pt x="890" y="707"/>
                    </a:lnTo>
                    <a:lnTo>
                      <a:pt x="907" y="679"/>
                    </a:lnTo>
                    <a:lnTo>
                      <a:pt x="924" y="650"/>
                    </a:lnTo>
                    <a:lnTo>
                      <a:pt x="947" y="624"/>
                    </a:lnTo>
                    <a:lnTo>
                      <a:pt x="970" y="601"/>
                    </a:lnTo>
                    <a:lnTo>
                      <a:pt x="998" y="580"/>
                    </a:lnTo>
                    <a:lnTo>
                      <a:pt x="1023" y="561"/>
                    </a:lnTo>
                    <a:lnTo>
                      <a:pt x="1053" y="546"/>
                    </a:lnTo>
                    <a:lnTo>
                      <a:pt x="1082" y="532"/>
                    </a:lnTo>
                    <a:lnTo>
                      <a:pt x="1114" y="527"/>
                    </a:lnTo>
                    <a:lnTo>
                      <a:pt x="1144" y="521"/>
                    </a:lnTo>
                    <a:lnTo>
                      <a:pt x="1179" y="523"/>
                    </a:lnTo>
                    <a:lnTo>
                      <a:pt x="1211" y="528"/>
                    </a:lnTo>
                    <a:lnTo>
                      <a:pt x="1247" y="542"/>
                    </a:lnTo>
                    <a:lnTo>
                      <a:pt x="1255" y="544"/>
                    </a:lnTo>
                    <a:lnTo>
                      <a:pt x="1259" y="538"/>
                    </a:lnTo>
                    <a:lnTo>
                      <a:pt x="1274" y="525"/>
                    </a:lnTo>
                    <a:lnTo>
                      <a:pt x="1346" y="346"/>
                    </a:lnTo>
                    <a:lnTo>
                      <a:pt x="1445" y="207"/>
                    </a:lnTo>
                    <a:lnTo>
                      <a:pt x="1563" y="104"/>
                    </a:lnTo>
                    <a:lnTo>
                      <a:pt x="1698" y="40"/>
                    </a:lnTo>
                    <a:lnTo>
                      <a:pt x="1838" y="4"/>
                    </a:lnTo>
                    <a:lnTo>
                      <a:pt x="1987" y="0"/>
                    </a:lnTo>
                    <a:lnTo>
                      <a:pt x="2135" y="26"/>
                    </a:lnTo>
                    <a:lnTo>
                      <a:pt x="2280" y="82"/>
                    </a:lnTo>
                    <a:lnTo>
                      <a:pt x="2411" y="159"/>
                    </a:lnTo>
                    <a:lnTo>
                      <a:pt x="2530" y="264"/>
                    </a:lnTo>
                    <a:lnTo>
                      <a:pt x="2631" y="390"/>
                    </a:lnTo>
                    <a:lnTo>
                      <a:pt x="2709" y="540"/>
                    </a:lnTo>
                    <a:lnTo>
                      <a:pt x="2757" y="705"/>
                    </a:lnTo>
                    <a:lnTo>
                      <a:pt x="2770" y="892"/>
                    </a:lnTo>
                    <a:lnTo>
                      <a:pt x="2747" y="1093"/>
                    </a:lnTo>
                    <a:lnTo>
                      <a:pt x="2683" y="1310"/>
                    </a:lnTo>
                    <a:lnTo>
                      <a:pt x="2624" y="1264"/>
                    </a:lnTo>
                    <a:lnTo>
                      <a:pt x="2631" y="1219"/>
                    </a:lnTo>
                    <a:lnTo>
                      <a:pt x="2639" y="1173"/>
                    </a:lnTo>
                    <a:lnTo>
                      <a:pt x="2643" y="1126"/>
                    </a:lnTo>
                    <a:lnTo>
                      <a:pt x="2648" y="1080"/>
                    </a:lnTo>
                    <a:lnTo>
                      <a:pt x="2648" y="1030"/>
                    </a:lnTo>
                    <a:lnTo>
                      <a:pt x="2648" y="985"/>
                    </a:lnTo>
                    <a:lnTo>
                      <a:pt x="2646" y="935"/>
                    </a:lnTo>
                    <a:lnTo>
                      <a:pt x="2645" y="890"/>
                    </a:lnTo>
                    <a:lnTo>
                      <a:pt x="2637" y="840"/>
                    </a:lnTo>
                    <a:lnTo>
                      <a:pt x="2629" y="793"/>
                    </a:lnTo>
                    <a:lnTo>
                      <a:pt x="2618" y="747"/>
                    </a:lnTo>
                    <a:lnTo>
                      <a:pt x="2608" y="701"/>
                    </a:lnTo>
                    <a:lnTo>
                      <a:pt x="2591" y="656"/>
                    </a:lnTo>
                    <a:lnTo>
                      <a:pt x="2576" y="614"/>
                    </a:lnTo>
                    <a:lnTo>
                      <a:pt x="2557" y="574"/>
                    </a:lnTo>
                    <a:lnTo>
                      <a:pt x="2538" y="536"/>
                    </a:lnTo>
                    <a:lnTo>
                      <a:pt x="2487" y="557"/>
                    </a:lnTo>
                    <a:lnTo>
                      <a:pt x="2491" y="536"/>
                    </a:lnTo>
                    <a:lnTo>
                      <a:pt x="2494" y="517"/>
                    </a:lnTo>
                    <a:lnTo>
                      <a:pt x="2496" y="496"/>
                    </a:lnTo>
                    <a:lnTo>
                      <a:pt x="2500" y="477"/>
                    </a:lnTo>
                    <a:lnTo>
                      <a:pt x="2500" y="466"/>
                    </a:lnTo>
                    <a:lnTo>
                      <a:pt x="2502" y="456"/>
                    </a:lnTo>
                    <a:lnTo>
                      <a:pt x="2502" y="445"/>
                    </a:lnTo>
                    <a:lnTo>
                      <a:pt x="2504" y="435"/>
                    </a:lnTo>
                    <a:lnTo>
                      <a:pt x="2504" y="414"/>
                    </a:lnTo>
                    <a:lnTo>
                      <a:pt x="2504" y="395"/>
                    </a:lnTo>
                    <a:lnTo>
                      <a:pt x="2496" y="384"/>
                    </a:lnTo>
                    <a:lnTo>
                      <a:pt x="2489" y="376"/>
                    </a:lnTo>
                    <a:lnTo>
                      <a:pt x="2481" y="371"/>
                    </a:lnTo>
                    <a:lnTo>
                      <a:pt x="2475" y="371"/>
                    </a:lnTo>
                    <a:lnTo>
                      <a:pt x="2460" y="371"/>
                    </a:lnTo>
                    <a:lnTo>
                      <a:pt x="2449" y="380"/>
                    </a:lnTo>
                    <a:lnTo>
                      <a:pt x="2435" y="390"/>
                    </a:lnTo>
                    <a:lnTo>
                      <a:pt x="2422" y="405"/>
                    </a:lnTo>
                    <a:lnTo>
                      <a:pt x="2411" y="420"/>
                    </a:lnTo>
                    <a:lnTo>
                      <a:pt x="2401" y="437"/>
                    </a:lnTo>
                    <a:lnTo>
                      <a:pt x="2401" y="308"/>
                    </a:lnTo>
                    <a:lnTo>
                      <a:pt x="2388" y="298"/>
                    </a:lnTo>
                    <a:lnTo>
                      <a:pt x="2376" y="291"/>
                    </a:lnTo>
                    <a:lnTo>
                      <a:pt x="2369" y="285"/>
                    </a:lnTo>
                    <a:lnTo>
                      <a:pt x="2363" y="279"/>
                    </a:lnTo>
                    <a:lnTo>
                      <a:pt x="2352" y="272"/>
                    </a:lnTo>
                    <a:lnTo>
                      <a:pt x="2346" y="270"/>
                    </a:lnTo>
                    <a:lnTo>
                      <a:pt x="2337" y="274"/>
                    </a:lnTo>
                    <a:lnTo>
                      <a:pt x="2329" y="285"/>
                    </a:lnTo>
                    <a:lnTo>
                      <a:pt x="2321" y="293"/>
                    </a:lnTo>
                    <a:lnTo>
                      <a:pt x="2316" y="306"/>
                    </a:lnTo>
                    <a:lnTo>
                      <a:pt x="2306" y="319"/>
                    </a:lnTo>
                    <a:lnTo>
                      <a:pt x="2297" y="338"/>
                    </a:lnTo>
                    <a:lnTo>
                      <a:pt x="2259" y="213"/>
                    </a:lnTo>
                    <a:lnTo>
                      <a:pt x="2241" y="211"/>
                    </a:lnTo>
                    <a:lnTo>
                      <a:pt x="2230" y="205"/>
                    </a:lnTo>
                    <a:lnTo>
                      <a:pt x="2221" y="198"/>
                    </a:lnTo>
                    <a:lnTo>
                      <a:pt x="2213" y="194"/>
                    </a:lnTo>
                    <a:lnTo>
                      <a:pt x="2203" y="190"/>
                    </a:lnTo>
                    <a:lnTo>
                      <a:pt x="2194" y="196"/>
                    </a:lnTo>
                    <a:lnTo>
                      <a:pt x="2186" y="201"/>
                    </a:lnTo>
                    <a:lnTo>
                      <a:pt x="2179" y="211"/>
                    </a:lnTo>
                    <a:lnTo>
                      <a:pt x="2169" y="220"/>
                    </a:lnTo>
                    <a:lnTo>
                      <a:pt x="2160" y="237"/>
                    </a:lnTo>
                    <a:lnTo>
                      <a:pt x="2131" y="171"/>
                    </a:lnTo>
                    <a:lnTo>
                      <a:pt x="2118" y="169"/>
                    </a:lnTo>
                    <a:lnTo>
                      <a:pt x="2105" y="167"/>
                    </a:lnTo>
                    <a:lnTo>
                      <a:pt x="2089" y="163"/>
                    </a:lnTo>
                    <a:lnTo>
                      <a:pt x="2074" y="161"/>
                    </a:lnTo>
                    <a:lnTo>
                      <a:pt x="2059" y="154"/>
                    </a:lnTo>
                    <a:lnTo>
                      <a:pt x="2046" y="148"/>
                    </a:lnTo>
                    <a:lnTo>
                      <a:pt x="2034" y="139"/>
                    </a:lnTo>
                    <a:lnTo>
                      <a:pt x="2027" y="129"/>
                    </a:lnTo>
                    <a:lnTo>
                      <a:pt x="2021" y="133"/>
                    </a:lnTo>
                    <a:lnTo>
                      <a:pt x="2015" y="142"/>
                    </a:lnTo>
                    <a:lnTo>
                      <a:pt x="2008" y="156"/>
                    </a:lnTo>
                    <a:lnTo>
                      <a:pt x="2000" y="171"/>
                    </a:lnTo>
                    <a:lnTo>
                      <a:pt x="1991" y="184"/>
                    </a:lnTo>
                    <a:lnTo>
                      <a:pt x="1983" y="198"/>
                    </a:lnTo>
                    <a:lnTo>
                      <a:pt x="1977" y="205"/>
                    </a:lnTo>
                    <a:lnTo>
                      <a:pt x="1977" y="209"/>
                    </a:lnTo>
                    <a:lnTo>
                      <a:pt x="1914" y="135"/>
                    </a:lnTo>
                    <a:lnTo>
                      <a:pt x="1878" y="133"/>
                    </a:lnTo>
                    <a:lnTo>
                      <a:pt x="1844" y="137"/>
                    </a:lnTo>
                    <a:lnTo>
                      <a:pt x="1808" y="140"/>
                    </a:lnTo>
                    <a:lnTo>
                      <a:pt x="1772" y="150"/>
                    </a:lnTo>
                    <a:lnTo>
                      <a:pt x="1734" y="159"/>
                    </a:lnTo>
                    <a:lnTo>
                      <a:pt x="1696" y="173"/>
                    </a:lnTo>
                    <a:lnTo>
                      <a:pt x="1658" y="188"/>
                    </a:lnTo>
                    <a:lnTo>
                      <a:pt x="1624" y="207"/>
                    </a:lnTo>
                    <a:lnTo>
                      <a:pt x="1587" y="224"/>
                    </a:lnTo>
                    <a:lnTo>
                      <a:pt x="1553" y="247"/>
                    </a:lnTo>
                    <a:lnTo>
                      <a:pt x="1523" y="270"/>
                    </a:lnTo>
                    <a:lnTo>
                      <a:pt x="1496" y="298"/>
                    </a:lnTo>
                    <a:lnTo>
                      <a:pt x="1470" y="325"/>
                    </a:lnTo>
                    <a:lnTo>
                      <a:pt x="1449" y="355"/>
                    </a:lnTo>
                    <a:lnTo>
                      <a:pt x="1432" y="386"/>
                    </a:lnTo>
                    <a:lnTo>
                      <a:pt x="1420" y="420"/>
                    </a:lnTo>
                    <a:lnTo>
                      <a:pt x="1451" y="433"/>
                    </a:lnTo>
                    <a:lnTo>
                      <a:pt x="1452" y="422"/>
                    </a:lnTo>
                    <a:lnTo>
                      <a:pt x="1456" y="411"/>
                    </a:lnTo>
                    <a:lnTo>
                      <a:pt x="1460" y="401"/>
                    </a:lnTo>
                    <a:lnTo>
                      <a:pt x="1466" y="393"/>
                    </a:lnTo>
                    <a:lnTo>
                      <a:pt x="1477" y="376"/>
                    </a:lnTo>
                    <a:lnTo>
                      <a:pt x="1492" y="361"/>
                    </a:lnTo>
                    <a:lnTo>
                      <a:pt x="1506" y="346"/>
                    </a:lnTo>
                    <a:lnTo>
                      <a:pt x="1523" y="333"/>
                    </a:lnTo>
                    <a:lnTo>
                      <a:pt x="1540" y="319"/>
                    </a:lnTo>
                    <a:lnTo>
                      <a:pt x="1557" y="308"/>
                    </a:lnTo>
                    <a:lnTo>
                      <a:pt x="1529" y="433"/>
                    </a:lnTo>
                    <a:lnTo>
                      <a:pt x="1536" y="422"/>
                    </a:lnTo>
                    <a:lnTo>
                      <a:pt x="1548" y="411"/>
                    </a:lnTo>
                    <a:lnTo>
                      <a:pt x="1555" y="399"/>
                    </a:lnTo>
                    <a:lnTo>
                      <a:pt x="1567" y="390"/>
                    </a:lnTo>
                    <a:lnTo>
                      <a:pt x="1576" y="378"/>
                    </a:lnTo>
                    <a:lnTo>
                      <a:pt x="1586" y="371"/>
                    </a:lnTo>
                    <a:lnTo>
                      <a:pt x="1597" y="361"/>
                    </a:lnTo>
                    <a:lnTo>
                      <a:pt x="1608" y="353"/>
                    </a:lnTo>
                    <a:lnTo>
                      <a:pt x="1620" y="344"/>
                    </a:lnTo>
                    <a:lnTo>
                      <a:pt x="1631" y="336"/>
                    </a:lnTo>
                    <a:lnTo>
                      <a:pt x="1643" y="329"/>
                    </a:lnTo>
                    <a:lnTo>
                      <a:pt x="1654" y="323"/>
                    </a:lnTo>
                    <a:lnTo>
                      <a:pt x="1665" y="315"/>
                    </a:lnTo>
                    <a:lnTo>
                      <a:pt x="1679" y="310"/>
                    </a:lnTo>
                    <a:lnTo>
                      <a:pt x="1692" y="306"/>
                    </a:lnTo>
                    <a:lnTo>
                      <a:pt x="1707" y="304"/>
                    </a:lnTo>
                    <a:lnTo>
                      <a:pt x="1692" y="315"/>
                    </a:lnTo>
                    <a:lnTo>
                      <a:pt x="1681" y="329"/>
                    </a:lnTo>
                    <a:lnTo>
                      <a:pt x="1669" y="342"/>
                    </a:lnTo>
                    <a:lnTo>
                      <a:pt x="1658" y="357"/>
                    </a:lnTo>
                    <a:lnTo>
                      <a:pt x="1646" y="369"/>
                    </a:lnTo>
                    <a:lnTo>
                      <a:pt x="1639" y="384"/>
                    </a:lnTo>
                    <a:lnTo>
                      <a:pt x="1629" y="399"/>
                    </a:lnTo>
                    <a:lnTo>
                      <a:pt x="1622" y="416"/>
                    </a:lnTo>
                    <a:lnTo>
                      <a:pt x="1612" y="431"/>
                    </a:lnTo>
                    <a:lnTo>
                      <a:pt x="1605" y="447"/>
                    </a:lnTo>
                    <a:lnTo>
                      <a:pt x="1597" y="464"/>
                    </a:lnTo>
                    <a:lnTo>
                      <a:pt x="1591" y="481"/>
                    </a:lnTo>
                    <a:lnTo>
                      <a:pt x="1582" y="498"/>
                    </a:lnTo>
                    <a:lnTo>
                      <a:pt x="1574" y="517"/>
                    </a:lnTo>
                    <a:lnTo>
                      <a:pt x="1567" y="536"/>
                    </a:lnTo>
                    <a:lnTo>
                      <a:pt x="1561" y="557"/>
                    </a:lnTo>
                    <a:lnTo>
                      <a:pt x="1563" y="566"/>
                    </a:lnTo>
                    <a:lnTo>
                      <a:pt x="1568" y="576"/>
                    </a:lnTo>
                    <a:lnTo>
                      <a:pt x="1574" y="585"/>
                    </a:lnTo>
                    <a:lnTo>
                      <a:pt x="1582" y="591"/>
                    </a:lnTo>
                    <a:lnTo>
                      <a:pt x="1631" y="513"/>
                    </a:lnTo>
                    <a:lnTo>
                      <a:pt x="1686" y="450"/>
                    </a:lnTo>
                    <a:lnTo>
                      <a:pt x="1741" y="399"/>
                    </a:lnTo>
                    <a:lnTo>
                      <a:pt x="1800" y="363"/>
                    </a:lnTo>
                    <a:lnTo>
                      <a:pt x="1859" y="334"/>
                    </a:lnTo>
                    <a:lnTo>
                      <a:pt x="1918" y="319"/>
                    </a:lnTo>
                    <a:lnTo>
                      <a:pt x="1977" y="315"/>
                    </a:lnTo>
                    <a:lnTo>
                      <a:pt x="2038" y="323"/>
                    </a:lnTo>
                    <a:lnTo>
                      <a:pt x="2093" y="338"/>
                    </a:lnTo>
                    <a:lnTo>
                      <a:pt x="2148" y="365"/>
                    </a:lnTo>
                    <a:lnTo>
                      <a:pt x="2198" y="401"/>
                    </a:lnTo>
                    <a:lnTo>
                      <a:pt x="2249" y="447"/>
                    </a:lnTo>
                    <a:lnTo>
                      <a:pt x="2291" y="498"/>
                    </a:lnTo>
                    <a:lnTo>
                      <a:pt x="2331" y="561"/>
                    </a:lnTo>
                    <a:lnTo>
                      <a:pt x="2365" y="629"/>
                    </a:lnTo>
                    <a:lnTo>
                      <a:pt x="2395" y="707"/>
                    </a:lnTo>
                    <a:lnTo>
                      <a:pt x="2318" y="732"/>
                    </a:lnTo>
                    <a:lnTo>
                      <a:pt x="2302" y="665"/>
                    </a:lnTo>
                    <a:lnTo>
                      <a:pt x="2278" y="604"/>
                    </a:lnTo>
                    <a:lnTo>
                      <a:pt x="2238" y="549"/>
                    </a:lnTo>
                    <a:lnTo>
                      <a:pt x="2192" y="500"/>
                    </a:lnTo>
                    <a:lnTo>
                      <a:pt x="2137" y="458"/>
                    </a:lnTo>
                    <a:lnTo>
                      <a:pt x="2078" y="430"/>
                    </a:lnTo>
                    <a:lnTo>
                      <a:pt x="2015" y="412"/>
                    </a:lnTo>
                    <a:lnTo>
                      <a:pt x="1952" y="411"/>
                    </a:lnTo>
                    <a:lnTo>
                      <a:pt x="1890" y="422"/>
                    </a:lnTo>
                    <a:lnTo>
                      <a:pt x="1833" y="454"/>
                    </a:lnTo>
                    <a:lnTo>
                      <a:pt x="1781" y="508"/>
                    </a:lnTo>
                    <a:lnTo>
                      <a:pt x="1738" y="584"/>
                    </a:lnTo>
                    <a:lnTo>
                      <a:pt x="1703" y="681"/>
                    </a:lnTo>
                    <a:lnTo>
                      <a:pt x="1683" y="808"/>
                    </a:lnTo>
                    <a:lnTo>
                      <a:pt x="1675" y="962"/>
                    </a:lnTo>
                    <a:lnTo>
                      <a:pt x="1686" y="1147"/>
                    </a:lnTo>
                    <a:lnTo>
                      <a:pt x="1591" y="1164"/>
                    </a:lnTo>
                    <a:lnTo>
                      <a:pt x="1574" y="932"/>
                    </a:lnTo>
                    <a:lnTo>
                      <a:pt x="1546" y="928"/>
                    </a:lnTo>
                    <a:lnTo>
                      <a:pt x="1532" y="945"/>
                    </a:lnTo>
                    <a:lnTo>
                      <a:pt x="1523" y="962"/>
                    </a:lnTo>
                    <a:lnTo>
                      <a:pt x="1513" y="981"/>
                    </a:lnTo>
                    <a:lnTo>
                      <a:pt x="1506" y="1002"/>
                    </a:lnTo>
                    <a:lnTo>
                      <a:pt x="1496" y="1021"/>
                    </a:lnTo>
                    <a:lnTo>
                      <a:pt x="1489" y="1040"/>
                    </a:lnTo>
                    <a:lnTo>
                      <a:pt x="1479" y="1059"/>
                    </a:lnTo>
                    <a:lnTo>
                      <a:pt x="1470" y="1080"/>
                    </a:lnTo>
                    <a:lnTo>
                      <a:pt x="1462" y="1057"/>
                    </a:lnTo>
                    <a:lnTo>
                      <a:pt x="1458" y="1034"/>
                    </a:lnTo>
                    <a:lnTo>
                      <a:pt x="1452" y="1008"/>
                    </a:lnTo>
                    <a:lnTo>
                      <a:pt x="1452" y="983"/>
                    </a:lnTo>
                    <a:lnTo>
                      <a:pt x="1451" y="956"/>
                    </a:lnTo>
                    <a:lnTo>
                      <a:pt x="1451" y="930"/>
                    </a:lnTo>
                    <a:lnTo>
                      <a:pt x="1452" y="901"/>
                    </a:lnTo>
                    <a:lnTo>
                      <a:pt x="1456" y="876"/>
                    </a:lnTo>
                    <a:lnTo>
                      <a:pt x="1456" y="848"/>
                    </a:lnTo>
                    <a:lnTo>
                      <a:pt x="1460" y="825"/>
                    </a:lnTo>
                    <a:lnTo>
                      <a:pt x="1462" y="802"/>
                    </a:lnTo>
                    <a:lnTo>
                      <a:pt x="1466" y="783"/>
                    </a:lnTo>
                    <a:lnTo>
                      <a:pt x="1475" y="736"/>
                    </a:lnTo>
                    <a:lnTo>
                      <a:pt x="1416" y="840"/>
                    </a:lnTo>
                    <a:lnTo>
                      <a:pt x="1375" y="703"/>
                    </a:lnTo>
                    <a:lnTo>
                      <a:pt x="1403" y="553"/>
                    </a:lnTo>
                    <a:lnTo>
                      <a:pt x="1375" y="553"/>
                    </a:lnTo>
                    <a:lnTo>
                      <a:pt x="1361" y="587"/>
                    </a:lnTo>
                    <a:lnTo>
                      <a:pt x="1352" y="622"/>
                    </a:lnTo>
                    <a:lnTo>
                      <a:pt x="1344" y="658"/>
                    </a:lnTo>
                    <a:lnTo>
                      <a:pt x="1338" y="698"/>
                    </a:lnTo>
                    <a:lnTo>
                      <a:pt x="1333" y="736"/>
                    </a:lnTo>
                    <a:lnTo>
                      <a:pt x="1329" y="774"/>
                    </a:lnTo>
                    <a:lnTo>
                      <a:pt x="1327" y="814"/>
                    </a:lnTo>
                    <a:lnTo>
                      <a:pt x="1327" y="854"/>
                    </a:lnTo>
                    <a:lnTo>
                      <a:pt x="1325" y="892"/>
                    </a:lnTo>
                    <a:lnTo>
                      <a:pt x="1325" y="932"/>
                    </a:lnTo>
                    <a:lnTo>
                      <a:pt x="1327" y="972"/>
                    </a:lnTo>
                    <a:lnTo>
                      <a:pt x="1329" y="1011"/>
                    </a:lnTo>
                    <a:lnTo>
                      <a:pt x="1331" y="1048"/>
                    </a:lnTo>
                    <a:lnTo>
                      <a:pt x="1335" y="1086"/>
                    </a:lnTo>
                    <a:lnTo>
                      <a:pt x="1336" y="1122"/>
                    </a:lnTo>
                    <a:lnTo>
                      <a:pt x="1342" y="1160"/>
                    </a:lnTo>
                    <a:lnTo>
                      <a:pt x="1255" y="1164"/>
                    </a:lnTo>
                    <a:lnTo>
                      <a:pt x="1249" y="1150"/>
                    </a:lnTo>
                    <a:lnTo>
                      <a:pt x="1247" y="1139"/>
                    </a:lnTo>
                    <a:lnTo>
                      <a:pt x="1245" y="1127"/>
                    </a:lnTo>
                    <a:lnTo>
                      <a:pt x="1245" y="1116"/>
                    </a:lnTo>
                    <a:lnTo>
                      <a:pt x="1240" y="1105"/>
                    </a:lnTo>
                    <a:lnTo>
                      <a:pt x="1238" y="1095"/>
                    </a:lnTo>
                    <a:lnTo>
                      <a:pt x="1238" y="1084"/>
                    </a:lnTo>
                    <a:lnTo>
                      <a:pt x="1238" y="1074"/>
                    </a:lnTo>
                    <a:lnTo>
                      <a:pt x="1238" y="1053"/>
                    </a:lnTo>
                    <a:lnTo>
                      <a:pt x="1238" y="1034"/>
                    </a:lnTo>
                    <a:lnTo>
                      <a:pt x="1238" y="1015"/>
                    </a:lnTo>
                    <a:lnTo>
                      <a:pt x="1238" y="998"/>
                    </a:lnTo>
                    <a:lnTo>
                      <a:pt x="1201" y="989"/>
                    </a:lnTo>
                    <a:lnTo>
                      <a:pt x="1169" y="1069"/>
                    </a:lnTo>
                    <a:lnTo>
                      <a:pt x="1160" y="1050"/>
                    </a:lnTo>
                    <a:lnTo>
                      <a:pt x="1154" y="1032"/>
                    </a:lnTo>
                    <a:lnTo>
                      <a:pt x="1152" y="1011"/>
                    </a:lnTo>
                    <a:lnTo>
                      <a:pt x="1152" y="992"/>
                    </a:lnTo>
                    <a:lnTo>
                      <a:pt x="1152" y="970"/>
                    </a:lnTo>
                    <a:lnTo>
                      <a:pt x="1156" y="949"/>
                    </a:lnTo>
                    <a:lnTo>
                      <a:pt x="1158" y="928"/>
                    </a:lnTo>
                    <a:lnTo>
                      <a:pt x="1163" y="911"/>
                    </a:lnTo>
                    <a:lnTo>
                      <a:pt x="1167" y="890"/>
                    </a:lnTo>
                    <a:lnTo>
                      <a:pt x="1171" y="873"/>
                    </a:lnTo>
                    <a:lnTo>
                      <a:pt x="1173" y="857"/>
                    </a:lnTo>
                    <a:lnTo>
                      <a:pt x="1175" y="846"/>
                    </a:lnTo>
                    <a:lnTo>
                      <a:pt x="1175" y="833"/>
                    </a:lnTo>
                    <a:lnTo>
                      <a:pt x="1175" y="827"/>
                    </a:lnTo>
                    <a:lnTo>
                      <a:pt x="1173" y="821"/>
                    </a:lnTo>
                    <a:lnTo>
                      <a:pt x="1169" y="823"/>
                    </a:lnTo>
                    <a:lnTo>
                      <a:pt x="1150" y="838"/>
                    </a:lnTo>
                    <a:lnTo>
                      <a:pt x="1139" y="856"/>
                    </a:lnTo>
                    <a:lnTo>
                      <a:pt x="1133" y="865"/>
                    </a:lnTo>
                    <a:lnTo>
                      <a:pt x="1127" y="876"/>
                    </a:lnTo>
                    <a:lnTo>
                      <a:pt x="1122" y="888"/>
                    </a:lnTo>
                    <a:lnTo>
                      <a:pt x="1118" y="899"/>
                    </a:lnTo>
                    <a:lnTo>
                      <a:pt x="1112" y="909"/>
                    </a:lnTo>
                    <a:lnTo>
                      <a:pt x="1108" y="920"/>
                    </a:lnTo>
                    <a:lnTo>
                      <a:pt x="1103" y="932"/>
                    </a:lnTo>
                    <a:lnTo>
                      <a:pt x="1099" y="943"/>
                    </a:lnTo>
                    <a:lnTo>
                      <a:pt x="1078" y="981"/>
                    </a:lnTo>
                    <a:lnTo>
                      <a:pt x="1080" y="934"/>
                    </a:lnTo>
                    <a:lnTo>
                      <a:pt x="1080" y="914"/>
                    </a:lnTo>
                    <a:lnTo>
                      <a:pt x="1080" y="897"/>
                    </a:lnTo>
                    <a:lnTo>
                      <a:pt x="1078" y="876"/>
                    </a:lnTo>
                    <a:lnTo>
                      <a:pt x="1076" y="856"/>
                    </a:lnTo>
                    <a:lnTo>
                      <a:pt x="1076" y="835"/>
                    </a:lnTo>
                    <a:lnTo>
                      <a:pt x="1076" y="817"/>
                    </a:lnTo>
                    <a:lnTo>
                      <a:pt x="1074" y="798"/>
                    </a:lnTo>
                    <a:lnTo>
                      <a:pt x="1074" y="783"/>
                    </a:lnTo>
                    <a:lnTo>
                      <a:pt x="1074" y="770"/>
                    </a:lnTo>
                    <a:lnTo>
                      <a:pt x="1074" y="760"/>
                    </a:lnTo>
                    <a:lnTo>
                      <a:pt x="1066" y="779"/>
                    </a:lnTo>
                    <a:lnTo>
                      <a:pt x="1059" y="800"/>
                    </a:lnTo>
                    <a:lnTo>
                      <a:pt x="1055" y="810"/>
                    </a:lnTo>
                    <a:lnTo>
                      <a:pt x="1051" y="821"/>
                    </a:lnTo>
                    <a:lnTo>
                      <a:pt x="1047" y="831"/>
                    </a:lnTo>
                    <a:lnTo>
                      <a:pt x="1044" y="842"/>
                    </a:lnTo>
                    <a:lnTo>
                      <a:pt x="1032" y="861"/>
                    </a:lnTo>
                    <a:lnTo>
                      <a:pt x="1023" y="880"/>
                    </a:lnTo>
                    <a:lnTo>
                      <a:pt x="1011" y="897"/>
                    </a:lnTo>
                    <a:lnTo>
                      <a:pt x="998" y="914"/>
                    </a:lnTo>
                    <a:lnTo>
                      <a:pt x="998" y="905"/>
                    </a:lnTo>
                    <a:lnTo>
                      <a:pt x="998" y="897"/>
                    </a:lnTo>
                    <a:lnTo>
                      <a:pt x="998" y="886"/>
                    </a:lnTo>
                    <a:lnTo>
                      <a:pt x="1000" y="875"/>
                    </a:lnTo>
                    <a:lnTo>
                      <a:pt x="1000" y="859"/>
                    </a:lnTo>
                    <a:lnTo>
                      <a:pt x="1002" y="848"/>
                    </a:lnTo>
                    <a:lnTo>
                      <a:pt x="1002" y="833"/>
                    </a:lnTo>
                    <a:lnTo>
                      <a:pt x="1004" y="821"/>
                    </a:lnTo>
                    <a:lnTo>
                      <a:pt x="1002" y="808"/>
                    </a:lnTo>
                    <a:lnTo>
                      <a:pt x="1002" y="795"/>
                    </a:lnTo>
                    <a:lnTo>
                      <a:pt x="998" y="783"/>
                    </a:lnTo>
                    <a:lnTo>
                      <a:pt x="996" y="776"/>
                    </a:lnTo>
                    <a:lnTo>
                      <a:pt x="987" y="762"/>
                    </a:lnTo>
                    <a:lnTo>
                      <a:pt x="973" y="760"/>
                    </a:lnTo>
                    <a:lnTo>
                      <a:pt x="966" y="787"/>
                    </a:lnTo>
                    <a:lnTo>
                      <a:pt x="960" y="817"/>
                    </a:lnTo>
                    <a:lnTo>
                      <a:pt x="954" y="848"/>
                    </a:lnTo>
                    <a:lnTo>
                      <a:pt x="952" y="880"/>
                    </a:lnTo>
                    <a:lnTo>
                      <a:pt x="949" y="913"/>
                    </a:lnTo>
                    <a:lnTo>
                      <a:pt x="949" y="947"/>
                    </a:lnTo>
                    <a:lnTo>
                      <a:pt x="949" y="979"/>
                    </a:lnTo>
                    <a:lnTo>
                      <a:pt x="952" y="1013"/>
                    </a:lnTo>
                    <a:lnTo>
                      <a:pt x="954" y="1044"/>
                    </a:lnTo>
                    <a:lnTo>
                      <a:pt x="960" y="1076"/>
                    </a:lnTo>
                    <a:lnTo>
                      <a:pt x="968" y="1107"/>
                    </a:lnTo>
                    <a:lnTo>
                      <a:pt x="981" y="1139"/>
                    </a:lnTo>
                    <a:lnTo>
                      <a:pt x="992" y="1167"/>
                    </a:lnTo>
                    <a:lnTo>
                      <a:pt x="1009" y="1196"/>
                    </a:lnTo>
                    <a:lnTo>
                      <a:pt x="1027" y="1223"/>
                    </a:lnTo>
                    <a:lnTo>
                      <a:pt x="1049" y="1247"/>
                    </a:lnTo>
                    <a:lnTo>
                      <a:pt x="937" y="1314"/>
                    </a:lnTo>
                    <a:lnTo>
                      <a:pt x="895" y="1255"/>
                    </a:lnTo>
                    <a:lnTo>
                      <a:pt x="165" y="1289"/>
                    </a:lnTo>
                    <a:lnTo>
                      <a:pt x="160" y="1192"/>
                    </a:lnTo>
                    <a:lnTo>
                      <a:pt x="198" y="1188"/>
                    </a:lnTo>
                    <a:lnTo>
                      <a:pt x="238" y="1186"/>
                    </a:lnTo>
                    <a:lnTo>
                      <a:pt x="277" y="1185"/>
                    </a:lnTo>
                    <a:lnTo>
                      <a:pt x="319" y="1185"/>
                    </a:lnTo>
                    <a:lnTo>
                      <a:pt x="359" y="1183"/>
                    </a:lnTo>
                    <a:lnTo>
                      <a:pt x="399" y="1183"/>
                    </a:lnTo>
                    <a:lnTo>
                      <a:pt x="441" y="1181"/>
                    </a:lnTo>
                    <a:lnTo>
                      <a:pt x="483" y="1181"/>
                    </a:lnTo>
                    <a:lnTo>
                      <a:pt x="523" y="1177"/>
                    </a:lnTo>
                    <a:lnTo>
                      <a:pt x="563" y="1175"/>
                    </a:lnTo>
                    <a:lnTo>
                      <a:pt x="603" y="1171"/>
                    </a:lnTo>
                    <a:lnTo>
                      <a:pt x="644" y="1167"/>
                    </a:lnTo>
                    <a:lnTo>
                      <a:pt x="682" y="1160"/>
                    </a:lnTo>
                    <a:lnTo>
                      <a:pt x="722" y="1154"/>
                    </a:lnTo>
                    <a:lnTo>
                      <a:pt x="760" y="1145"/>
                    </a:lnTo>
                    <a:lnTo>
                      <a:pt x="800" y="1135"/>
                    </a:lnTo>
                    <a:lnTo>
                      <a:pt x="800" y="1086"/>
                    </a:lnTo>
                    <a:lnTo>
                      <a:pt x="762" y="1086"/>
                    </a:lnTo>
                    <a:lnTo>
                      <a:pt x="722" y="1088"/>
                    </a:lnTo>
                    <a:lnTo>
                      <a:pt x="677" y="1088"/>
                    </a:lnTo>
                    <a:lnTo>
                      <a:pt x="629" y="1089"/>
                    </a:lnTo>
                    <a:lnTo>
                      <a:pt x="578" y="1089"/>
                    </a:lnTo>
                    <a:lnTo>
                      <a:pt x="528" y="1089"/>
                    </a:lnTo>
                    <a:lnTo>
                      <a:pt x="475" y="1089"/>
                    </a:lnTo>
                    <a:lnTo>
                      <a:pt x="424" y="1089"/>
                    </a:lnTo>
                    <a:lnTo>
                      <a:pt x="371" y="1086"/>
                    </a:lnTo>
                    <a:lnTo>
                      <a:pt x="319" y="1082"/>
                    </a:lnTo>
                    <a:lnTo>
                      <a:pt x="268" y="1076"/>
                    </a:lnTo>
                    <a:lnTo>
                      <a:pt x="222" y="1072"/>
                    </a:lnTo>
                    <a:lnTo>
                      <a:pt x="175" y="1065"/>
                    </a:lnTo>
                    <a:lnTo>
                      <a:pt x="135" y="1055"/>
                    </a:lnTo>
                    <a:lnTo>
                      <a:pt x="99" y="1044"/>
                    </a:lnTo>
                    <a:lnTo>
                      <a:pt x="68" y="1034"/>
                    </a:lnTo>
                    <a:lnTo>
                      <a:pt x="99" y="1029"/>
                    </a:lnTo>
                    <a:lnTo>
                      <a:pt x="129" y="1025"/>
                    </a:lnTo>
                    <a:lnTo>
                      <a:pt x="160" y="1021"/>
                    </a:lnTo>
                    <a:lnTo>
                      <a:pt x="192" y="1017"/>
                    </a:lnTo>
                    <a:lnTo>
                      <a:pt x="222" y="1011"/>
                    </a:lnTo>
                    <a:lnTo>
                      <a:pt x="253" y="1008"/>
                    </a:lnTo>
                    <a:lnTo>
                      <a:pt x="283" y="1004"/>
                    </a:lnTo>
                    <a:lnTo>
                      <a:pt x="315" y="1002"/>
                    </a:lnTo>
                    <a:lnTo>
                      <a:pt x="344" y="996"/>
                    </a:lnTo>
                    <a:lnTo>
                      <a:pt x="376" y="992"/>
                    </a:lnTo>
                    <a:lnTo>
                      <a:pt x="405" y="989"/>
                    </a:lnTo>
                    <a:lnTo>
                      <a:pt x="437" y="987"/>
                    </a:lnTo>
                    <a:lnTo>
                      <a:pt x="468" y="983"/>
                    </a:lnTo>
                    <a:lnTo>
                      <a:pt x="500" y="981"/>
                    </a:lnTo>
                    <a:lnTo>
                      <a:pt x="530" y="977"/>
                    </a:lnTo>
                    <a:lnTo>
                      <a:pt x="563" y="977"/>
                    </a:lnTo>
                    <a:lnTo>
                      <a:pt x="566" y="935"/>
                    </a:lnTo>
                    <a:lnTo>
                      <a:pt x="2" y="943"/>
                    </a:lnTo>
                    <a:lnTo>
                      <a:pt x="0" y="930"/>
                    </a:lnTo>
                    <a:lnTo>
                      <a:pt x="0" y="918"/>
                    </a:lnTo>
                    <a:lnTo>
                      <a:pt x="0" y="907"/>
                    </a:lnTo>
                    <a:lnTo>
                      <a:pt x="0" y="895"/>
                    </a:lnTo>
                    <a:lnTo>
                      <a:pt x="0" y="882"/>
                    </a:lnTo>
                    <a:lnTo>
                      <a:pt x="2" y="869"/>
                    </a:lnTo>
                    <a:lnTo>
                      <a:pt x="4" y="857"/>
                    </a:lnTo>
                    <a:lnTo>
                      <a:pt x="7" y="8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Freeform 119"/>
              <p:cNvSpPr/>
              <p:nvPr/>
            </p:nvSpPr>
            <p:spPr>
              <a:xfrm flipH="1" rot="19783200">
                <a:off x="2622600" y="5574960"/>
                <a:ext cx="363600" cy="186480"/>
              </a:xfrm>
              <a:custGeom>
                <a:avLst/>
                <a:gdLst>
                  <a:gd name="textAreaLeft" fmla="*/ 360 w 363600"/>
                  <a:gd name="textAreaRight" fmla="*/ 364320 w 36360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384" h="1223">
                    <a:moveTo>
                      <a:pt x="0" y="242"/>
                    </a:moveTo>
                    <a:lnTo>
                      <a:pt x="6" y="211"/>
                    </a:lnTo>
                    <a:lnTo>
                      <a:pt x="17" y="188"/>
                    </a:lnTo>
                    <a:lnTo>
                      <a:pt x="27" y="167"/>
                    </a:lnTo>
                    <a:lnTo>
                      <a:pt x="40" y="152"/>
                    </a:lnTo>
                    <a:lnTo>
                      <a:pt x="53" y="137"/>
                    </a:lnTo>
                    <a:lnTo>
                      <a:pt x="72" y="126"/>
                    </a:lnTo>
                    <a:lnTo>
                      <a:pt x="91" y="116"/>
                    </a:lnTo>
                    <a:lnTo>
                      <a:pt x="116" y="110"/>
                    </a:lnTo>
                    <a:lnTo>
                      <a:pt x="141" y="103"/>
                    </a:lnTo>
                    <a:lnTo>
                      <a:pt x="171" y="97"/>
                    </a:lnTo>
                    <a:lnTo>
                      <a:pt x="205" y="93"/>
                    </a:lnTo>
                    <a:lnTo>
                      <a:pt x="245" y="91"/>
                    </a:lnTo>
                    <a:lnTo>
                      <a:pt x="287" y="88"/>
                    </a:lnTo>
                    <a:lnTo>
                      <a:pt x="335" y="84"/>
                    </a:lnTo>
                    <a:lnTo>
                      <a:pt x="388" y="80"/>
                    </a:lnTo>
                    <a:lnTo>
                      <a:pt x="449" y="78"/>
                    </a:lnTo>
                    <a:lnTo>
                      <a:pt x="468" y="74"/>
                    </a:lnTo>
                    <a:lnTo>
                      <a:pt x="525" y="72"/>
                    </a:lnTo>
                    <a:lnTo>
                      <a:pt x="610" y="69"/>
                    </a:lnTo>
                    <a:lnTo>
                      <a:pt x="726" y="65"/>
                    </a:lnTo>
                    <a:lnTo>
                      <a:pt x="861" y="59"/>
                    </a:lnTo>
                    <a:lnTo>
                      <a:pt x="1015" y="53"/>
                    </a:lnTo>
                    <a:lnTo>
                      <a:pt x="1181" y="48"/>
                    </a:lnTo>
                    <a:lnTo>
                      <a:pt x="1354" y="42"/>
                    </a:lnTo>
                    <a:lnTo>
                      <a:pt x="1527" y="34"/>
                    </a:lnTo>
                    <a:lnTo>
                      <a:pt x="1696" y="27"/>
                    </a:lnTo>
                    <a:lnTo>
                      <a:pt x="1858" y="21"/>
                    </a:lnTo>
                    <a:lnTo>
                      <a:pt x="2010" y="15"/>
                    </a:lnTo>
                    <a:lnTo>
                      <a:pt x="2141" y="10"/>
                    </a:lnTo>
                    <a:lnTo>
                      <a:pt x="2251" y="4"/>
                    </a:lnTo>
                    <a:lnTo>
                      <a:pt x="2333" y="0"/>
                    </a:lnTo>
                    <a:lnTo>
                      <a:pt x="2384" y="0"/>
                    </a:lnTo>
                    <a:lnTo>
                      <a:pt x="2360" y="95"/>
                    </a:lnTo>
                    <a:lnTo>
                      <a:pt x="2327" y="97"/>
                    </a:lnTo>
                    <a:lnTo>
                      <a:pt x="2297" y="99"/>
                    </a:lnTo>
                    <a:lnTo>
                      <a:pt x="2265" y="101"/>
                    </a:lnTo>
                    <a:lnTo>
                      <a:pt x="2232" y="103"/>
                    </a:lnTo>
                    <a:lnTo>
                      <a:pt x="2198" y="103"/>
                    </a:lnTo>
                    <a:lnTo>
                      <a:pt x="2164" y="105"/>
                    </a:lnTo>
                    <a:lnTo>
                      <a:pt x="2130" y="105"/>
                    </a:lnTo>
                    <a:lnTo>
                      <a:pt x="2095" y="107"/>
                    </a:lnTo>
                    <a:lnTo>
                      <a:pt x="2059" y="107"/>
                    </a:lnTo>
                    <a:lnTo>
                      <a:pt x="2023" y="107"/>
                    </a:lnTo>
                    <a:lnTo>
                      <a:pt x="1989" y="107"/>
                    </a:lnTo>
                    <a:lnTo>
                      <a:pt x="1957" y="107"/>
                    </a:lnTo>
                    <a:lnTo>
                      <a:pt x="1922" y="107"/>
                    </a:lnTo>
                    <a:lnTo>
                      <a:pt x="1890" y="107"/>
                    </a:lnTo>
                    <a:lnTo>
                      <a:pt x="1858" y="107"/>
                    </a:lnTo>
                    <a:lnTo>
                      <a:pt x="1829" y="109"/>
                    </a:lnTo>
                    <a:lnTo>
                      <a:pt x="1833" y="137"/>
                    </a:lnTo>
                    <a:lnTo>
                      <a:pt x="2015" y="154"/>
                    </a:lnTo>
                    <a:lnTo>
                      <a:pt x="1936" y="162"/>
                    </a:lnTo>
                    <a:lnTo>
                      <a:pt x="1856" y="171"/>
                    </a:lnTo>
                    <a:lnTo>
                      <a:pt x="1778" y="179"/>
                    </a:lnTo>
                    <a:lnTo>
                      <a:pt x="1702" y="186"/>
                    </a:lnTo>
                    <a:lnTo>
                      <a:pt x="1622" y="190"/>
                    </a:lnTo>
                    <a:lnTo>
                      <a:pt x="1544" y="196"/>
                    </a:lnTo>
                    <a:lnTo>
                      <a:pt x="1466" y="200"/>
                    </a:lnTo>
                    <a:lnTo>
                      <a:pt x="1388" y="206"/>
                    </a:lnTo>
                    <a:lnTo>
                      <a:pt x="1308" y="207"/>
                    </a:lnTo>
                    <a:lnTo>
                      <a:pt x="1228" y="211"/>
                    </a:lnTo>
                    <a:lnTo>
                      <a:pt x="1150" y="213"/>
                    </a:lnTo>
                    <a:lnTo>
                      <a:pt x="1072" y="217"/>
                    </a:lnTo>
                    <a:lnTo>
                      <a:pt x="993" y="219"/>
                    </a:lnTo>
                    <a:lnTo>
                      <a:pt x="915" y="223"/>
                    </a:lnTo>
                    <a:lnTo>
                      <a:pt x="837" y="226"/>
                    </a:lnTo>
                    <a:lnTo>
                      <a:pt x="759" y="232"/>
                    </a:lnTo>
                    <a:lnTo>
                      <a:pt x="753" y="226"/>
                    </a:lnTo>
                    <a:lnTo>
                      <a:pt x="747" y="219"/>
                    </a:lnTo>
                    <a:lnTo>
                      <a:pt x="745" y="209"/>
                    </a:lnTo>
                    <a:lnTo>
                      <a:pt x="747" y="204"/>
                    </a:lnTo>
                    <a:lnTo>
                      <a:pt x="975" y="169"/>
                    </a:lnTo>
                    <a:lnTo>
                      <a:pt x="975" y="154"/>
                    </a:lnTo>
                    <a:lnTo>
                      <a:pt x="936" y="147"/>
                    </a:lnTo>
                    <a:lnTo>
                      <a:pt x="898" y="143"/>
                    </a:lnTo>
                    <a:lnTo>
                      <a:pt x="859" y="137"/>
                    </a:lnTo>
                    <a:lnTo>
                      <a:pt x="821" y="137"/>
                    </a:lnTo>
                    <a:lnTo>
                      <a:pt x="782" y="135"/>
                    </a:lnTo>
                    <a:lnTo>
                      <a:pt x="742" y="135"/>
                    </a:lnTo>
                    <a:lnTo>
                      <a:pt x="702" y="135"/>
                    </a:lnTo>
                    <a:lnTo>
                      <a:pt x="662" y="137"/>
                    </a:lnTo>
                    <a:lnTo>
                      <a:pt x="620" y="137"/>
                    </a:lnTo>
                    <a:lnTo>
                      <a:pt x="580" y="141"/>
                    </a:lnTo>
                    <a:lnTo>
                      <a:pt x="540" y="143"/>
                    </a:lnTo>
                    <a:lnTo>
                      <a:pt x="500" y="147"/>
                    </a:lnTo>
                    <a:lnTo>
                      <a:pt x="460" y="148"/>
                    </a:lnTo>
                    <a:lnTo>
                      <a:pt x="424" y="154"/>
                    </a:lnTo>
                    <a:lnTo>
                      <a:pt x="386" y="156"/>
                    </a:lnTo>
                    <a:lnTo>
                      <a:pt x="352" y="162"/>
                    </a:lnTo>
                    <a:lnTo>
                      <a:pt x="348" y="171"/>
                    </a:lnTo>
                    <a:lnTo>
                      <a:pt x="350" y="186"/>
                    </a:lnTo>
                    <a:lnTo>
                      <a:pt x="354" y="198"/>
                    </a:lnTo>
                    <a:lnTo>
                      <a:pt x="365" y="207"/>
                    </a:lnTo>
                    <a:lnTo>
                      <a:pt x="380" y="206"/>
                    </a:lnTo>
                    <a:lnTo>
                      <a:pt x="397" y="206"/>
                    </a:lnTo>
                    <a:lnTo>
                      <a:pt x="415" y="206"/>
                    </a:lnTo>
                    <a:lnTo>
                      <a:pt x="434" y="206"/>
                    </a:lnTo>
                    <a:lnTo>
                      <a:pt x="451" y="204"/>
                    </a:lnTo>
                    <a:lnTo>
                      <a:pt x="470" y="204"/>
                    </a:lnTo>
                    <a:lnTo>
                      <a:pt x="489" y="204"/>
                    </a:lnTo>
                    <a:lnTo>
                      <a:pt x="510" y="204"/>
                    </a:lnTo>
                    <a:lnTo>
                      <a:pt x="527" y="204"/>
                    </a:lnTo>
                    <a:lnTo>
                      <a:pt x="546" y="204"/>
                    </a:lnTo>
                    <a:lnTo>
                      <a:pt x="565" y="204"/>
                    </a:lnTo>
                    <a:lnTo>
                      <a:pt x="584" y="204"/>
                    </a:lnTo>
                    <a:lnTo>
                      <a:pt x="603" y="204"/>
                    </a:lnTo>
                    <a:lnTo>
                      <a:pt x="622" y="204"/>
                    </a:lnTo>
                    <a:lnTo>
                      <a:pt x="641" y="206"/>
                    </a:lnTo>
                    <a:lnTo>
                      <a:pt x="660" y="207"/>
                    </a:lnTo>
                    <a:lnTo>
                      <a:pt x="667" y="228"/>
                    </a:lnTo>
                    <a:lnTo>
                      <a:pt x="633" y="234"/>
                    </a:lnTo>
                    <a:lnTo>
                      <a:pt x="599" y="240"/>
                    </a:lnTo>
                    <a:lnTo>
                      <a:pt x="565" y="244"/>
                    </a:lnTo>
                    <a:lnTo>
                      <a:pt x="532" y="247"/>
                    </a:lnTo>
                    <a:lnTo>
                      <a:pt x="498" y="247"/>
                    </a:lnTo>
                    <a:lnTo>
                      <a:pt x="466" y="249"/>
                    </a:lnTo>
                    <a:lnTo>
                      <a:pt x="434" y="249"/>
                    </a:lnTo>
                    <a:lnTo>
                      <a:pt x="401" y="251"/>
                    </a:lnTo>
                    <a:lnTo>
                      <a:pt x="367" y="251"/>
                    </a:lnTo>
                    <a:lnTo>
                      <a:pt x="333" y="251"/>
                    </a:lnTo>
                    <a:lnTo>
                      <a:pt x="299" y="253"/>
                    </a:lnTo>
                    <a:lnTo>
                      <a:pt x="266" y="255"/>
                    </a:lnTo>
                    <a:lnTo>
                      <a:pt x="232" y="257"/>
                    </a:lnTo>
                    <a:lnTo>
                      <a:pt x="200" y="261"/>
                    </a:lnTo>
                    <a:lnTo>
                      <a:pt x="166" y="266"/>
                    </a:lnTo>
                    <a:lnTo>
                      <a:pt x="133" y="274"/>
                    </a:lnTo>
                    <a:lnTo>
                      <a:pt x="129" y="280"/>
                    </a:lnTo>
                    <a:lnTo>
                      <a:pt x="133" y="297"/>
                    </a:lnTo>
                    <a:lnTo>
                      <a:pt x="137" y="312"/>
                    </a:lnTo>
                    <a:lnTo>
                      <a:pt x="141" y="320"/>
                    </a:lnTo>
                    <a:lnTo>
                      <a:pt x="369" y="312"/>
                    </a:lnTo>
                    <a:lnTo>
                      <a:pt x="228" y="358"/>
                    </a:lnTo>
                    <a:lnTo>
                      <a:pt x="232" y="390"/>
                    </a:lnTo>
                    <a:lnTo>
                      <a:pt x="266" y="390"/>
                    </a:lnTo>
                    <a:lnTo>
                      <a:pt x="302" y="394"/>
                    </a:lnTo>
                    <a:lnTo>
                      <a:pt x="339" y="396"/>
                    </a:lnTo>
                    <a:lnTo>
                      <a:pt x="375" y="399"/>
                    </a:lnTo>
                    <a:lnTo>
                      <a:pt x="409" y="401"/>
                    </a:lnTo>
                    <a:lnTo>
                      <a:pt x="445" y="403"/>
                    </a:lnTo>
                    <a:lnTo>
                      <a:pt x="481" y="405"/>
                    </a:lnTo>
                    <a:lnTo>
                      <a:pt x="517" y="409"/>
                    </a:lnTo>
                    <a:lnTo>
                      <a:pt x="551" y="409"/>
                    </a:lnTo>
                    <a:lnTo>
                      <a:pt x="588" y="411"/>
                    </a:lnTo>
                    <a:lnTo>
                      <a:pt x="622" y="411"/>
                    </a:lnTo>
                    <a:lnTo>
                      <a:pt x="658" y="413"/>
                    </a:lnTo>
                    <a:lnTo>
                      <a:pt x="692" y="413"/>
                    </a:lnTo>
                    <a:lnTo>
                      <a:pt x="728" y="413"/>
                    </a:lnTo>
                    <a:lnTo>
                      <a:pt x="764" y="411"/>
                    </a:lnTo>
                    <a:lnTo>
                      <a:pt x="801" y="411"/>
                    </a:lnTo>
                    <a:lnTo>
                      <a:pt x="901" y="327"/>
                    </a:lnTo>
                    <a:lnTo>
                      <a:pt x="909" y="394"/>
                    </a:lnTo>
                    <a:lnTo>
                      <a:pt x="1000" y="411"/>
                    </a:lnTo>
                    <a:lnTo>
                      <a:pt x="1046" y="516"/>
                    </a:lnTo>
                    <a:lnTo>
                      <a:pt x="1025" y="516"/>
                    </a:lnTo>
                    <a:lnTo>
                      <a:pt x="1006" y="516"/>
                    </a:lnTo>
                    <a:lnTo>
                      <a:pt x="985" y="516"/>
                    </a:lnTo>
                    <a:lnTo>
                      <a:pt x="968" y="516"/>
                    </a:lnTo>
                    <a:lnTo>
                      <a:pt x="949" y="514"/>
                    </a:lnTo>
                    <a:lnTo>
                      <a:pt x="930" y="514"/>
                    </a:lnTo>
                    <a:lnTo>
                      <a:pt x="911" y="514"/>
                    </a:lnTo>
                    <a:lnTo>
                      <a:pt x="894" y="514"/>
                    </a:lnTo>
                    <a:lnTo>
                      <a:pt x="875" y="512"/>
                    </a:lnTo>
                    <a:lnTo>
                      <a:pt x="856" y="510"/>
                    </a:lnTo>
                    <a:lnTo>
                      <a:pt x="837" y="508"/>
                    </a:lnTo>
                    <a:lnTo>
                      <a:pt x="818" y="508"/>
                    </a:lnTo>
                    <a:lnTo>
                      <a:pt x="799" y="506"/>
                    </a:lnTo>
                    <a:lnTo>
                      <a:pt x="780" y="506"/>
                    </a:lnTo>
                    <a:lnTo>
                      <a:pt x="761" y="506"/>
                    </a:lnTo>
                    <a:lnTo>
                      <a:pt x="744" y="506"/>
                    </a:lnTo>
                    <a:lnTo>
                      <a:pt x="732" y="512"/>
                    </a:lnTo>
                    <a:lnTo>
                      <a:pt x="730" y="523"/>
                    </a:lnTo>
                    <a:lnTo>
                      <a:pt x="732" y="535"/>
                    </a:lnTo>
                    <a:lnTo>
                      <a:pt x="738" y="544"/>
                    </a:lnTo>
                    <a:lnTo>
                      <a:pt x="947" y="586"/>
                    </a:lnTo>
                    <a:lnTo>
                      <a:pt x="920" y="588"/>
                    </a:lnTo>
                    <a:lnTo>
                      <a:pt x="894" y="590"/>
                    </a:lnTo>
                    <a:lnTo>
                      <a:pt x="867" y="590"/>
                    </a:lnTo>
                    <a:lnTo>
                      <a:pt x="842" y="592"/>
                    </a:lnTo>
                    <a:lnTo>
                      <a:pt x="816" y="590"/>
                    </a:lnTo>
                    <a:lnTo>
                      <a:pt x="789" y="588"/>
                    </a:lnTo>
                    <a:lnTo>
                      <a:pt x="763" y="586"/>
                    </a:lnTo>
                    <a:lnTo>
                      <a:pt x="738" y="586"/>
                    </a:lnTo>
                    <a:lnTo>
                      <a:pt x="709" y="582"/>
                    </a:lnTo>
                    <a:lnTo>
                      <a:pt x="683" y="580"/>
                    </a:lnTo>
                    <a:lnTo>
                      <a:pt x="656" y="580"/>
                    </a:lnTo>
                    <a:lnTo>
                      <a:pt x="631" y="580"/>
                    </a:lnTo>
                    <a:lnTo>
                      <a:pt x="605" y="580"/>
                    </a:lnTo>
                    <a:lnTo>
                      <a:pt x="580" y="582"/>
                    </a:lnTo>
                    <a:lnTo>
                      <a:pt x="557" y="586"/>
                    </a:lnTo>
                    <a:lnTo>
                      <a:pt x="534" y="593"/>
                    </a:lnTo>
                    <a:lnTo>
                      <a:pt x="553" y="601"/>
                    </a:lnTo>
                    <a:lnTo>
                      <a:pt x="574" y="611"/>
                    </a:lnTo>
                    <a:lnTo>
                      <a:pt x="597" y="616"/>
                    </a:lnTo>
                    <a:lnTo>
                      <a:pt x="622" y="624"/>
                    </a:lnTo>
                    <a:lnTo>
                      <a:pt x="645" y="628"/>
                    </a:lnTo>
                    <a:lnTo>
                      <a:pt x="671" y="633"/>
                    </a:lnTo>
                    <a:lnTo>
                      <a:pt x="696" y="639"/>
                    </a:lnTo>
                    <a:lnTo>
                      <a:pt x="725" y="645"/>
                    </a:lnTo>
                    <a:lnTo>
                      <a:pt x="749" y="647"/>
                    </a:lnTo>
                    <a:lnTo>
                      <a:pt x="776" y="652"/>
                    </a:lnTo>
                    <a:lnTo>
                      <a:pt x="804" y="656"/>
                    </a:lnTo>
                    <a:lnTo>
                      <a:pt x="833" y="662"/>
                    </a:lnTo>
                    <a:lnTo>
                      <a:pt x="861" y="666"/>
                    </a:lnTo>
                    <a:lnTo>
                      <a:pt x="890" y="671"/>
                    </a:lnTo>
                    <a:lnTo>
                      <a:pt x="918" y="677"/>
                    </a:lnTo>
                    <a:lnTo>
                      <a:pt x="947" y="685"/>
                    </a:lnTo>
                    <a:lnTo>
                      <a:pt x="917" y="687"/>
                    </a:lnTo>
                    <a:lnTo>
                      <a:pt x="888" y="690"/>
                    </a:lnTo>
                    <a:lnTo>
                      <a:pt x="858" y="694"/>
                    </a:lnTo>
                    <a:lnTo>
                      <a:pt x="829" y="698"/>
                    </a:lnTo>
                    <a:lnTo>
                      <a:pt x="799" y="700"/>
                    </a:lnTo>
                    <a:lnTo>
                      <a:pt x="770" y="702"/>
                    </a:lnTo>
                    <a:lnTo>
                      <a:pt x="740" y="704"/>
                    </a:lnTo>
                    <a:lnTo>
                      <a:pt x="711" y="706"/>
                    </a:lnTo>
                    <a:lnTo>
                      <a:pt x="681" y="706"/>
                    </a:lnTo>
                    <a:lnTo>
                      <a:pt x="650" y="706"/>
                    </a:lnTo>
                    <a:lnTo>
                      <a:pt x="620" y="706"/>
                    </a:lnTo>
                    <a:lnTo>
                      <a:pt x="591" y="706"/>
                    </a:lnTo>
                    <a:lnTo>
                      <a:pt x="561" y="704"/>
                    </a:lnTo>
                    <a:lnTo>
                      <a:pt x="531" y="702"/>
                    </a:lnTo>
                    <a:lnTo>
                      <a:pt x="502" y="700"/>
                    </a:lnTo>
                    <a:lnTo>
                      <a:pt x="474" y="698"/>
                    </a:lnTo>
                    <a:lnTo>
                      <a:pt x="470" y="730"/>
                    </a:lnTo>
                    <a:lnTo>
                      <a:pt x="877" y="776"/>
                    </a:lnTo>
                    <a:lnTo>
                      <a:pt x="850" y="776"/>
                    </a:lnTo>
                    <a:lnTo>
                      <a:pt x="825" y="780"/>
                    </a:lnTo>
                    <a:lnTo>
                      <a:pt x="799" y="782"/>
                    </a:lnTo>
                    <a:lnTo>
                      <a:pt x="776" y="786"/>
                    </a:lnTo>
                    <a:lnTo>
                      <a:pt x="749" y="787"/>
                    </a:lnTo>
                    <a:lnTo>
                      <a:pt x="725" y="791"/>
                    </a:lnTo>
                    <a:lnTo>
                      <a:pt x="698" y="793"/>
                    </a:lnTo>
                    <a:lnTo>
                      <a:pt x="675" y="799"/>
                    </a:lnTo>
                    <a:lnTo>
                      <a:pt x="648" y="801"/>
                    </a:lnTo>
                    <a:lnTo>
                      <a:pt x="624" y="805"/>
                    </a:lnTo>
                    <a:lnTo>
                      <a:pt x="597" y="808"/>
                    </a:lnTo>
                    <a:lnTo>
                      <a:pt x="572" y="812"/>
                    </a:lnTo>
                    <a:lnTo>
                      <a:pt x="546" y="816"/>
                    </a:lnTo>
                    <a:lnTo>
                      <a:pt x="523" y="820"/>
                    </a:lnTo>
                    <a:lnTo>
                      <a:pt x="496" y="825"/>
                    </a:lnTo>
                    <a:lnTo>
                      <a:pt x="474" y="831"/>
                    </a:lnTo>
                    <a:lnTo>
                      <a:pt x="470" y="867"/>
                    </a:lnTo>
                    <a:lnTo>
                      <a:pt x="631" y="852"/>
                    </a:lnTo>
                    <a:lnTo>
                      <a:pt x="460" y="913"/>
                    </a:lnTo>
                    <a:lnTo>
                      <a:pt x="456" y="947"/>
                    </a:lnTo>
                    <a:lnTo>
                      <a:pt x="527" y="989"/>
                    </a:lnTo>
                    <a:lnTo>
                      <a:pt x="428" y="1035"/>
                    </a:lnTo>
                    <a:lnTo>
                      <a:pt x="411" y="1141"/>
                    </a:lnTo>
                    <a:lnTo>
                      <a:pt x="416" y="1141"/>
                    </a:lnTo>
                    <a:lnTo>
                      <a:pt x="428" y="1141"/>
                    </a:lnTo>
                    <a:lnTo>
                      <a:pt x="439" y="1141"/>
                    </a:lnTo>
                    <a:lnTo>
                      <a:pt x="455" y="1143"/>
                    </a:lnTo>
                    <a:lnTo>
                      <a:pt x="470" y="1143"/>
                    </a:lnTo>
                    <a:lnTo>
                      <a:pt x="487" y="1147"/>
                    </a:lnTo>
                    <a:lnTo>
                      <a:pt x="504" y="1147"/>
                    </a:lnTo>
                    <a:lnTo>
                      <a:pt x="521" y="1151"/>
                    </a:lnTo>
                    <a:lnTo>
                      <a:pt x="536" y="1151"/>
                    </a:lnTo>
                    <a:lnTo>
                      <a:pt x="553" y="1151"/>
                    </a:lnTo>
                    <a:lnTo>
                      <a:pt x="569" y="1151"/>
                    </a:lnTo>
                    <a:lnTo>
                      <a:pt x="586" y="1153"/>
                    </a:lnTo>
                    <a:lnTo>
                      <a:pt x="597" y="1151"/>
                    </a:lnTo>
                    <a:lnTo>
                      <a:pt x="610" y="1151"/>
                    </a:lnTo>
                    <a:lnTo>
                      <a:pt x="620" y="1149"/>
                    </a:lnTo>
                    <a:lnTo>
                      <a:pt x="628" y="1147"/>
                    </a:lnTo>
                    <a:lnTo>
                      <a:pt x="628" y="909"/>
                    </a:lnTo>
                    <a:lnTo>
                      <a:pt x="647" y="903"/>
                    </a:lnTo>
                    <a:lnTo>
                      <a:pt x="667" y="902"/>
                    </a:lnTo>
                    <a:lnTo>
                      <a:pt x="686" y="902"/>
                    </a:lnTo>
                    <a:lnTo>
                      <a:pt x="707" y="902"/>
                    </a:lnTo>
                    <a:lnTo>
                      <a:pt x="726" y="902"/>
                    </a:lnTo>
                    <a:lnTo>
                      <a:pt x="747" y="902"/>
                    </a:lnTo>
                    <a:lnTo>
                      <a:pt x="766" y="903"/>
                    </a:lnTo>
                    <a:lnTo>
                      <a:pt x="789" y="905"/>
                    </a:lnTo>
                    <a:lnTo>
                      <a:pt x="808" y="905"/>
                    </a:lnTo>
                    <a:lnTo>
                      <a:pt x="829" y="907"/>
                    </a:lnTo>
                    <a:lnTo>
                      <a:pt x="850" y="909"/>
                    </a:lnTo>
                    <a:lnTo>
                      <a:pt x="871" y="911"/>
                    </a:lnTo>
                    <a:lnTo>
                      <a:pt x="890" y="911"/>
                    </a:lnTo>
                    <a:lnTo>
                      <a:pt x="913" y="911"/>
                    </a:lnTo>
                    <a:lnTo>
                      <a:pt x="932" y="911"/>
                    </a:lnTo>
                    <a:lnTo>
                      <a:pt x="955" y="913"/>
                    </a:lnTo>
                    <a:lnTo>
                      <a:pt x="964" y="924"/>
                    </a:lnTo>
                    <a:lnTo>
                      <a:pt x="972" y="936"/>
                    </a:lnTo>
                    <a:lnTo>
                      <a:pt x="977" y="949"/>
                    </a:lnTo>
                    <a:lnTo>
                      <a:pt x="985" y="964"/>
                    </a:lnTo>
                    <a:lnTo>
                      <a:pt x="989" y="980"/>
                    </a:lnTo>
                    <a:lnTo>
                      <a:pt x="993" y="995"/>
                    </a:lnTo>
                    <a:lnTo>
                      <a:pt x="994" y="1012"/>
                    </a:lnTo>
                    <a:lnTo>
                      <a:pt x="998" y="1029"/>
                    </a:lnTo>
                    <a:lnTo>
                      <a:pt x="998" y="1044"/>
                    </a:lnTo>
                    <a:lnTo>
                      <a:pt x="998" y="1061"/>
                    </a:lnTo>
                    <a:lnTo>
                      <a:pt x="998" y="1077"/>
                    </a:lnTo>
                    <a:lnTo>
                      <a:pt x="1000" y="1094"/>
                    </a:lnTo>
                    <a:lnTo>
                      <a:pt x="1000" y="1109"/>
                    </a:lnTo>
                    <a:lnTo>
                      <a:pt x="1002" y="1124"/>
                    </a:lnTo>
                    <a:lnTo>
                      <a:pt x="1004" y="1139"/>
                    </a:lnTo>
                    <a:lnTo>
                      <a:pt x="1008" y="1155"/>
                    </a:lnTo>
                    <a:lnTo>
                      <a:pt x="1067" y="1168"/>
                    </a:lnTo>
                    <a:lnTo>
                      <a:pt x="1074" y="1223"/>
                    </a:lnTo>
                    <a:lnTo>
                      <a:pt x="922" y="1223"/>
                    </a:lnTo>
                    <a:lnTo>
                      <a:pt x="915" y="1223"/>
                    </a:lnTo>
                    <a:lnTo>
                      <a:pt x="911" y="1223"/>
                    </a:lnTo>
                    <a:lnTo>
                      <a:pt x="907" y="1206"/>
                    </a:lnTo>
                    <a:lnTo>
                      <a:pt x="907" y="1189"/>
                    </a:lnTo>
                    <a:lnTo>
                      <a:pt x="907" y="1170"/>
                    </a:lnTo>
                    <a:lnTo>
                      <a:pt x="907" y="1151"/>
                    </a:lnTo>
                    <a:lnTo>
                      <a:pt x="907" y="1132"/>
                    </a:lnTo>
                    <a:lnTo>
                      <a:pt x="909" y="1115"/>
                    </a:lnTo>
                    <a:lnTo>
                      <a:pt x="907" y="1094"/>
                    </a:lnTo>
                    <a:lnTo>
                      <a:pt x="907" y="1075"/>
                    </a:lnTo>
                    <a:lnTo>
                      <a:pt x="905" y="1058"/>
                    </a:lnTo>
                    <a:lnTo>
                      <a:pt x="903" y="1040"/>
                    </a:lnTo>
                    <a:lnTo>
                      <a:pt x="896" y="1023"/>
                    </a:lnTo>
                    <a:lnTo>
                      <a:pt x="890" y="1008"/>
                    </a:lnTo>
                    <a:lnTo>
                      <a:pt x="879" y="995"/>
                    </a:lnTo>
                    <a:lnTo>
                      <a:pt x="867" y="983"/>
                    </a:lnTo>
                    <a:lnTo>
                      <a:pt x="858" y="983"/>
                    </a:lnTo>
                    <a:lnTo>
                      <a:pt x="848" y="991"/>
                    </a:lnTo>
                    <a:lnTo>
                      <a:pt x="837" y="1002"/>
                    </a:lnTo>
                    <a:lnTo>
                      <a:pt x="827" y="1018"/>
                    </a:lnTo>
                    <a:lnTo>
                      <a:pt x="816" y="1033"/>
                    </a:lnTo>
                    <a:lnTo>
                      <a:pt x="804" y="1050"/>
                    </a:lnTo>
                    <a:lnTo>
                      <a:pt x="793" y="1069"/>
                    </a:lnTo>
                    <a:lnTo>
                      <a:pt x="783" y="1092"/>
                    </a:lnTo>
                    <a:lnTo>
                      <a:pt x="772" y="1111"/>
                    </a:lnTo>
                    <a:lnTo>
                      <a:pt x="761" y="1132"/>
                    </a:lnTo>
                    <a:lnTo>
                      <a:pt x="751" y="1151"/>
                    </a:lnTo>
                    <a:lnTo>
                      <a:pt x="744" y="1172"/>
                    </a:lnTo>
                    <a:lnTo>
                      <a:pt x="734" y="1187"/>
                    </a:lnTo>
                    <a:lnTo>
                      <a:pt x="728" y="1202"/>
                    </a:lnTo>
                    <a:lnTo>
                      <a:pt x="721" y="1213"/>
                    </a:lnTo>
                    <a:lnTo>
                      <a:pt x="719" y="1223"/>
                    </a:lnTo>
                    <a:lnTo>
                      <a:pt x="337" y="1223"/>
                    </a:lnTo>
                    <a:lnTo>
                      <a:pt x="299" y="523"/>
                    </a:lnTo>
                    <a:lnTo>
                      <a:pt x="261" y="512"/>
                    </a:lnTo>
                    <a:lnTo>
                      <a:pt x="226" y="504"/>
                    </a:lnTo>
                    <a:lnTo>
                      <a:pt x="194" y="496"/>
                    </a:lnTo>
                    <a:lnTo>
                      <a:pt x="166" y="491"/>
                    </a:lnTo>
                    <a:lnTo>
                      <a:pt x="137" y="483"/>
                    </a:lnTo>
                    <a:lnTo>
                      <a:pt x="114" y="477"/>
                    </a:lnTo>
                    <a:lnTo>
                      <a:pt x="91" y="468"/>
                    </a:lnTo>
                    <a:lnTo>
                      <a:pt x="74" y="458"/>
                    </a:lnTo>
                    <a:lnTo>
                      <a:pt x="55" y="443"/>
                    </a:lnTo>
                    <a:lnTo>
                      <a:pt x="42" y="426"/>
                    </a:lnTo>
                    <a:lnTo>
                      <a:pt x="29" y="407"/>
                    </a:lnTo>
                    <a:lnTo>
                      <a:pt x="19" y="384"/>
                    </a:lnTo>
                    <a:lnTo>
                      <a:pt x="10" y="356"/>
                    </a:lnTo>
                    <a:lnTo>
                      <a:pt x="6" y="323"/>
                    </a:lnTo>
                    <a:lnTo>
                      <a:pt x="0" y="283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120"/>
              <p:cNvSpPr/>
              <p:nvPr/>
            </p:nvSpPr>
            <p:spPr>
              <a:xfrm flipH="1" rot="19783200">
                <a:off x="2846520" y="5497920"/>
                <a:ext cx="69840" cy="21240"/>
              </a:xfrm>
              <a:custGeom>
                <a:avLst/>
                <a:gdLst>
                  <a:gd name="textAreaLeft" fmla="*/ 360 w 69840"/>
                  <a:gd name="textAreaRight" fmla="*/ 70560 w 69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59" h="138">
                    <a:moveTo>
                      <a:pt x="6" y="58"/>
                    </a:moveTo>
                    <a:lnTo>
                      <a:pt x="130" y="0"/>
                    </a:lnTo>
                    <a:lnTo>
                      <a:pt x="459" y="70"/>
                    </a:lnTo>
                    <a:lnTo>
                      <a:pt x="308" y="125"/>
                    </a:lnTo>
                    <a:lnTo>
                      <a:pt x="295" y="127"/>
                    </a:lnTo>
                    <a:lnTo>
                      <a:pt x="278" y="131"/>
                    </a:lnTo>
                    <a:lnTo>
                      <a:pt x="257" y="133"/>
                    </a:lnTo>
                    <a:lnTo>
                      <a:pt x="234" y="136"/>
                    </a:lnTo>
                    <a:lnTo>
                      <a:pt x="206" y="136"/>
                    </a:lnTo>
                    <a:lnTo>
                      <a:pt x="179" y="138"/>
                    </a:lnTo>
                    <a:lnTo>
                      <a:pt x="153" y="138"/>
                    </a:lnTo>
                    <a:lnTo>
                      <a:pt x="126" y="138"/>
                    </a:lnTo>
                    <a:lnTo>
                      <a:pt x="97" y="133"/>
                    </a:lnTo>
                    <a:lnTo>
                      <a:pt x="73" y="129"/>
                    </a:lnTo>
                    <a:lnTo>
                      <a:pt x="48" y="123"/>
                    </a:lnTo>
                    <a:lnTo>
                      <a:pt x="31" y="116"/>
                    </a:lnTo>
                    <a:lnTo>
                      <a:pt x="16" y="102"/>
                    </a:lnTo>
                    <a:lnTo>
                      <a:pt x="6" y="91"/>
                    </a:lnTo>
                    <a:lnTo>
                      <a:pt x="0" y="76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Freeform 121"/>
              <p:cNvSpPr/>
              <p:nvPr/>
            </p:nvSpPr>
            <p:spPr>
              <a:xfrm flipH="1" rot="19783200">
                <a:off x="2956680" y="5589000"/>
                <a:ext cx="17640" cy="8712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16" h="571">
                    <a:moveTo>
                      <a:pt x="33" y="0"/>
                    </a:moveTo>
                    <a:lnTo>
                      <a:pt x="46" y="29"/>
                    </a:lnTo>
                    <a:lnTo>
                      <a:pt x="59" y="57"/>
                    </a:lnTo>
                    <a:lnTo>
                      <a:pt x="69" y="88"/>
                    </a:lnTo>
                    <a:lnTo>
                      <a:pt x="78" y="120"/>
                    </a:lnTo>
                    <a:lnTo>
                      <a:pt x="82" y="151"/>
                    </a:lnTo>
                    <a:lnTo>
                      <a:pt x="86" y="183"/>
                    </a:lnTo>
                    <a:lnTo>
                      <a:pt x="88" y="215"/>
                    </a:lnTo>
                    <a:lnTo>
                      <a:pt x="92" y="250"/>
                    </a:lnTo>
                    <a:lnTo>
                      <a:pt x="92" y="282"/>
                    </a:lnTo>
                    <a:lnTo>
                      <a:pt x="92" y="314"/>
                    </a:lnTo>
                    <a:lnTo>
                      <a:pt x="92" y="347"/>
                    </a:lnTo>
                    <a:lnTo>
                      <a:pt x="96" y="379"/>
                    </a:lnTo>
                    <a:lnTo>
                      <a:pt x="96" y="409"/>
                    </a:lnTo>
                    <a:lnTo>
                      <a:pt x="101" y="442"/>
                    </a:lnTo>
                    <a:lnTo>
                      <a:pt x="107" y="474"/>
                    </a:lnTo>
                    <a:lnTo>
                      <a:pt x="116" y="506"/>
                    </a:lnTo>
                    <a:lnTo>
                      <a:pt x="82" y="571"/>
                    </a:lnTo>
                    <a:lnTo>
                      <a:pt x="67" y="571"/>
                    </a:lnTo>
                    <a:lnTo>
                      <a:pt x="56" y="571"/>
                    </a:lnTo>
                    <a:lnTo>
                      <a:pt x="44" y="546"/>
                    </a:lnTo>
                    <a:lnTo>
                      <a:pt x="35" y="514"/>
                    </a:lnTo>
                    <a:lnTo>
                      <a:pt x="25" y="472"/>
                    </a:lnTo>
                    <a:lnTo>
                      <a:pt x="18" y="426"/>
                    </a:lnTo>
                    <a:lnTo>
                      <a:pt x="12" y="375"/>
                    </a:lnTo>
                    <a:lnTo>
                      <a:pt x="8" y="326"/>
                    </a:lnTo>
                    <a:lnTo>
                      <a:pt x="2" y="270"/>
                    </a:lnTo>
                    <a:lnTo>
                      <a:pt x="2" y="217"/>
                    </a:lnTo>
                    <a:lnTo>
                      <a:pt x="0" y="166"/>
                    </a:lnTo>
                    <a:lnTo>
                      <a:pt x="4" y="120"/>
                    </a:lnTo>
                    <a:lnTo>
                      <a:pt x="6" y="77"/>
                    </a:lnTo>
                    <a:lnTo>
                      <a:pt x="14" y="42"/>
                    </a:lnTo>
                    <a:lnTo>
                      <a:pt x="21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Freeform 122"/>
              <p:cNvSpPr/>
              <p:nvPr/>
            </p:nvSpPr>
            <p:spPr>
              <a:xfrm flipH="1" rot="19783200">
                <a:off x="2788920" y="5519520"/>
                <a:ext cx="81720" cy="133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34" h="88">
                    <a:moveTo>
                      <a:pt x="534" y="17"/>
                    </a:moveTo>
                    <a:lnTo>
                      <a:pt x="232" y="88"/>
                    </a:lnTo>
                    <a:lnTo>
                      <a:pt x="217" y="82"/>
                    </a:lnTo>
                    <a:lnTo>
                      <a:pt x="201" y="76"/>
                    </a:lnTo>
                    <a:lnTo>
                      <a:pt x="186" y="70"/>
                    </a:lnTo>
                    <a:lnTo>
                      <a:pt x="173" y="67"/>
                    </a:lnTo>
                    <a:lnTo>
                      <a:pt x="158" y="61"/>
                    </a:lnTo>
                    <a:lnTo>
                      <a:pt x="144" y="59"/>
                    </a:lnTo>
                    <a:lnTo>
                      <a:pt x="129" y="53"/>
                    </a:lnTo>
                    <a:lnTo>
                      <a:pt x="116" y="51"/>
                    </a:lnTo>
                    <a:lnTo>
                      <a:pt x="99" y="46"/>
                    </a:lnTo>
                    <a:lnTo>
                      <a:pt x="85" y="42"/>
                    </a:lnTo>
                    <a:lnTo>
                      <a:pt x="68" y="38"/>
                    </a:lnTo>
                    <a:lnTo>
                      <a:pt x="55" y="34"/>
                    </a:lnTo>
                    <a:lnTo>
                      <a:pt x="40" y="29"/>
                    </a:lnTo>
                    <a:lnTo>
                      <a:pt x="27" y="25"/>
                    </a:lnTo>
                    <a:lnTo>
                      <a:pt x="11" y="21"/>
                    </a:lnTo>
                    <a:lnTo>
                      <a:pt x="0" y="17"/>
                    </a:lnTo>
                    <a:lnTo>
                      <a:pt x="4" y="11"/>
                    </a:lnTo>
                    <a:lnTo>
                      <a:pt x="21" y="6"/>
                    </a:lnTo>
                    <a:lnTo>
                      <a:pt x="44" y="2"/>
                    </a:lnTo>
                    <a:lnTo>
                      <a:pt x="76" y="2"/>
                    </a:lnTo>
                    <a:lnTo>
                      <a:pt x="112" y="0"/>
                    </a:lnTo>
                    <a:lnTo>
                      <a:pt x="156" y="0"/>
                    </a:lnTo>
                    <a:lnTo>
                      <a:pt x="201" y="0"/>
                    </a:lnTo>
                    <a:lnTo>
                      <a:pt x="251" y="2"/>
                    </a:lnTo>
                    <a:lnTo>
                      <a:pt x="297" y="2"/>
                    </a:lnTo>
                    <a:lnTo>
                      <a:pt x="344" y="4"/>
                    </a:lnTo>
                    <a:lnTo>
                      <a:pt x="390" y="6"/>
                    </a:lnTo>
                    <a:lnTo>
                      <a:pt x="432" y="10"/>
                    </a:lnTo>
                    <a:lnTo>
                      <a:pt x="468" y="10"/>
                    </a:lnTo>
                    <a:lnTo>
                      <a:pt x="498" y="13"/>
                    </a:lnTo>
                    <a:lnTo>
                      <a:pt x="519" y="13"/>
                    </a:lnTo>
                    <a:lnTo>
                      <a:pt x="53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Freeform 123"/>
              <p:cNvSpPr/>
              <p:nvPr/>
            </p:nvSpPr>
            <p:spPr>
              <a:xfrm flipH="1" rot="19783200">
                <a:off x="2787120" y="5617800"/>
                <a:ext cx="61560" cy="13968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04" h="915">
                    <a:moveTo>
                      <a:pt x="0" y="103"/>
                    </a:moveTo>
                    <a:lnTo>
                      <a:pt x="10" y="99"/>
                    </a:lnTo>
                    <a:lnTo>
                      <a:pt x="21" y="97"/>
                    </a:lnTo>
                    <a:lnTo>
                      <a:pt x="31" y="93"/>
                    </a:lnTo>
                    <a:lnTo>
                      <a:pt x="42" y="91"/>
                    </a:lnTo>
                    <a:lnTo>
                      <a:pt x="52" y="86"/>
                    </a:lnTo>
                    <a:lnTo>
                      <a:pt x="63" y="80"/>
                    </a:lnTo>
                    <a:lnTo>
                      <a:pt x="75" y="74"/>
                    </a:lnTo>
                    <a:lnTo>
                      <a:pt x="86" y="71"/>
                    </a:lnTo>
                    <a:lnTo>
                      <a:pt x="105" y="57"/>
                    </a:lnTo>
                    <a:lnTo>
                      <a:pt x="126" y="44"/>
                    </a:lnTo>
                    <a:lnTo>
                      <a:pt x="143" y="29"/>
                    </a:lnTo>
                    <a:lnTo>
                      <a:pt x="162" y="15"/>
                    </a:lnTo>
                    <a:lnTo>
                      <a:pt x="179" y="74"/>
                    </a:lnTo>
                    <a:lnTo>
                      <a:pt x="204" y="82"/>
                    </a:lnTo>
                    <a:lnTo>
                      <a:pt x="333" y="0"/>
                    </a:lnTo>
                    <a:lnTo>
                      <a:pt x="327" y="74"/>
                    </a:lnTo>
                    <a:lnTo>
                      <a:pt x="335" y="80"/>
                    </a:lnTo>
                    <a:lnTo>
                      <a:pt x="345" y="88"/>
                    </a:lnTo>
                    <a:lnTo>
                      <a:pt x="352" y="91"/>
                    </a:lnTo>
                    <a:lnTo>
                      <a:pt x="362" y="91"/>
                    </a:lnTo>
                    <a:lnTo>
                      <a:pt x="404" y="875"/>
                    </a:lnTo>
                    <a:lnTo>
                      <a:pt x="386" y="888"/>
                    </a:lnTo>
                    <a:lnTo>
                      <a:pt x="371" y="902"/>
                    </a:lnTo>
                    <a:lnTo>
                      <a:pt x="352" y="911"/>
                    </a:lnTo>
                    <a:lnTo>
                      <a:pt x="333" y="915"/>
                    </a:lnTo>
                    <a:lnTo>
                      <a:pt x="310" y="915"/>
                    </a:lnTo>
                    <a:lnTo>
                      <a:pt x="288" y="915"/>
                    </a:lnTo>
                    <a:lnTo>
                      <a:pt x="265" y="915"/>
                    </a:lnTo>
                    <a:lnTo>
                      <a:pt x="244" y="915"/>
                    </a:lnTo>
                    <a:lnTo>
                      <a:pt x="217" y="915"/>
                    </a:lnTo>
                    <a:lnTo>
                      <a:pt x="194" y="915"/>
                    </a:lnTo>
                    <a:lnTo>
                      <a:pt x="170" y="915"/>
                    </a:lnTo>
                    <a:lnTo>
                      <a:pt x="147" y="915"/>
                    </a:lnTo>
                    <a:lnTo>
                      <a:pt x="124" y="915"/>
                    </a:lnTo>
                    <a:lnTo>
                      <a:pt x="101" y="915"/>
                    </a:lnTo>
                    <a:lnTo>
                      <a:pt x="80" y="915"/>
                    </a:lnTo>
                    <a:lnTo>
                      <a:pt x="63" y="915"/>
                    </a:lnTo>
                    <a:lnTo>
                      <a:pt x="63" y="854"/>
                    </a:lnTo>
                    <a:lnTo>
                      <a:pt x="291" y="854"/>
                    </a:lnTo>
                    <a:lnTo>
                      <a:pt x="282" y="713"/>
                    </a:lnTo>
                    <a:lnTo>
                      <a:pt x="170" y="681"/>
                    </a:lnTo>
                    <a:lnTo>
                      <a:pt x="173" y="675"/>
                    </a:lnTo>
                    <a:lnTo>
                      <a:pt x="183" y="670"/>
                    </a:lnTo>
                    <a:lnTo>
                      <a:pt x="198" y="664"/>
                    </a:lnTo>
                    <a:lnTo>
                      <a:pt x="217" y="658"/>
                    </a:lnTo>
                    <a:lnTo>
                      <a:pt x="234" y="653"/>
                    </a:lnTo>
                    <a:lnTo>
                      <a:pt x="251" y="647"/>
                    </a:lnTo>
                    <a:lnTo>
                      <a:pt x="265" y="641"/>
                    </a:lnTo>
                    <a:lnTo>
                      <a:pt x="274" y="639"/>
                    </a:lnTo>
                    <a:lnTo>
                      <a:pt x="276" y="628"/>
                    </a:lnTo>
                    <a:lnTo>
                      <a:pt x="274" y="614"/>
                    </a:lnTo>
                    <a:lnTo>
                      <a:pt x="270" y="601"/>
                    </a:lnTo>
                    <a:lnTo>
                      <a:pt x="267" y="594"/>
                    </a:lnTo>
                    <a:lnTo>
                      <a:pt x="124" y="559"/>
                    </a:lnTo>
                    <a:lnTo>
                      <a:pt x="263" y="523"/>
                    </a:lnTo>
                    <a:lnTo>
                      <a:pt x="265" y="512"/>
                    </a:lnTo>
                    <a:lnTo>
                      <a:pt x="265" y="500"/>
                    </a:lnTo>
                    <a:lnTo>
                      <a:pt x="261" y="489"/>
                    </a:lnTo>
                    <a:lnTo>
                      <a:pt x="259" y="481"/>
                    </a:lnTo>
                    <a:lnTo>
                      <a:pt x="251" y="466"/>
                    </a:lnTo>
                    <a:lnTo>
                      <a:pt x="257" y="457"/>
                    </a:lnTo>
                    <a:lnTo>
                      <a:pt x="240" y="451"/>
                    </a:lnTo>
                    <a:lnTo>
                      <a:pt x="223" y="445"/>
                    </a:lnTo>
                    <a:lnTo>
                      <a:pt x="206" y="440"/>
                    </a:lnTo>
                    <a:lnTo>
                      <a:pt x="189" y="436"/>
                    </a:lnTo>
                    <a:lnTo>
                      <a:pt x="172" y="430"/>
                    </a:lnTo>
                    <a:lnTo>
                      <a:pt x="154" y="426"/>
                    </a:lnTo>
                    <a:lnTo>
                      <a:pt x="137" y="422"/>
                    </a:lnTo>
                    <a:lnTo>
                      <a:pt x="120" y="422"/>
                    </a:lnTo>
                    <a:lnTo>
                      <a:pt x="274" y="356"/>
                    </a:lnTo>
                    <a:lnTo>
                      <a:pt x="274" y="320"/>
                    </a:lnTo>
                    <a:lnTo>
                      <a:pt x="137" y="268"/>
                    </a:lnTo>
                    <a:lnTo>
                      <a:pt x="242" y="244"/>
                    </a:lnTo>
                    <a:lnTo>
                      <a:pt x="270" y="198"/>
                    </a:lnTo>
                    <a:lnTo>
                      <a:pt x="38" y="208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Freeform 124"/>
              <p:cNvSpPr/>
              <p:nvPr/>
            </p:nvSpPr>
            <p:spPr>
              <a:xfrm flipH="1" rot="19783200">
                <a:off x="2669400" y="5479560"/>
                <a:ext cx="50040" cy="46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31" h="307">
                    <a:moveTo>
                      <a:pt x="28" y="0"/>
                    </a:moveTo>
                    <a:lnTo>
                      <a:pt x="51" y="2"/>
                    </a:lnTo>
                    <a:lnTo>
                      <a:pt x="76" y="10"/>
                    </a:lnTo>
                    <a:lnTo>
                      <a:pt x="99" y="21"/>
                    </a:lnTo>
                    <a:lnTo>
                      <a:pt x="123" y="38"/>
                    </a:lnTo>
                    <a:lnTo>
                      <a:pt x="144" y="56"/>
                    </a:lnTo>
                    <a:lnTo>
                      <a:pt x="167" y="77"/>
                    </a:lnTo>
                    <a:lnTo>
                      <a:pt x="188" y="99"/>
                    </a:lnTo>
                    <a:lnTo>
                      <a:pt x="209" y="124"/>
                    </a:lnTo>
                    <a:lnTo>
                      <a:pt x="226" y="147"/>
                    </a:lnTo>
                    <a:lnTo>
                      <a:pt x="245" y="173"/>
                    </a:lnTo>
                    <a:lnTo>
                      <a:pt x="260" y="196"/>
                    </a:lnTo>
                    <a:lnTo>
                      <a:pt x="277" y="223"/>
                    </a:lnTo>
                    <a:lnTo>
                      <a:pt x="291" y="244"/>
                    </a:lnTo>
                    <a:lnTo>
                      <a:pt x="306" y="267"/>
                    </a:lnTo>
                    <a:lnTo>
                      <a:pt x="317" y="288"/>
                    </a:lnTo>
                    <a:lnTo>
                      <a:pt x="331" y="307"/>
                    </a:lnTo>
                    <a:lnTo>
                      <a:pt x="315" y="295"/>
                    </a:lnTo>
                    <a:lnTo>
                      <a:pt x="296" y="282"/>
                    </a:lnTo>
                    <a:lnTo>
                      <a:pt x="270" y="265"/>
                    </a:lnTo>
                    <a:lnTo>
                      <a:pt x="243" y="248"/>
                    </a:lnTo>
                    <a:lnTo>
                      <a:pt x="209" y="225"/>
                    </a:lnTo>
                    <a:lnTo>
                      <a:pt x="177" y="204"/>
                    </a:lnTo>
                    <a:lnTo>
                      <a:pt x="142" y="179"/>
                    </a:lnTo>
                    <a:lnTo>
                      <a:pt x="110" y="156"/>
                    </a:lnTo>
                    <a:lnTo>
                      <a:pt x="78" y="130"/>
                    </a:lnTo>
                    <a:lnTo>
                      <a:pt x="51" y="107"/>
                    </a:lnTo>
                    <a:lnTo>
                      <a:pt x="28" y="84"/>
                    </a:lnTo>
                    <a:lnTo>
                      <a:pt x="11" y="63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7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Freeform 125"/>
              <p:cNvSpPr/>
              <p:nvPr/>
            </p:nvSpPr>
            <p:spPr>
              <a:xfrm flipH="1" rot="19783200">
                <a:off x="2677680" y="5500800"/>
                <a:ext cx="48600" cy="4464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44640"/>
                  <a:gd name="textAreaBottom" fmla="*/ 44640 h 44640"/>
                </a:gdLst>
                <a:ahLst/>
                <a:rect l="textAreaLeft" t="textAreaTop" r="textAreaRight" b="textAreaBottom"/>
                <a:pathLst>
                  <a:path w="320" h="291">
                    <a:moveTo>
                      <a:pt x="2" y="0"/>
                    </a:moveTo>
                    <a:lnTo>
                      <a:pt x="19" y="15"/>
                    </a:lnTo>
                    <a:lnTo>
                      <a:pt x="37" y="32"/>
                    </a:lnTo>
                    <a:lnTo>
                      <a:pt x="56" y="47"/>
                    </a:lnTo>
                    <a:lnTo>
                      <a:pt x="75" y="64"/>
                    </a:lnTo>
                    <a:lnTo>
                      <a:pt x="92" y="80"/>
                    </a:lnTo>
                    <a:lnTo>
                      <a:pt x="113" y="95"/>
                    </a:lnTo>
                    <a:lnTo>
                      <a:pt x="132" y="110"/>
                    </a:lnTo>
                    <a:lnTo>
                      <a:pt x="152" y="127"/>
                    </a:lnTo>
                    <a:lnTo>
                      <a:pt x="171" y="141"/>
                    </a:lnTo>
                    <a:lnTo>
                      <a:pt x="192" y="156"/>
                    </a:lnTo>
                    <a:lnTo>
                      <a:pt x="211" y="169"/>
                    </a:lnTo>
                    <a:lnTo>
                      <a:pt x="232" y="184"/>
                    </a:lnTo>
                    <a:lnTo>
                      <a:pt x="253" y="198"/>
                    </a:lnTo>
                    <a:lnTo>
                      <a:pt x="274" y="211"/>
                    </a:lnTo>
                    <a:lnTo>
                      <a:pt x="295" y="224"/>
                    </a:lnTo>
                    <a:lnTo>
                      <a:pt x="318" y="237"/>
                    </a:lnTo>
                    <a:lnTo>
                      <a:pt x="318" y="247"/>
                    </a:lnTo>
                    <a:lnTo>
                      <a:pt x="320" y="258"/>
                    </a:lnTo>
                    <a:lnTo>
                      <a:pt x="318" y="264"/>
                    </a:lnTo>
                    <a:lnTo>
                      <a:pt x="318" y="272"/>
                    </a:lnTo>
                    <a:lnTo>
                      <a:pt x="312" y="279"/>
                    </a:lnTo>
                    <a:lnTo>
                      <a:pt x="306" y="281"/>
                    </a:lnTo>
                    <a:lnTo>
                      <a:pt x="297" y="281"/>
                    </a:lnTo>
                    <a:lnTo>
                      <a:pt x="287" y="281"/>
                    </a:lnTo>
                    <a:lnTo>
                      <a:pt x="278" y="283"/>
                    </a:lnTo>
                    <a:lnTo>
                      <a:pt x="272" y="291"/>
                    </a:lnTo>
                    <a:lnTo>
                      <a:pt x="156" y="262"/>
                    </a:lnTo>
                    <a:lnTo>
                      <a:pt x="149" y="251"/>
                    </a:lnTo>
                    <a:lnTo>
                      <a:pt x="141" y="241"/>
                    </a:lnTo>
                    <a:lnTo>
                      <a:pt x="130" y="226"/>
                    </a:lnTo>
                    <a:lnTo>
                      <a:pt x="120" y="211"/>
                    </a:lnTo>
                    <a:lnTo>
                      <a:pt x="105" y="192"/>
                    </a:lnTo>
                    <a:lnTo>
                      <a:pt x="94" y="173"/>
                    </a:lnTo>
                    <a:lnTo>
                      <a:pt x="78" y="152"/>
                    </a:lnTo>
                    <a:lnTo>
                      <a:pt x="67" y="131"/>
                    </a:lnTo>
                    <a:lnTo>
                      <a:pt x="52" y="108"/>
                    </a:lnTo>
                    <a:lnTo>
                      <a:pt x="40" y="87"/>
                    </a:lnTo>
                    <a:lnTo>
                      <a:pt x="27" y="66"/>
                    </a:lnTo>
                    <a:lnTo>
                      <a:pt x="19" y="49"/>
                    </a:lnTo>
                    <a:lnTo>
                      <a:pt x="10" y="32"/>
                    </a:lnTo>
                    <a:lnTo>
                      <a:pt x="4" y="19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Freeform 126"/>
              <p:cNvSpPr/>
              <p:nvPr/>
            </p:nvSpPr>
            <p:spPr>
              <a:xfrm flipH="1" rot="19783200">
                <a:off x="2624760" y="5668920"/>
                <a:ext cx="186120" cy="142560"/>
              </a:xfrm>
              <a:custGeom>
                <a:avLst/>
                <a:gdLst>
                  <a:gd name="textAreaLeft" fmla="*/ -360 w 186120"/>
                  <a:gd name="textAreaRight" fmla="*/ 186120 w 186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219" h="933">
                    <a:moveTo>
                      <a:pt x="0" y="140"/>
                    </a:moveTo>
                    <a:lnTo>
                      <a:pt x="15" y="138"/>
                    </a:lnTo>
                    <a:lnTo>
                      <a:pt x="32" y="135"/>
                    </a:lnTo>
                    <a:lnTo>
                      <a:pt x="49" y="129"/>
                    </a:lnTo>
                    <a:lnTo>
                      <a:pt x="67" y="125"/>
                    </a:lnTo>
                    <a:lnTo>
                      <a:pt x="84" y="117"/>
                    </a:lnTo>
                    <a:lnTo>
                      <a:pt x="101" y="110"/>
                    </a:lnTo>
                    <a:lnTo>
                      <a:pt x="118" y="102"/>
                    </a:lnTo>
                    <a:lnTo>
                      <a:pt x="135" y="95"/>
                    </a:lnTo>
                    <a:lnTo>
                      <a:pt x="150" y="83"/>
                    </a:lnTo>
                    <a:lnTo>
                      <a:pt x="165" y="74"/>
                    </a:lnTo>
                    <a:lnTo>
                      <a:pt x="181" y="62"/>
                    </a:lnTo>
                    <a:lnTo>
                      <a:pt x="196" y="53"/>
                    </a:lnTo>
                    <a:lnTo>
                      <a:pt x="209" y="41"/>
                    </a:lnTo>
                    <a:lnTo>
                      <a:pt x="224" y="32"/>
                    </a:lnTo>
                    <a:lnTo>
                      <a:pt x="238" y="22"/>
                    </a:lnTo>
                    <a:lnTo>
                      <a:pt x="253" y="15"/>
                    </a:lnTo>
                    <a:lnTo>
                      <a:pt x="285" y="131"/>
                    </a:lnTo>
                    <a:lnTo>
                      <a:pt x="293" y="129"/>
                    </a:lnTo>
                    <a:lnTo>
                      <a:pt x="302" y="127"/>
                    </a:lnTo>
                    <a:lnTo>
                      <a:pt x="314" y="123"/>
                    </a:lnTo>
                    <a:lnTo>
                      <a:pt x="325" y="119"/>
                    </a:lnTo>
                    <a:lnTo>
                      <a:pt x="337" y="112"/>
                    </a:lnTo>
                    <a:lnTo>
                      <a:pt x="348" y="104"/>
                    </a:lnTo>
                    <a:lnTo>
                      <a:pt x="359" y="97"/>
                    </a:lnTo>
                    <a:lnTo>
                      <a:pt x="373" y="89"/>
                    </a:lnTo>
                    <a:lnTo>
                      <a:pt x="382" y="79"/>
                    </a:lnTo>
                    <a:lnTo>
                      <a:pt x="394" y="70"/>
                    </a:lnTo>
                    <a:lnTo>
                      <a:pt x="403" y="60"/>
                    </a:lnTo>
                    <a:lnTo>
                      <a:pt x="411" y="53"/>
                    </a:lnTo>
                    <a:lnTo>
                      <a:pt x="430" y="36"/>
                    </a:lnTo>
                    <a:lnTo>
                      <a:pt x="441" y="24"/>
                    </a:lnTo>
                    <a:lnTo>
                      <a:pt x="483" y="123"/>
                    </a:lnTo>
                    <a:lnTo>
                      <a:pt x="500" y="117"/>
                    </a:lnTo>
                    <a:lnTo>
                      <a:pt x="517" y="110"/>
                    </a:lnTo>
                    <a:lnTo>
                      <a:pt x="536" y="97"/>
                    </a:lnTo>
                    <a:lnTo>
                      <a:pt x="555" y="83"/>
                    </a:lnTo>
                    <a:lnTo>
                      <a:pt x="570" y="66"/>
                    </a:lnTo>
                    <a:lnTo>
                      <a:pt x="587" y="51"/>
                    </a:lnTo>
                    <a:lnTo>
                      <a:pt x="603" y="36"/>
                    </a:lnTo>
                    <a:lnTo>
                      <a:pt x="616" y="24"/>
                    </a:lnTo>
                    <a:lnTo>
                      <a:pt x="620" y="106"/>
                    </a:lnTo>
                    <a:lnTo>
                      <a:pt x="631" y="106"/>
                    </a:lnTo>
                    <a:lnTo>
                      <a:pt x="643" y="106"/>
                    </a:lnTo>
                    <a:lnTo>
                      <a:pt x="654" y="102"/>
                    </a:lnTo>
                    <a:lnTo>
                      <a:pt x="667" y="100"/>
                    </a:lnTo>
                    <a:lnTo>
                      <a:pt x="679" y="95"/>
                    </a:lnTo>
                    <a:lnTo>
                      <a:pt x="694" y="89"/>
                    </a:lnTo>
                    <a:lnTo>
                      <a:pt x="705" y="81"/>
                    </a:lnTo>
                    <a:lnTo>
                      <a:pt x="721" y="74"/>
                    </a:lnTo>
                    <a:lnTo>
                      <a:pt x="732" y="62"/>
                    </a:lnTo>
                    <a:lnTo>
                      <a:pt x="743" y="53"/>
                    </a:lnTo>
                    <a:lnTo>
                      <a:pt x="755" y="43"/>
                    </a:lnTo>
                    <a:lnTo>
                      <a:pt x="766" y="34"/>
                    </a:lnTo>
                    <a:lnTo>
                      <a:pt x="785" y="15"/>
                    </a:lnTo>
                    <a:lnTo>
                      <a:pt x="802" y="0"/>
                    </a:lnTo>
                    <a:lnTo>
                      <a:pt x="802" y="85"/>
                    </a:lnTo>
                    <a:lnTo>
                      <a:pt x="814" y="87"/>
                    </a:lnTo>
                    <a:lnTo>
                      <a:pt x="827" y="93"/>
                    </a:lnTo>
                    <a:lnTo>
                      <a:pt x="840" y="97"/>
                    </a:lnTo>
                    <a:lnTo>
                      <a:pt x="857" y="102"/>
                    </a:lnTo>
                    <a:lnTo>
                      <a:pt x="871" y="102"/>
                    </a:lnTo>
                    <a:lnTo>
                      <a:pt x="886" y="104"/>
                    </a:lnTo>
                    <a:lnTo>
                      <a:pt x="899" y="104"/>
                    </a:lnTo>
                    <a:lnTo>
                      <a:pt x="915" y="102"/>
                    </a:lnTo>
                    <a:lnTo>
                      <a:pt x="991" y="32"/>
                    </a:lnTo>
                    <a:lnTo>
                      <a:pt x="1061" y="85"/>
                    </a:lnTo>
                    <a:lnTo>
                      <a:pt x="1198" y="85"/>
                    </a:lnTo>
                    <a:lnTo>
                      <a:pt x="1219" y="173"/>
                    </a:lnTo>
                    <a:lnTo>
                      <a:pt x="253" y="239"/>
                    </a:lnTo>
                    <a:lnTo>
                      <a:pt x="253" y="268"/>
                    </a:lnTo>
                    <a:lnTo>
                      <a:pt x="255" y="296"/>
                    </a:lnTo>
                    <a:lnTo>
                      <a:pt x="257" y="325"/>
                    </a:lnTo>
                    <a:lnTo>
                      <a:pt x="259" y="355"/>
                    </a:lnTo>
                    <a:lnTo>
                      <a:pt x="259" y="384"/>
                    </a:lnTo>
                    <a:lnTo>
                      <a:pt x="259" y="412"/>
                    </a:lnTo>
                    <a:lnTo>
                      <a:pt x="259" y="443"/>
                    </a:lnTo>
                    <a:lnTo>
                      <a:pt x="260" y="473"/>
                    </a:lnTo>
                    <a:lnTo>
                      <a:pt x="259" y="502"/>
                    </a:lnTo>
                    <a:lnTo>
                      <a:pt x="259" y="532"/>
                    </a:lnTo>
                    <a:lnTo>
                      <a:pt x="259" y="561"/>
                    </a:lnTo>
                    <a:lnTo>
                      <a:pt x="259" y="591"/>
                    </a:lnTo>
                    <a:lnTo>
                      <a:pt x="257" y="620"/>
                    </a:lnTo>
                    <a:lnTo>
                      <a:pt x="257" y="650"/>
                    </a:lnTo>
                    <a:lnTo>
                      <a:pt x="257" y="679"/>
                    </a:lnTo>
                    <a:lnTo>
                      <a:pt x="257" y="709"/>
                    </a:lnTo>
                    <a:lnTo>
                      <a:pt x="49" y="933"/>
                    </a:lnTo>
                    <a:lnTo>
                      <a:pt x="44" y="916"/>
                    </a:lnTo>
                    <a:lnTo>
                      <a:pt x="42" y="899"/>
                    </a:lnTo>
                    <a:lnTo>
                      <a:pt x="42" y="882"/>
                    </a:lnTo>
                    <a:lnTo>
                      <a:pt x="46" y="865"/>
                    </a:lnTo>
                    <a:lnTo>
                      <a:pt x="48" y="848"/>
                    </a:lnTo>
                    <a:lnTo>
                      <a:pt x="53" y="831"/>
                    </a:lnTo>
                    <a:lnTo>
                      <a:pt x="59" y="814"/>
                    </a:lnTo>
                    <a:lnTo>
                      <a:pt x="68" y="798"/>
                    </a:lnTo>
                    <a:lnTo>
                      <a:pt x="74" y="781"/>
                    </a:lnTo>
                    <a:lnTo>
                      <a:pt x="84" y="764"/>
                    </a:lnTo>
                    <a:lnTo>
                      <a:pt x="95" y="749"/>
                    </a:lnTo>
                    <a:lnTo>
                      <a:pt x="106" y="737"/>
                    </a:lnTo>
                    <a:lnTo>
                      <a:pt x="118" y="722"/>
                    </a:lnTo>
                    <a:lnTo>
                      <a:pt x="129" y="711"/>
                    </a:lnTo>
                    <a:lnTo>
                      <a:pt x="141" y="699"/>
                    </a:lnTo>
                    <a:lnTo>
                      <a:pt x="154" y="692"/>
                    </a:lnTo>
                    <a:lnTo>
                      <a:pt x="158" y="642"/>
                    </a:lnTo>
                    <a:lnTo>
                      <a:pt x="150" y="631"/>
                    </a:lnTo>
                    <a:lnTo>
                      <a:pt x="143" y="620"/>
                    </a:lnTo>
                    <a:lnTo>
                      <a:pt x="135" y="608"/>
                    </a:lnTo>
                    <a:lnTo>
                      <a:pt x="129" y="599"/>
                    </a:lnTo>
                    <a:lnTo>
                      <a:pt x="122" y="587"/>
                    </a:lnTo>
                    <a:lnTo>
                      <a:pt x="116" y="576"/>
                    </a:lnTo>
                    <a:lnTo>
                      <a:pt x="110" y="564"/>
                    </a:lnTo>
                    <a:lnTo>
                      <a:pt x="106" y="553"/>
                    </a:lnTo>
                    <a:lnTo>
                      <a:pt x="101" y="540"/>
                    </a:lnTo>
                    <a:lnTo>
                      <a:pt x="95" y="526"/>
                    </a:lnTo>
                    <a:lnTo>
                      <a:pt x="91" y="513"/>
                    </a:lnTo>
                    <a:lnTo>
                      <a:pt x="91" y="502"/>
                    </a:lnTo>
                    <a:lnTo>
                      <a:pt x="87" y="488"/>
                    </a:lnTo>
                    <a:lnTo>
                      <a:pt x="87" y="477"/>
                    </a:lnTo>
                    <a:lnTo>
                      <a:pt x="87" y="464"/>
                    </a:lnTo>
                    <a:lnTo>
                      <a:pt x="91" y="452"/>
                    </a:lnTo>
                    <a:lnTo>
                      <a:pt x="25" y="422"/>
                    </a:lnTo>
                    <a:lnTo>
                      <a:pt x="19" y="403"/>
                    </a:lnTo>
                    <a:lnTo>
                      <a:pt x="15" y="386"/>
                    </a:lnTo>
                    <a:lnTo>
                      <a:pt x="11" y="369"/>
                    </a:lnTo>
                    <a:lnTo>
                      <a:pt x="11" y="351"/>
                    </a:lnTo>
                    <a:lnTo>
                      <a:pt x="8" y="332"/>
                    </a:lnTo>
                    <a:lnTo>
                      <a:pt x="6" y="315"/>
                    </a:lnTo>
                    <a:lnTo>
                      <a:pt x="6" y="298"/>
                    </a:lnTo>
                    <a:lnTo>
                      <a:pt x="6" y="281"/>
                    </a:lnTo>
                    <a:lnTo>
                      <a:pt x="4" y="262"/>
                    </a:lnTo>
                    <a:lnTo>
                      <a:pt x="2" y="245"/>
                    </a:lnTo>
                    <a:lnTo>
                      <a:pt x="2" y="228"/>
                    </a:lnTo>
                    <a:lnTo>
                      <a:pt x="2" y="211"/>
                    </a:lnTo>
                    <a:lnTo>
                      <a:pt x="0" y="192"/>
                    </a:lnTo>
                    <a:lnTo>
                      <a:pt x="0" y="175"/>
                    </a:lnTo>
                    <a:lnTo>
                      <a:pt x="0" y="157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Freeform 127"/>
              <p:cNvSpPr/>
              <p:nvPr/>
            </p:nvSpPr>
            <p:spPr>
              <a:xfrm flipH="1" rot="19783200">
                <a:off x="2634120" y="5721120"/>
                <a:ext cx="106920" cy="16200"/>
              </a:xfrm>
              <a:custGeom>
                <a:avLst/>
                <a:gdLst>
                  <a:gd name="textAreaLeft" fmla="*/ -360 w 106920"/>
                  <a:gd name="textAreaRight" fmla="*/ 106920 w 106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01" h="105">
                    <a:moveTo>
                      <a:pt x="0" y="35"/>
                    </a:moveTo>
                    <a:lnTo>
                      <a:pt x="39" y="29"/>
                    </a:lnTo>
                    <a:lnTo>
                      <a:pt x="83" y="23"/>
                    </a:lnTo>
                    <a:lnTo>
                      <a:pt x="125" y="19"/>
                    </a:lnTo>
                    <a:lnTo>
                      <a:pt x="169" y="16"/>
                    </a:lnTo>
                    <a:lnTo>
                      <a:pt x="211" y="10"/>
                    </a:lnTo>
                    <a:lnTo>
                      <a:pt x="254" y="8"/>
                    </a:lnTo>
                    <a:lnTo>
                      <a:pt x="296" y="4"/>
                    </a:lnTo>
                    <a:lnTo>
                      <a:pt x="340" y="4"/>
                    </a:lnTo>
                    <a:lnTo>
                      <a:pt x="382" y="0"/>
                    </a:lnTo>
                    <a:lnTo>
                      <a:pt x="425" y="0"/>
                    </a:lnTo>
                    <a:lnTo>
                      <a:pt x="467" y="0"/>
                    </a:lnTo>
                    <a:lnTo>
                      <a:pt x="511" y="2"/>
                    </a:lnTo>
                    <a:lnTo>
                      <a:pt x="553" y="2"/>
                    </a:lnTo>
                    <a:lnTo>
                      <a:pt x="597" y="8"/>
                    </a:lnTo>
                    <a:lnTo>
                      <a:pt x="638" y="12"/>
                    </a:lnTo>
                    <a:lnTo>
                      <a:pt x="684" y="19"/>
                    </a:lnTo>
                    <a:lnTo>
                      <a:pt x="690" y="25"/>
                    </a:lnTo>
                    <a:lnTo>
                      <a:pt x="697" y="37"/>
                    </a:lnTo>
                    <a:lnTo>
                      <a:pt x="701" y="48"/>
                    </a:lnTo>
                    <a:lnTo>
                      <a:pt x="699" y="59"/>
                    </a:lnTo>
                    <a:lnTo>
                      <a:pt x="667" y="59"/>
                    </a:lnTo>
                    <a:lnTo>
                      <a:pt x="631" y="63"/>
                    </a:lnTo>
                    <a:lnTo>
                      <a:pt x="591" y="69"/>
                    </a:lnTo>
                    <a:lnTo>
                      <a:pt x="547" y="75"/>
                    </a:lnTo>
                    <a:lnTo>
                      <a:pt x="498" y="80"/>
                    </a:lnTo>
                    <a:lnTo>
                      <a:pt x="448" y="86"/>
                    </a:lnTo>
                    <a:lnTo>
                      <a:pt x="395" y="92"/>
                    </a:lnTo>
                    <a:lnTo>
                      <a:pt x="344" y="99"/>
                    </a:lnTo>
                    <a:lnTo>
                      <a:pt x="290" y="101"/>
                    </a:lnTo>
                    <a:lnTo>
                      <a:pt x="239" y="105"/>
                    </a:lnTo>
                    <a:lnTo>
                      <a:pt x="190" y="105"/>
                    </a:lnTo>
                    <a:lnTo>
                      <a:pt x="146" y="105"/>
                    </a:lnTo>
                    <a:lnTo>
                      <a:pt x="102" y="99"/>
                    </a:lnTo>
                    <a:lnTo>
                      <a:pt x="64" y="94"/>
                    </a:lnTo>
                    <a:lnTo>
                      <a:pt x="34" y="84"/>
                    </a:lnTo>
                    <a:lnTo>
                      <a:pt x="9" y="7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Freeform 128"/>
              <p:cNvSpPr/>
              <p:nvPr/>
            </p:nvSpPr>
            <p:spPr>
              <a:xfrm flipH="1" rot="19783200">
                <a:off x="2534760" y="5547240"/>
                <a:ext cx="28440" cy="626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89" h="411">
                    <a:moveTo>
                      <a:pt x="0" y="232"/>
                    </a:moveTo>
                    <a:lnTo>
                      <a:pt x="0" y="226"/>
                    </a:lnTo>
                    <a:lnTo>
                      <a:pt x="6" y="217"/>
                    </a:lnTo>
                    <a:lnTo>
                      <a:pt x="10" y="204"/>
                    </a:lnTo>
                    <a:lnTo>
                      <a:pt x="18" y="190"/>
                    </a:lnTo>
                    <a:lnTo>
                      <a:pt x="25" y="171"/>
                    </a:lnTo>
                    <a:lnTo>
                      <a:pt x="35" y="154"/>
                    </a:lnTo>
                    <a:lnTo>
                      <a:pt x="42" y="135"/>
                    </a:lnTo>
                    <a:lnTo>
                      <a:pt x="54" y="116"/>
                    </a:lnTo>
                    <a:lnTo>
                      <a:pt x="61" y="95"/>
                    </a:lnTo>
                    <a:lnTo>
                      <a:pt x="71" y="76"/>
                    </a:lnTo>
                    <a:lnTo>
                      <a:pt x="78" y="57"/>
                    </a:lnTo>
                    <a:lnTo>
                      <a:pt x="88" y="42"/>
                    </a:lnTo>
                    <a:lnTo>
                      <a:pt x="94" y="25"/>
                    </a:lnTo>
                    <a:lnTo>
                      <a:pt x="99" y="15"/>
                    </a:lnTo>
                    <a:lnTo>
                      <a:pt x="103" y="6"/>
                    </a:lnTo>
                    <a:lnTo>
                      <a:pt x="109" y="4"/>
                    </a:lnTo>
                    <a:lnTo>
                      <a:pt x="126" y="0"/>
                    </a:lnTo>
                    <a:lnTo>
                      <a:pt x="135" y="23"/>
                    </a:lnTo>
                    <a:lnTo>
                      <a:pt x="145" y="46"/>
                    </a:lnTo>
                    <a:lnTo>
                      <a:pt x="153" y="70"/>
                    </a:lnTo>
                    <a:lnTo>
                      <a:pt x="160" y="97"/>
                    </a:lnTo>
                    <a:lnTo>
                      <a:pt x="164" y="122"/>
                    </a:lnTo>
                    <a:lnTo>
                      <a:pt x="168" y="148"/>
                    </a:lnTo>
                    <a:lnTo>
                      <a:pt x="172" y="173"/>
                    </a:lnTo>
                    <a:lnTo>
                      <a:pt x="175" y="202"/>
                    </a:lnTo>
                    <a:lnTo>
                      <a:pt x="175" y="226"/>
                    </a:lnTo>
                    <a:lnTo>
                      <a:pt x="177" y="253"/>
                    </a:lnTo>
                    <a:lnTo>
                      <a:pt x="177" y="280"/>
                    </a:lnTo>
                    <a:lnTo>
                      <a:pt x="179" y="306"/>
                    </a:lnTo>
                    <a:lnTo>
                      <a:pt x="179" y="331"/>
                    </a:lnTo>
                    <a:lnTo>
                      <a:pt x="181" y="358"/>
                    </a:lnTo>
                    <a:lnTo>
                      <a:pt x="183" y="384"/>
                    </a:lnTo>
                    <a:lnTo>
                      <a:pt x="189" y="411"/>
                    </a:lnTo>
                    <a:lnTo>
                      <a:pt x="25" y="38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Freeform 129"/>
              <p:cNvSpPr/>
              <p:nvPr/>
            </p:nvSpPr>
            <p:spPr>
              <a:xfrm flipH="1" rot="19783200">
                <a:off x="2424240" y="5618880"/>
                <a:ext cx="33480" cy="6120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21" h="403">
                    <a:moveTo>
                      <a:pt x="0" y="308"/>
                    </a:moveTo>
                    <a:lnTo>
                      <a:pt x="6" y="286"/>
                    </a:lnTo>
                    <a:lnTo>
                      <a:pt x="16" y="265"/>
                    </a:lnTo>
                    <a:lnTo>
                      <a:pt x="23" y="244"/>
                    </a:lnTo>
                    <a:lnTo>
                      <a:pt x="35" y="225"/>
                    </a:lnTo>
                    <a:lnTo>
                      <a:pt x="42" y="204"/>
                    </a:lnTo>
                    <a:lnTo>
                      <a:pt x="54" y="185"/>
                    </a:lnTo>
                    <a:lnTo>
                      <a:pt x="65" y="166"/>
                    </a:lnTo>
                    <a:lnTo>
                      <a:pt x="76" y="149"/>
                    </a:lnTo>
                    <a:lnTo>
                      <a:pt x="88" y="128"/>
                    </a:lnTo>
                    <a:lnTo>
                      <a:pt x="99" y="109"/>
                    </a:lnTo>
                    <a:lnTo>
                      <a:pt x="111" y="90"/>
                    </a:lnTo>
                    <a:lnTo>
                      <a:pt x="122" y="73"/>
                    </a:lnTo>
                    <a:lnTo>
                      <a:pt x="133" y="54"/>
                    </a:lnTo>
                    <a:lnTo>
                      <a:pt x="147" y="35"/>
                    </a:lnTo>
                    <a:lnTo>
                      <a:pt x="160" y="17"/>
                    </a:lnTo>
                    <a:lnTo>
                      <a:pt x="175" y="0"/>
                    </a:lnTo>
                    <a:lnTo>
                      <a:pt x="221" y="10"/>
                    </a:lnTo>
                    <a:lnTo>
                      <a:pt x="217" y="42"/>
                    </a:lnTo>
                    <a:lnTo>
                      <a:pt x="217" y="76"/>
                    </a:lnTo>
                    <a:lnTo>
                      <a:pt x="215" y="107"/>
                    </a:lnTo>
                    <a:lnTo>
                      <a:pt x="215" y="139"/>
                    </a:lnTo>
                    <a:lnTo>
                      <a:pt x="213" y="168"/>
                    </a:lnTo>
                    <a:lnTo>
                      <a:pt x="211" y="198"/>
                    </a:lnTo>
                    <a:lnTo>
                      <a:pt x="206" y="225"/>
                    </a:lnTo>
                    <a:lnTo>
                      <a:pt x="202" y="251"/>
                    </a:lnTo>
                    <a:lnTo>
                      <a:pt x="192" y="274"/>
                    </a:lnTo>
                    <a:lnTo>
                      <a:pt x="181" y="297"/>
                    </a:lnTo>
                    <a:lnTo>
                      <a:pt x="166" y="318"/>
                    </a:lnTo>
                    <a:lnTo>
                      <a:pt x="149" y="339"/>
                    </a:lnTo>
                    <a:lnTo>
                      <a:pt x="126" y="356"/>
                    </a:lnTo>
                    <a:lnTo>
                      <a:pt x="99" y="373"/>
                    </a:lnTo>
                    <a:lnTo>
                      <a:pt x="65" y="388"/>
                    </a:lnTo>
                    <a:lnTo>
                      <a:pt x="29" y="40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Freeform 130"/>
              <p:cNvSpPr/>
              <p:nvPr/>
            </p:nvSpPr>
            <p:spPr>
              <a:xfrm flipH="1" rot="19783200">
                <a:off x="2287800" y="5843520"/>
                <a:ext cx="271080" cy="119880"/>
              </a:xfrm>
              <a:custGeom>
                <a:avLst/>
                <a:gdLst>
                  <a:gd name="textAreaLeft" fmla="*/ -360 w 271080"/>
                  <a:gd name="textAreaRight" fmla="*/ 271080 w 27108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776" h="784">
                    <a:moveTo>
                      <a:pt x="0" y="166"/>
                    </a:moveTo>
                    <a:lnTo>
                      <a:pt x="112" y="99"/>
                    </a:lnTo>
                    <a:lnTo>
                      <a:pt x="116" y="99"/>
                    </a:lnTo>
                    <a:lnTo>
                      <a:pt x="122" y="105"/>
                    </a:lnTo>
                    <a:lnTo>
                      <a:pt x="127" y="116"/>
                    </a:lnTo>
                    <a:lnTo>
                      <a:pt x="137" y="130"/>
                    </a:lnTo>
                    <a:lnTo>
                      <a:pt x="144" y="141"/>
                    </a:lnTo>
                    <a:lnTo>
                      <a:pt x="158" y="152"/>
                    </a:lnTo>
                    <a:lnTo>
                      <a:pt x="163" y="154"/>
                    </a:lnTo>
                    <a:lnTo>
                      <a:pt x="171" y="158"/>
                    </a:lnTo>
                    <a:lnTo>
                      <a:pt x="181" y="158"/>
                    </a:lnTo>
                    <a:lnTo>
                      <a:pt x="192" y="158"/>
                    </a:lnTo>
                    <a:lnTo>
                      <a:pt x="186" y="92"/>
                    </a:lnTo>
                    <a:lnTo>
                      <a:pt x="200" y="111"/>
                    </a:lnTo>
                    <a:lnTo>
                      <a:pt x="215" y="132"/>
                    </a:lnTo>
                    <a:lnTo>
                      <a:pt x="230" y="149"/>
                    </a:lnTo>
                    <a:lnTo>
                      <a:pt x="247" y="166"/>
                    </a:lnTo>
                    <a:lnTo>
                      <a:pt x="260" y="181"/>
                    </a:lnTo>
                    <a:lnTo>
                      <a:pt x="277" y="198"/>
                    </a:lnTo>
                    <a:lnTo>
                      <a:pt x="295" y="213"/>
                    </a:lnTo>
                    <a:lnTo>
                      <a:pt x="312" y="229"/>
                    </a:lnTo>
                    <a:lnTo>
                      <a:pt x="289" y="99"/>
                    </a:lnTo>
                    <a:lnTo>
                      <a:pt x="350" y="166"/>
                    </a:lnTo>
                    <a:lnTo>
                      <a:pt x="363" y="152"/>
                    </a:lnTo>
                    <a:lnTo>
                      <a:pt x="329" y="12"/>
                    </a:lnTo>
                    <a:lnTo>
                      <a:pt x="418" y="4"/>
                    </a:lnTo>
                    <a:lnTo>
                      <a:pt x="418" y="17"/>
                    </a:lnTo>
                    <a:lnTo>
                      <a:pt x="420" y="35"/>
                    </a:lnTo>
                    <a:lnTo>
                      <a:pt x="422" y="48"/>
                    </a:lnTo>
                    <a:lnTo>
                      <a:pt x="426" y="65"/>
                    </a:lnTo>
                    <a:lnTo>
                      <a:pt x="430" y="80"/>
                    </a:lnTo>
                    <a:lnTo>
                      <a:pt x="433" y="95"/>
                    </a:lnTo>
                    <a:lnTo>
                      <a:pt x="437" y="111"/>
                    </a:lnTo>
                    <a:lnTo>
                      <a:pt x="443" y="128"/>
                    </a:lnTo>
                    <a:lnTo>
                      <a:pt x="521" y="128"/>
                    </a:lnTo>
                    <a:lnTo>
                      <a:pt x="509" y="139"/>
                    </a:lnTo>
                    <a:lnTo>
                      <a:pt x="502" y="154"/>
                    </a:lnTo>
                    <a:lnTo>
                      <a:pt x="494" y="168"/>
                    </a:lnTo>
                    <a:lnTo>
                      <a:pt x="490" y="185"/>
                    </a:lnTo>
                    <a:lnTo>
                      <a:pt x="487" y="198"/>
                    </a:lnTo>
                    <a:lnTo>
                      <a:pt x="489" y="213"/>
                    </a:lnTo>
                    <a:lnTo>
                      <a:pt x="490" y="229"/>
                    </a:lnTo>
                    <a:lnTo>
                      <a:pt x="500" y="244"/>
                    </a:lnTo>
                    <a:lnTo>
                      <a:pt x="504" y="244"/>
                    </a:lnTo>
                    <a:lnTo>
                      <a:pt x="515" y="246"/>
                    </a:lnTo>
                    <a:lnTo>
                      <a:pt x="528" y="248"/>
                    </a:lnTo>
                    <a:lnTo>
                      <a:pt x="546" y="251"/>
                    </a:lnTo>
                    <a:lnTo>
                      <a:pt x="559" y="253"/>
                    </a:lnTo>
                    <a:lnTo>
                      <a:pt x="574" y="257"/>
                    </a:lnTo>
                    <a:lnTo>
                      <a:pt x="584" y="259"/>
                    </a:lnTo>
                    <a:lnTo>
                      <a:pt x="591" y="261"/>
                    </a:lnTo>
                    <a:lnTo>
                      <a:pt x="555" y="341"/>
                    </a:lnTo>
                    <a:lnTo>
                      <a:pt x="559" y="350"/>
                    </a:lnTo>
                    <a:lnTo>
                      <a:pt x="570" y="360"/>
                    </a:lnTo>
                    <a:lnTo>
                      <a:pt x="584" y="364"/>
                    </a:lnTo>
                    <a:lnTo>
                      <a:pt x="601" y="367"/>
                    </a:lnTo>
                    <a:lnTo>
                      <a:pt x="616" y="367"/>
                    </a:lnTo>
                    <a:lnTo>
                      <a:pt x="633" y="369"/>
                    </a:lnTo>
                    <a:lnTo>
                      <a:pt x="648" y="371"/>
                    </a:lnTo>
                    <a:lnTo>
                      <a:pt x="663" y="373"/>
                    </a:lnTo>
                    <a:lnTo>
                      <a:pt x="622" y="443"/>
                    </a:lnTo>
                    <a:lnTo>
                      <a:pt x="631" y="453"/>
                    </a:lnTo>
                    <a:lnTo>
                      <a:pt x="644" y="461"/>
                    </a:lnTo>
                    <a:lnTo>
                      <a:pt x="658" y="464"/>
                    </a:lnTo>
                    <a:lnTo>
                      <a:pt x="675" y="466"/>
                    </a:lnTo>
                    <a:lnTo>
                      <a:pt x="688" y="464"/>
                    </a:lnTo>
                    <a:lnTo>
                      <a:pt x="703" y="461"/>
                    </a:lnTo>
                    <a:lnTo>
                      <a:pt x="715" y="455"/>
                    </a:lnTo>
                    <a:lnTo>
                      <a:pt x="728" y="447"/>
                    </a:lnTo>
                    <a:lnTo>
                      <a:pt x="713" y="548"/>
                    </a:lnTo>
                    <a:lnTo>
                      <a:pt x="749" y="577"/>
                    </a:lnTo>
                    <a:lnTo>
                      <a:pt x="836" y="485"/>
                    </a:lnTo>
                    <a:lnTo>
                      <a:pt x="816" y="590"/>
                    </a:lnTo>
                    <a:lnTo>
                      <a:pt x="846" y="601"/>
                    </a:lnTo>
                    <a:lnTo>
                      <a:pt x="920" y="523"/>
                    </a:lnTo>
                    <a:lnTo>
                      <a:pt x="937" y="615"/>
                    </a:lnTo>
                    <a:lnTo>
                      <a:pt x="951" y="616"/>
                    </a:lnTo>
                    <a:lnTo>
                      <a:pt x="966" y="620"/>
                    </a:lnTo>
                    <a:lnTo>
                      <a:pt x="981" y="622"/>
                    </a:lnTo>
                    <a:lnTo>
                      <a:pt x="994" y="622"/>
                    </a:lnTo>
                    <a:lnTo>
                      <a:pt x="1061" y="531"/>
                    </a:lnTo>
                    <a:lnTo>
                      <a:pt x="1089" y="618"/>
                    </a:lnTo>
                    <a:lnTo>
                      <a:pt x="1150" y="603"/>
                    </a:lnTo>
                    <a:lnTo>
                      <a:pt x="1205" y="586"/>
                    </a:lnTo>
                    <a:lnTo>
                      <a:pt x="1257" y="563"/>
                    </a:lnTo>
                    <a:lnTo>
                      <a:pt x="1306" y="538"/>
                    </a:lnTo>
                    <a:lnTo>
                      <a:pt x="1348" y="508"/>
                    </a:lnTo>
                    <a:lnTo>
                      <a:pt x="1388" y="476"/>
                    </a:lnTo>
                    <a:lnTo>
                      <a:pt x="1424" y="442"/>
                    </a:lnTo>
                    <a:lnTo>
                      <a:pt x="1458" y="403"/>
                    </a:lnTo>
                    <a:lnTo>
                      <a:pt x="1485" y="360"/>
                    </a:lnTo>
                    <a:lnTo>
                      <a:pt x="1513" y="314"/>
                    </a:lnTo>
                    <a:lnTo>
                      <a:pt x="1536" y="267"/>
                    </a:lnTo>
                    <a:lnTo>
                      <a:pt x="1561" y="219"/>
                    </a:lnTo>
                    <a:lnTo>
                      <a:pt x="1582" y="166"/>
                    </a:lnTo>
                    <a:lnTo>
                      <a:pt x="1603" y="112"/>
                    </a:lnTo>
                    <a:lnTo>
                      <a:pt x="1620" y="55"/>
                    </a:lnTo>
                    <a:lnTo>
                      <a:pt x="1639" y="0"/>
                    </a:lnTo>
                    <a:lnTo>
                      <a:pt x="1639" y="21"/>
                    </a:lnTo>
                    <a:lnTo>
                      <a:pt x="1639" y="42"/>
                    </a:lnTo>
                    <a:lnTo>
                      <a:pt x="1639" y="63"/>
                    </a:lnTo>
                    <a:lnTo>
                      <a:pt x="1639" y="86"/>
                    </a:lnTo>
                    <a:lnTo>
                      <a:pt x="1635" y="107"/>
                    </a:lnTo>
                    <a:lnTo>
                      <a:pt x="1633" y="128"/>
                    </a:lnTo>
                    <a:lnTo>
                      <a:pt x="1629" y="149"/>
                    </a:lnTo>
                    <a:lnTo>
                      <a:pt x="1625" y="171"/>
                    </a:lnTo>
                    <a:lnTo>
                      <a:pt x="1618" y="190"/>
                    </a:lnTo>
                    <a:lnTo>
                      <a:pt x="1612" y="213"/>
                    </a:lnTo>
                    <a:lnTo>
                      <a:pt x="1605" y="232"/>
                    </a:lnTo>
                    <a:lnTo>
                      <a:pt x="1599" y="255"/>
                    </a:lnTo>
                    <a:lnTo>
                      <a:pt x="1589" y="274"/>
                    </a:lnTo>
                    <a:lnTo>
                      <a:pt x="1580" y="295"/>
                    </a:lnTo>
                    <a:lnTo>
                      <a:pt x="1570" y="316"/>
                    </a:lnTo>
                    <a:lnTo>
                      <a:pt x="1563" y="337"/>
                    </a:lnTo>
                    <a:lnTo>
                      <a:pt x="1589" y="345"/>
                    </a:lnTo>
                    <a:lnTo>
                      <a:pt x="1597" y="329"/>
                    </a:lnTo>
                    <a:lnTo>
                      <a:pt x="1606" y="316"/>
                    </a:lnTo>
                    <a:lnTo>
                      <a:pt x="1614" y="301"/>
                    </a:lnTo>
                    <a:lnTo>
                      <a:pt x="1624" y="289"/>
                    </a:lnTo>
                    <a:lnTo>
                      <a:pt x="1631" y="274"/>
                    </a:lnTo>
                    <a:lnTo>
                      <a:pt x="1641" y="261"/>
                    </a:lnTo>
                    <a:lnTo>
                      <a:pt x="1650" y="248"/>
                    </a:lnTo>
                    <a:lnTo>
                      <a:pt x="1660" y="234"/>
                    </a:lnTo>
                    <a:lnTo>
                      <a:pt x="1667" y="219"/>
                    </a:lnTo>
                    <a:lnTo>
                      <a:pt x="1675" y="204"/>
                    </a:lnTo>
                    <a:lnTo>
                      <a:pt x="1681" y="189"/>
                    </a:lnTo>
                    <a:lnTo>
                      <a:pt x="1688" y="175"/>
                    </a:lnTo>
                    <a:lnTo>
                      <a:pt x="1692" y="160"/>
                    </a:lnTo>
                    <a:lnTo>
                      <a:pt x="1698" y="145"/>
                    </a:lnTo>
                    <a:lnTo>
                      <a:pt x="1702" y="128"/>
                    </a:lnTo>
                    <a:lnTo>
                      <a:pt x="1705" y="112"/>
                    </a:lnTo>
                    <a:lnTo>
                      <a:pt x="1776" y="137"/>
                    </a:lnTo>
                    <a:lnTo>
                      <a:pt x="1740" y="238"/>
                    </a:lnTo>
                    <a:lnTo>
                      <a:pt x="1700" y="333"/>
                    </a:lnTo>
                    <a:lnTo>
                      <a:pt x="1652" y="419"/>
                    </a:lnTo>
                    <a:lnTo>
                      <a:pt x="1599" y="500"/>
                    </a:lnTo>
                    <a:lnTo>
                      <a:pt x="1536" y="571"/>
                    </a:lnTo>
                    <a:lnTo>
                      <a:pt x="1470" y="634"/>
                    </a:lnTo>
                    <a:lnTo>
                      <a:pt x="1399" y="685"/>
                    </a:lnTo>
                    <a:lnTo>
                      <a:pt x="1325" y="729"/>
                    </a:lnTo>
                    <a:lnTo>
                      <a:pt x="1243" y="759"/>
                    </a:lnTo>
                    <a:lnTo>
                      <a:pt x="1160" y="778"/>
                    </a:lnTo>
                    <a:lnTo>
                      <a:pt x="1072" y="784"/>
                    </a:lnTo>
                    <a:lnTo>
                      <a:pt x="983" y="778"/>
                    </a:lnTo>
                    <a:lnTo>
                      <a:pt x="890" y="755"/>
                    </a:lnTo>
                    <a:lnTo>
                      <a:pt x="798" y="719"/>
                    </a:lnTo>
                    <a:lnTo>
                      <a:pt x="705" y="668"/>
                    </a:lnTo>
                    <a:lnTo>
                      <a:pt x="612" y="601"/>
                    </a:lnTo>
                    <a:lnTo>
                      <a:pt x="608" y="596"/>
                    </a:lnTo>
                    <a:lnTo>
                      <a:pt x="603" y="588"/>
                    </a:lnTo>
                    <a:lnTo>
                      <a:pt x="593" y="575"/>
                    </a:lnTo>
                    <a:lnTo>
                      <a:pt x="582" y="559"/>
                    </a:lnTo>
                    <a:lnTo>
                      <a:pt x="566" y="538"/>
                    </a:lnTo>
                    <a:lnTo>
                      <a:pt x="551" y="518"/>
                    </a:lnTo>
                    <a:lnTo>
                      <a:pt x="532" y="495"/>
                    </a:lnTo>
                    <a:lnTo>
                      <a:pt x="515" y="472"/>
                    </a:lnTo>
                    <a:lnTo>
                      <a:pt x="494" y="445"/>
                    </a:lnTo>
                    <a:lnTo>
                      <a:pt x="477" y="422"/>
                    </a:lnTo>
                    <a:lnTo>
                      <a:pt x="458" y="398"/>
                    </a:lnTo>
                    <a:lnTo>
                      <a:pt x="443" y="375"/>
                    </a:lnTo>
                    <a:lnTo>
                      <a:pt x="426" y="352"/>
                    </a:lnTo>
                    <a:lnTo>
                      <a:pt x="414" y="333"/>
                    </a:lnTo>
                    <a:lnTo>
                      <a:pt x="403" y="316"/>
                    </a:lnTo>
                    <a:lnTo>
                      <a:pt x="397" y="306"/>
                    </a:lnTo>
                    <a:lnTo>
                      <a:pt x="359" y="312"/>
                    </a:lnTo>
                    <a:lnTo>
                      <a:pt x="329" y="320"/>
                    </a:lnTo>
                    <a:lnTo>
                      <a:pt x="297" y="324"/>
                    </a:lnTo>
                    <a:lnTo>
                      <a:pt x="268" y="327"/>
                    </a:lnTo>
                    <a:lnTo>
                      <a:pt x="239" y="327"/>
                    </a:lnTo>
                    <a:lnTo>
                      <a:pt x="215" y="327"/>
                    </a:lnTo>
                    <a:lnTo>
                      <a:pt x="190" y="324"/>
                    </a:lnTo>
                    <a:lnTo>
                      <a:pt x="167" y="320"/>
                    </a:lnTo>
                    <a:lnTo>
                      <a:pt x="144" y="310"/>
                    </a:lnTo>
                    <a:lnTo>
                      <a:pt x="122" y="299"/>
                    </a:lnTo>
                    <a:lnTo>
                      <a:pt x="101" y="284"/>
                    </a:lnTo>
                    <a:lnTo>
                      <a:pt x="80" y="268"/>
                    </a:lnTo>
                    <a:lnTo>
                      <a:pt x="59" y="246"/>
                    </a:lnTo>
                    <a:lnTo>
                      <a:pt x="40" y="223"/>
                    </a:lnTo>
                    <a:lnTo>
                      <a:pt x="19" y="194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Freeform 131"/>
              <p:cNvSpPr/>
              <p:nvPr/>
            </p:nvSpPr>
            <p:spPr>
              <a:xfrm flipH="1" rot="19783200">
                <a:off x="2298240" y="5800680"/>
                <a:ext cx="135360" cy="144000"/>
              </a:xfrm>
              <a:custGeom>
                <a:avLst/>
                <a:gdLst>
                  <a:gd name="textAreaLeft" fmla="*/ 360 w 135360"/>
                  <a:gd name="textAreaRight" fmla="*/ 136080 w 13536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88" h="943">
                    <a:moveTo>
                      <a:pt x="0" y="441"/>
                    </a:moveTo>
                    <a:lnTo>
                      <a:pt x="96" y="432"/>
                    </a:lnTo>
                    <a:lnTo>
                      <a:pt x="101" y="453"/>
                    </a:lnTo>
                    <a:lnTo>
                      <a:pt x="107" y="476"/>
                    </a:lnTo>
                    <a:lnTo>
                      <a:pt x="115" y="498"/>
                    </a:lnTo>
                    <a:lnTo>
                      <a:pt x="124" y="523"/>
                    </a:lnTo>
                    <a:lnTo>
                      <a:pt x="134" y="546"/>
                    </a:lnTo>
                    <a:lnTo>
                      <a:pt x="145" y="571"/>
                    </a:lnTo>
                    <a:lnTo>
                      <a:pt x="156" y="593"/>
                    </a:lnTo>
                    <a:lnTo>
                      <a:pt x="172" y="618"/>
                    </a:lnTo>
                    <a:lnTo>
                      <a:pt x="183" y="637"/>
                    </a:lnTo>
                    <a:lnTo>
                      <a:pt x="200" y="658"/>
                    </a:lnTo>
                    <a:lnTo>
                      <a:pt x="215" y="675"/>
                    </a:lnTo>
                    <a:lnTo>
                      <a:pt x="234" y="692"/>
                    </a:lnTo>
                    <a:lnTo>
                      <a:pt x="251" y="706"/>
                    </a:lnTo>
                    <a:lnTo>
                      <a:pt x="274" y="719"/>
                    </a:lnTo>
                    <a:lnTo>
                      <a:pt x="295" y="728"/>
                    </a:lnTo>
                    <a:lnTo>
                      <a:pt x="320" y="736"/>
                    </a:lnTo>
                    <a:lnTo>
                      <a:pt x="339" y="738"/>
                    </a:lnTo>
                    <a:lnTo>
                      <a:pt x="360" y="742"/>
                    </a:lnTo>
                    <a:lnTo>
                      <a:pt x="379" y="744"/>
                    </a:lnTo>
                    <a:lnTo>
                      <a:pt x="402" y="747"/>
                    </a:lnTo>
                    <a:lnTo>
                      <a:pt x="421" y="746"/>
                    </a:lnTo>
                    <a:lnTo>
                      <a:pt x="442" y="746"/>
                    </a:lnTo>
                    <a:lnTo>
                      <a:pt x="462" y="744"/>
                    </a:lnTo>
                    <a:lnTo>
                      <a:pt x="485" y="742"/>
                    </a:lnTo>
                    <a:lnTo>
                      <a:pt x="504" y="734"/>
                    </a:lnTo>
                    <a:lnTo>
                      <a:pt x="525" y="728"/>
                    </a:lnTo>
                    <a:lnTo>
                      <a:pt x="544" y="717"/>
                    </a:lnTo>
                    <a:lnTo>
                      <a:pt x="565" y="708"/>
                    </a:lnTo>
                    <a:lnTo>
                      <a:pt x="584" y="694"/>
                    </a:lnTo>
                    <a:lnTo>
                      <a:pt x="603" y="679"/>
                    </a:lnTo>
                    <a:lnTo>
                      <a:pt x="620" y="660"/>
                    </a:lnTo>
                    <a:lnTo>
                      <a:pt x="639" y="639"/>
                    </a:lnTo>
                    <a:lnTo>
                      <a:pt x="662" y="603"/>
                    </a:lnTo>
                    <a:lnTo>
                      <a:pt x="681" y="567"/>
                    </a:lnTo>
                    <a:lnTo>
                      <a:pt x="698" y="531"/>
                    </a:lnTo>
                    <a:lnTo>
                      <a:pt x="713" y="495"/>
                    </a:lnTo>
                    <a:lnTo>
                      <a:pt x="723" y="455"/>
                    </a:lnTo>
                    <a:lnTo>
                      <a:pt x="731" y="417"/>
                    </a:lnTo>
                    <a:lnTo>
                      <a:pt x="736" y="377"/>
                    </a:lnTo>
                    <a:lnTo>
                      <a:pt x="742" y="339"/>
                    </a:lnTo>
                    <a:lnTo>
                      <a:pt x="742" y="297"/>
                    </a:lnTo>
                    <a:lnTo>
                      <a:pt x="744" y="257"/>
                    </a:lnTo>
                    <a:lnTo>
                      <a:pt x="742" y="217"/>
                    </a:lnTo>
                    <a:lnTo>
                      <a:pt x="742" y="177"/>
                    </a:lnTo>
                    <a:lnTo>
                      <a:pt x="738" y="137"/>
                    </a:lnTo>
                    <a:lnTo>
                      <a:pt x="736" y="97"/>
                    </a:lnTo>
                    <a:lnTo>
                      <a:pt x="732" y="57"/>
                    </a:lnTo>
                    <a:lnTo>
                      <a:pt x="731" y="17"/>
                    </a:lnTo>
                    <a:lnTo>
                      <a:pt x="808" y="0"/>
                    </a:lnTo>
                    <a:lnTo>
                      <a:pt x="826" y="150"/>
                    </a:lnTo>
                    <a:lnTo>
                      <a:pt x="850" y="162"/>
                    </a:lnTo>
                    <a:lnTo>
                      <a:pt x="885" y="116"/>
                    </a:lnTo>
                    <a:lnTo>
                      <a:pt x="886" y="143"/>
                    </a:lnTo>
                    <a:lnTo>
                      <a:pt x="888" y="171"/>
                    </a:lnTo>
                    <a:lnTo>
                      <a:pt x="885" y="202"/>
                    </a:lnTo>
                    <a:lnTo>
                      <a:pt x="881" y="236"/>
                    </a:lnTo>
                    <a:lnTo>
                      <a:pt x="873" y="270"/>
                    </a:lnTo>
                    <a:lnTo>
                      <a:pt x="867" y="304"/>
                    </a:lnTo>
                    <a:lnTo>
                      <a:pt x="858" y="339"/>
                    </a:lnTo>
                    <a:lnTo>
                      <a:pt x="850" y="375"/>
                    </a:lnTo>
                    <a:lnTo>
                      <a:pt x="839" y="405"/>
                    </a:lnTo>
                    <a:lnTo>
                      <a:pt x="829" y="437"/>
                    </a:lnTo>
                    <a:lnTo>
                      <a:pt x="818" y="466"/>
                    </a:lnTo>
                    <a:lnTo>
                      <a:pt x="812" y="495"/>
                    </a:lnTo>
                    <a:lnTo>
                      <a:pt x="807" y="517"/>
                    </a:lnTo>
                    <a:lnTo>
                      <a:pt x="803" y="538"/>
                    </a:lnTo>
                    <a:lnTo>
                      <a:pt x="801" y="555"/>
                    </a:lnTo>
                    <a:lnTo>
                      <a:pt x="805" y="569"/>
                    </a:lnTo>
                    <a:lnTo>
                      <a:pt x="822" y="582"/>
                    </a:lnTo>
                    <a:lnTo>
                      <a:pt x="826" y="569"/>
                    </a:lnTo>
                    <a:lnTo>
                      <a:pt x="833" y="555"/>
                    </a:lnTo>
                    <a:lnTo>
                      <a:pt x="845" y="538"/>
                    </a:lnTo>
                    <a:lnTo>
                      <a:pt x="858" y="523"/>
                    </a:lnTo>
                    <a:lnTo>
                      <a:pt x="867" y="506"/>
                    </a:lnTo>
                    <a:lnTo>
                      <a:pt x="879" y="491"/>
                    </a:lnTo>
                    <a:lnTo>
                      <a:pt x="885" y="479"/>
                    </a:lnTo>
                    <a:lnTo>
                      <a:pt x="888" y="474"/>
                    </a:lnTo>
                    <a:lnTo>
                      <a:pt x="883" y="502"/>
                    </a:lnTo>
                    <a:lnTo>
                      <a:pt x="877" y="534"/>
                    </a:lnTo>
                    <a:lnTo>
                      <a:pt x="867" y="569"/>
                    </a:lnTo>
                    <a:lnTo>
                      <a:pt x="858" y="603"/>
                    </a:lnTo>
                    <a:lnTo>
                      <a:pt x="845" y="637"/>
                    </a:lnTo>
                    <a:lnTo>
                      <a:pt x="831" y="671"/>
                    </a:lnTo>
                    <a:lnTo>
                      <a:pt x="814" y="706"/>
                    </a:lnTo>
                    <a:lnTo>
                      <a:pt x="799" y="740"/>
                    </a:lnTo>
                    <a:lnTo>
                      <a:pt x="776" y="770"/>
                    </a:lnTo>
                    <a:lnTo>
                      <a:pt x="755" y="803"/>
                    </a:lnTo>
                    <a:lnTo>
                      <a:pt x="732" y="831"/>
                    </a:lnTo>
                    <a:lnTo>
                      <a:pt x="710" y="860"/>
                    </a:lnTo>
                    <a:lnTo>
                      <a:pt x="683" y="884"/>
                    </a:lnTo>
                    <a:lnTo>
                      <a:pt x="656" y="907"/>
                    </a:lnTo>
                    <a:lnTo>
                      <a:pt x="628" y="926"/>
                    </a:lnTo>
                    <a:lnTo>
                      <a:pt x="601" y="943"/>
                    </a:lnTo>
                    <a:lnTo>
                      <a:pt x="592" y="940"/>
                    </a:lnTo>
                    <a:lnTo>
                      <a:pt x="596" y="924"/>
                    </a:lnTo>
                    <a:lnTo>
                      <a:pt x="599" y="913"/>
                    </a:lnTo>
                    <a:lnTo>
                      <a:pt x="607" y="903"/>
                    </a:lnTo>
                    <a:lnTo>
                      <a:pt x="615" y="890"/>
                    </a:lnTo>
                    <a:lnTo>
                      <a:pt x="624" y="879"/>
                    </a:lnTo>
                    <a:lnTo>
                      <a:pt x="632" y="863"/>
                    </a:lnTo>
                    <a:lnTo>
                      <a:pt x="641" y="852"/>
                    </a:lnTo>
                    <a:lnTo>
                      <a:pt x="649" y="839"/>
                    </a:lnTo>
                    <a:lnTo>
                      <a:pt x="658" y="829"/>
                    </a:lnTo>
                    <a:lnTo>
                      <a:pt x="670" y="812"/>
                    </a:lnTo>
                    <a:lnTo>
                      <a:pt x="675" y="806"/>
                    </a:lnTo>
                    <a:lnTo>
                      <a:pt x="668" y="789"/>
                    </a:lnTo>
                    <a:lnTo>
                      <a:pt x="615" y="814"/>
                    </a:lnTo>
                    <a:lnTo>
                      <a:pt x="561" y="835"/>
                    </a:lnTo>
                    <a:lnTo>
                      <a:pt x="508" y="848"/>
                    </a:lnTo>
                    <a:lnTo>
                      <a:pt x="457" y="858"/>
                    </a:lnTo>
                    <a:lnTo>
                      <a:pt x="402" y="858"/>
                    </a:lnTo>
                    <a:lnTo>
                      <a:pt x="350" y="854"/>
                    </a:lnTo>
                    <a:lnTo>
                      <a:pt x="299" y="843"/>
                    </a:lnTo>
                    <a:lnTo>
                      <a:pt x="251" y="827"/>
                    </a:lnTo>
                    <a:lnTo>
                      <a:pt x="204" y="801"/>
                    </a:lnTo>
                    <a:lnTo>
                      <a:pt x="162" y="770"/>
                    </a:lnTo>
                    <a:lnTo>
                      <a:pt x="122" y="732"/>
                    </a:lnTo>
                    <a:lnTo>
                      <a:pt x="88" y="690"/>
                    </a:lnTo>
                    <a:lnTo>
                      <a:pt x="56" y="637"/>
                    </a:lnTo>
                    <a:lnTo>
                      <a:pt x="33" y="580"/>
                    </a:lnTo>
                    <a:lnTo>
                      <a:pt x="12" y="514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Freeform 132"/>
              <p:cNvSpPr/>
              <p:nvPr/>
            </p:nvSpPr>
            <p:spPr>
              <a:xfrm flipH="1" rot="19783200">
                <a:off x="2321640" y="5766120"/>
                <a:ext cx="43920" cy="4788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87" h="315">
                    <a:moveTo>
                      <a:pt x="55" y="83"/>
                    </a:moveTo>
                    <a:lnTo>
                      <a:pt x="185" y="0"/>
                    </a:lnTo>
                    <a:lnTo>
                      <a:pt x="287" y="9"/>
                    </a:lnTo>
                    <a:lnTo>
                      <a:pt x="151" y="116"/>
                    </a:lnTo>
                    <a:lnTo>
                      <a:pt x="21" y="315"/>
                    </a:lnTo>
                    <a:lnTo>
                      <a:pt x="12" y="298"/>
                    </a:lnTo>
                    <a:lnTo>
                      <a:pt x="8" y="281"/>
                    </a:lnTo>
                    <a:lnTo>
                      <a:pt x="2" y="266"/>
                    </a:lnTo>
                    <a:lnTo>
                      <a:pt x="2" y="253"/>
                    </a:lnTo>
                    <a:lnTo>
                      <a:pt x="0" y="239"/>
                    </a:lnTo>
                    <a:lnTo>
                      <a:pt x="0" y="226"/>
                    </a:lnTo>
                    <a:lnTo>
                      <a:pt x="2" y="213"/>
                    </a:lnTo>
                    <a:lnTo>
                      <a:pt x="6" y="201"/>
                    </a:lnTo>
                    <a:lnTo>
                      <a:pt x="8" y="188"/>
                    </a:lnTo>
                    <a:lnTo>
                      <a:pt x="14" y="175"/>
                    </a:lnTo>
                    <a:lnTo>
                      <a:pt x="19" y="161"/>
                    </a:lnTo>
                    <a:lnTo>
                      <a:pt x="25" y="148"/>
                    </a:lnTo>
                    <a:lnTo>
                      <a:pt x="31" y="133"/>
                    </a:lnTo>
                    <a:lnTo>
                      <a:pt x="38" y="118"/>
                    </a:lnTo>
                    <a:lnTo>
                      <a:pt x="46" y="100"/>
                    </a:lnTo>
                    <a:lnTo>
                      <a:pt x="55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Freeform 133"/>
              <p:cNvSpPr/>
              <p:nvPr/>
            </p:nvSpPr>
            <p:spPr>
              <a:xfrm flipH="1" rot="19783200">
                <a:off x="2295360" y="5938920"/>
                <a:ext cx="37800" cy="67320"/>
              </a:xfrm>
              <a:custGeom>
                <a:avLst/>
                <a:gdLst>
                  <a:gd name="textAreaLeft" fmla="*/ -360 w 37800"/>
                  <a:gd name="textAreaRight" fmla="*/ 37800 w 37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9" h="443">
                    <a:moveTo>
                      <a:pt x="201" y="0"/>
                    </a:moveTo>
                    <a:lnTo>
                      <a:pt x="247" y="3"/>
                    </a:lnTo>
                    <a:lnTo>
                      <a:pt x="247" y="49"/>
                    </a:lnTo>
                    <a:lnTo>
                      <a:pt x="249" y="91"/>
                    </a:lnTo>
                    <a:lnTo>
                      <a:pt x="247" y="127"/>
                    </a:lnTo>
                    <a:lnTo>
                      <a:pt x="245" y="161"/>
                    </a:lnTo>
                    <a:lnTo>
                      <a:pt x="239" y="190"/>
                    </a:lnTo>
                    <a:lnTo>
                      <a:pt x="235" y="216"/>
                    </a:lnTo>
                    <a:lnTo>
                      <a:pt x="226" y="241"/>
                    </a:lnTo>
                    <a:lnTo>
                      <a:pt x="216" y="266"/>
                    </a:lnTo>
                    <a:lnTo>
                      <a:pt x="201" y="285"/>
                    </a:lnTo>
                    <a:lnTo>
                      <a:pt x="184" y="306"/>
                    </a:lnTo>
                    <a:lnTo>
                      <a:pt x="165" y="327"/>
                    </a:lnTo>
                    <a:lnTo>
                      <a:pt x="142" y="348"/>
                    </a:lnTo>
                    <a:lnTo>
                      <a:pt x="114" y="369"/>
                    </a:lnTo>
                    <a:lnTo>
                      <a:pt x="85" y="391"/>
                    </a:lnTo>
                    <a:lnTo>
                      <a:pt x="49" y="414"/>
                    </a:lnTo>
                    <a:lnTo>
                      <a:pt x="11" y="443"/>
                    </a:lnTo>
                    <a:lnTo>
                      <a:pt x="2" y="431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11" y="367"/>
                    </a:lnTo>
                    <a:lnTo>
                      <a:pt x="21" y="336"/>
                    </a:lnTo>
                    <a:lnTo>
                      <a:pt x="36" y="304"/>
                    </a:lnTo>
                    <a:lnTo>
                      <a:pt x="53" y="270"/>
                    </a:lnTo>
                    <a:lnTo>
                      <a:pt x="74" y="235"/>
                    </a:lnTo>
                    <a:lnTo>
                      <a:pt x="91" y="197"/>
                    </a:lnTo>
                    <a:lnTo>
                      <a:pt x="112" y="163"/>
                    </a:lnTo>
                    <a:lnTo>
                      <a:pt x="131" y="127"/>
                    </a:lnTo>
                    <a:lnTo>
                      <a:pt x="152" y="95"/>
                    </a:lnTo>
                    <a:lnTo>
                      <a:pt x="167" y="64"/>
                    </a:lnTo>
                    <a:lnTo>
                      <a:pt x="182" y="38"/>
                    </a:lnTo>
                    <a:lnTo>
                      <a:pt x="192" y="1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Freeform 134"/>
              <p:cNvSpPr/>
              <p:nvPr/>
            </p:nvSpPr>
            <p:spPr>
              <a:xfrm flipH="1" rot="19783200">
                <a:off x="2205720" y="5830200"/>
                <a:ext cx="60120" cy="124200"/>
              </a:xfrm>
              <a:custGeom>
                <a:avLst/>
                <a:gdLst>
                  <a:gd name="textAreaLeft" fmla="*/ -360 w 60120"/>
                  <a:gd name="textAreaRight" fmla="*/ 60120 w 6012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395" h="814">
                    <a:moveTo>
                      <a:pt x="0" y="8"/>
                    </a:moveTo>
                    <a:lnTo>
                      <a:pt x="25" y="2"/>
                    </a:lnTo>
                    <a:lnTo>
                      <a:pt x="49" y="0"/>
                    </a:lnTo>
                    <a:lnTo>
                      <a:pt x="72" y="0"/>
                    </a:lnTo>
                    <a:lnTo>
                      <a:pt x="95" y="4"/>
                    </a:lnTo>
                    <a:lnTo>
                      <a:pt x="116" y="8"/>
                    </a:lnTo>
                    <a:lnTo>
                      <a:pt x="139" y="15"/>
                    </a:lnTo>
                    <a:lnTo>
                      <a:pt x="160" y="21"/>
                    </a:lnTo>
                    <a:lnTo>
                      <a:pt x="181" y="32"/>
                    </a:lnTo>
                    <a:lnTo>
                      <a:pt x="198" y="42"/>
                    </a:lnTo>
                    <a:lnTo>
                      <a:pt x="217" y="55"/>
                    </a:lnTo>
                    <a:lnTo>
                      <a:pt x="234" y="69"/>
                    </a:lnTo>
                    <a:lnTo>
                      <a:pt x="253" y="86"/>
                    </a:lnTo>
                    <a:lnTo>
                      <a:pt x="268" y="101"/>
                    </a:lnTo>
                    <a:lnTo>
                      <a:pt x="283" y="120"/>
                    </a:lnTo>
                    <a:lnTo>
                      <a:pt x="297" y="139"/>
                    </a:lnTo>
                    <a:lnTo>
                      <a:pt x="312" y="162"/>
                    </a:lnTo>
                    <a:lnTo>
                      <a:pt x="348" y="166"/>
                    </a:lnTo>
                    <a:lnTo>
                      <a:pt x="359" y="209"/>
                    </a:lnTo>
                    <a:lnTo>
                      <a:pt x="375" y="259"/>
                    </a:lnTo>
                    <a:lnTo>
                      <a:pt x="384" y="308"/>
                    </a:lnTo>
                    <a:lnTo>
                      <a:pt x="394" y="363"/>
                    </a:lnTo>
                    <a:lnTo>
                      <a:pt x="395" y="415"/>
                    </a:lnTo>
                    <a:lnTo>
                      <a:pt x="395" y="468"/>
                    </a:lnTo>
                    <a:lnTo>
                      <a:pt x="392" y="519"/>
                    </a:lnTo>
                    <a:lnTo>
                      <a:pt x="386" y="573"/>
                    </a:lnTo>
                    <a:lnTo>
                      <a:pt x="369" y="618"/>
                    </a:lnTo>
                    <a:lnTo>
                      <a:pt x="354" y="664"/>
                    </a:lnTo>
                    <a:lnTo>
                      <a:pt x="329" y="702"/>
                    </a:lnTo>
                    <a:lnTo>
                      <a:pt x="300" y="738"/>
                    </a:lnTo>
                    <a:lnTo>
                      <a:pt x="262" y="767"/>
                    </a:lnTo>
                    <a:lnTo>
                      <a:pt x="221" y="789"/>
                    </a:lnTo>
                    <a:lnTo>
                      <a:pt x="171" y="805"/>
                    </a:lnTo>
                    <a:lnTo>
                      <a:pt x="116" y="814"/>
                    </a:lnTo>
                    <a:lnTo>
                      <a:pt x="46" y="806"/>
                    </a:lnTo>
                    <a:lnTo>
                      <a:pt x="46" y="793"/>
                    </a:lnTo>
                    <a:lnTo>
                      <a:pt x="46" y="780"/>
                    </a:lnTo>
                    <a:lnTo>
                      <a:pt x="46" y="767"/>
                    </a:lnTo>
                    <a:lnTo>
                      <a:pt x="47" y="753"/>
                    </a:lnTo>
                    <a:lnTo>
                      <a:pt x="49" y="738"/>
                    </a:lnTo>
                    <a:lnTo>
                      <a:pt x="53" y="723"/>
                    </a:lnTo>
                    <a:lnTo>
                      <a:pt x="55" y="708"/>
                    </a:lnTo>
                    <a:lnTo>
                      <a:pt x="61" y="694"/>
                    </a:lnTo>
                    <a:lnTo>
                      <a:pt x="63" y="677"/>
                    </a:lnTo>
                    <a:lnTo>
                      <a:pt x="67" y="664"/>
                    </a:lnTo>
                    <a:lnTo>
                      <a:pt x="72" y="649"/>
                    </a:lnTo>
                    <a:lnTo>
                      <a:pt x="78" y="637"/>
                    </a:lnTo>
                    <a:lnTo>
                      <a:pt x="84" y="624"/>
                    </a:lnTo>
                    <a:lnTo>
                      <a:pt x="89" y="613"/>
                    </a:lnTo>
                    <a:lnTo>
                      <a:pt x="97" y="601"/>
                    </a:lnTo>
                    <a:lnTo>
                      <a:pt x="105" y="593"/>
                    </a:lnTo>
                    <a:lnTo>
                      <a:pt x="150" y="611"/>
                    </a:lnTo>
                    <a:lnTo>
                      <a:pt x="150" y="622"/>
                    </a:lnTo>
                    <a:lnTo>
                      <a:pt x="154" y="633"/>
                    </a:lnTo>
                    <a:lnTo>
                      <a:pt x="156" y="645"/>
                    </a:lnTo>
                    <a:lnTo>
                      <a:pt x="160" y="656"/>
                    </a:lnTo>
                    <a:lnTo>
                      <a:pt x="162" y="666"/>
                    </a:lnTo>
                    <a:lnTo>
                      <a:pt x="165" y="675"/>
                    </a:lnTo>
                    <a:lnTo>
                      <a:pt x="167" y="683"/>
                    </a:lnTo>
                    <a:lnTo>
                      <a:pt x="171" y="692"/>
                    </a:lnTo>
                    <a:lnTo>
                      <a:pt x="177" y="700"/>
                    </a:lnTo>
                    <a:lnTo>
                      <a:pt x="182" y="704"/>
                    </a:lnTo>
                    <a:lnTo>
                      <a:pt x="188" y="702"/>
                    </a:lnTo>
                    <a:lnTo>
                      <a:pt x="196" y="694"/>
                    </a:lnTo>
                    <a:lnTo>
                      <a:pt x="221" y="590"/>
                    </a:lnTo>
                    <a:lnTo>
                      <a:pt x="226" y="590"/>
                    </a:lnTo>
                    <a:lnTo>
                      <a:pt x="234" y="597"/>
                    </a:lnTo>
                    <a:lnTo>
                      <a:pt x="240" y="607"/>
                    </a:lnTo>
                    <a:lnTo>
                      <a:pt x="247" y="618"/>
                    </a:lnTo>
                    <a:lnTo>
                      <a:pt x="251" y="628"/>
                    </a:lnTo>
                    <a:lnTo>
                      <a:pt x="257" y="639"/>
                    </a:lnTo>
                    <a:lnTo>
                      <a:pt x="262" y="645"/>
                    </a:lnTo>
                    <a:lnTo>
                      <a:pt x="274" y="649"/>
                    </a:lnTo>
                    <a:lnTo>
                      <a:pt x="281" y="624"/>
                    </a:lnTo>
                    <a:lnTo>
                      <a:pt x="289" y="601"/>
                    </a:lnTo>
                    <a:lnTo>
                      <a:pt x="295" y="578"/>
                    </a:lnTo>
                    <a:lnTo>
                      <a:pt x="302" y="555"/>
                    </a:lnTo>
                    <a:lnTo>
                      <a:pt x="306" y="531"/>
                    </a:lnTo>
                    <a:lnTo>
                      <a:pt x="310" y="508"/>
                    </a:lnTo>
                    <a:lnTo>
                      <a:pt x="312" y="485"/>
                    </a:lnTo>
                    <a:lnTo>
                      <a:pt x="316" y="462"/>
                    </a:lnTo>
                    <a:lnTo>
                      <a:pt x="316" y="438"/>
                    </a:lnTo>
                    <a:lnTo>
                      <a:pt x="316" y="415"/>
                    </a:lnTo>
                    <a:lnTo>
                      <a:pt x="314" y="390"/>
                    </a:lnTo>
                    <a:lnTo>
                      <a:pt x="314" y="367"/>
                    </a:lnTo>
                    <a:lnTo>
                      <a:pt x="310" y="342"/>
                    </a:lnTo>
                    <a:lnTo>
                      <a:pt x="308" y="320"/>
                    </a:lnTo>
                    <a:lnTo>
                      <a:pt x="304" y="297"/>
                    </a:lnTo>
                    <a:lnTo>
                      <a:pt x="302" y="274"/>
                    </a:lnTo>
                    <a:lnTo>
                      <a:pt x="262" y="242"/>
                    </a:lnTo>
                    <a:lnTo>
                      <a:pt x="262" y="379"/>
                    </a:lnTo>
                    <a:lnTo>
                      <a:pt x="186" y="257"/>
                    </a:lnTo>
                    <a:lnTo>
                      <a:pt x="190" y="274"/>
                    </a:lnTo>
                    <a:lnTo>
                      <a:pt x="194" y="295"/>
                    </a:lnTo>
                    <a:lnTo>
                      <a:pt x="194" y="306"/>
                    </a:lnTo>
                    <a:lnTo>
                      <a:pt x="194" y="318"/>
                    </a:lnTo>
                    <a:lnTo>
                      <a:pt x="194" y="329"/>
                    </a:lnTo>
                    <a:lnTo>
                      <a:pt x="196" y="341"/>
                    </a:lnTo>
                    <a:lnTo>
                      <a:pt x="194" y="350"/>
                    </a:lnTo>
                    <a:lnTo>
                      <a:pt x="192" y="361"/>
                    </a:lnTo>
                    <a:lnTo>
                      <a:pt x="190" y="373"/>
                    </a:lnTo>
                    <a:lnTo>
                      <a:pt x="190" y="384"/>
                    </a:lnTo>
                    <a:lnTo>
                      <a:pt x="186" y="394"/>
                    </a:lnTo>
                    <a:lnTo>
                      <a:pt x="186" y="405"/>
                    </a:lnTo>
                    <a:lnTo>
                      <a:pt x="182" y="417"/>
                    </a:lnTo>
                    <a:lnTo>
                      <a:pt x="182" y="428"/>
                    </a:lnTo>
                    <a:lnTo>
                      <a:pt x="91" y="287"/>
                    </a:lnTo>
                    <a:lnTo>
                      <a:pt x="87" y="268"/>
                    </a:lnTo>
                    <a:lnTo>
                      <a:pt x="86" y="251"/>
                    </a:lnTo>
                    <a:lnTo>
                      <a:pt x="84" y="232"/>
                    </a:lnTo>
                    <a:lnTo>
                      <a:pt x="82" y="215"/>
                    </a:lnTo>
                    <a:lnTo>
                      <a:pt x="76" y="196"/>
                    </a:lnTo>
                    <a:lnTo>
                      <a:pt x="70" y="179"/>
                    </a:lnTo>
                    <a:lnTo>
                      <a:pt x="65" y="162"/>
                    </a:lnTo>
                    <a:lnTo>
                      <a:pt x="61" y="145"/>
                    </a:lnTo>
                    <a:lnTo>
                      <a:pt x="53" y="126"/>
                    </a:lnTo>
                    <a:lnTo>
                      <a:pt x="46" y="107"/>
                    </a:lnTo>
                    <a:lnTo>
                      <a:pt x="38" y="90"/>
                    </a:lnTo>
                    <a:lnTo>
                      <a:pt x="32" y="72"/>
                    </a:lnTo>
                    <a:lnTo>
                      <a:pt x="23" y="55"/>
                    </a:lnTo>
                    <a:lnTo>
                      <a:pt x="15" y="38"/>
                    </a:lnTo>
                    <a:lnTo>
                      <a:pt x="8" y="2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Freeform 135"/>
              <p:cNvSpPr/>
              <p:nvPr/>
            </p:nvSpPr>
            <p:spPr>
              <a:xfrm flipH="1" rot="19783200">
                <a:off x="2175840" y="5807160"/>
                <a:ext cx="33840" cy="115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0" h="76">
                    <a:moveTo>
                      <a:pt x="0" y="3"/>
                    </a:moveTo>
                    <a:lnTo>
                      <a:pt x="13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85" y="1"/>
                    </a:lnTo>
                    <a:lnTo>
                      <a:pt x="100" y="3"/>
                    </a:lnTo>
                    <a:lnTo>
                      <a:pt x="115" y="9"/>
                    </a:lnTo>
                    <a:lnTo>
                      <a:pt x="129" y="11"/>
                    </a:lnTo>
                    <a:lnTo>
                      <a:pt x="142" y="17"/>
                    </a:lnTo>
                    <a:lnTo>
                      <a:pt x="155" y="22"/>
                    </a:lnTo>
                    <a:lnTo>
                      <a:pt x="171" y="30"/>
                    </a:lnTo>
                    <a:lnTo>
                      <a:pt x="182" y="36"/>
                    </a:lnTo>
                    <a:lnTo>
                      <a:pt x="195" y="45"/>
                    </a:lnTo>
                    <a:lnTo>
                      <a:pt x="207" y="55"/>
                    </a:lnTo>
                    <a:lnTo>
                      <a:pt x="220" y="66"/>
                    </a:lnTo>
                    <a:lnTo>
                      <a:pt x="209" y="60"/>
                    </a:lnTo>
                    <a:lnTo>
                      <a:pt x="197" y="58"/>
                    </a:lnTo>
                    <a:lnTo>
                      <a:pt x="186" y="57"/>
                    </a:lnTo>
                    <a:lnTo>
                      <a:pt x="174" y="57"/>
                    </a:lnTo>
                    <a:lnTo>
                      <a:pt x="163" y="57"/>
                    </a:lnTo>
                    <a:lnTo>
                      <a:pt x="152" y="57"/>
                    </a:lnTo>
                    <a:lnTo>
                      <a:pt x="140" y="57"/>
                    </a:lnTo>
                    <a:lnTo>
                      <a:pt x="129" y="58"/>
                    </a:lnTo>
                    <a:lnTo>
                      <a:pt x="117" y="58"/>
                    </a:lnTo>
                    <a:lnTo>
                      <a:pt x="106" y="60"/>
                    </a:lnTo>
                    <a:lnTo>
                      <a:pt x="95" y="62"/>
                    </a:lnTo>
                    <a:lnTo>
                      <a:pt x="83" y="64"/>
                    </a:lnTo>
                    <a:lnTo>
                      <a:pt x="72" y="66"/>
                    </a:lnTo>
                    <a:lnTo>
                      <a:pt x="60" y="70"/>
                    </a:lnTo>
                    <a:lnTo>
                      <a:pt x="51" y="72"/>
                    </a:lnTo>
                    <a:lnTo>
                      <a:pt x="41" y="7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Freeform 136"/>
              <p:cNvSpPr/>
              <p:nvPr/>
            </p:nvSpPr>
            <p:spPr>
              <a:xfrm flipH="1" rot="19783200">
                <a:off x="2176920" y="5827320"/>
                <a:ext cx="30240" cy="10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0" h="70">
                    <a:moveTo>
                      <a:pt x="0" y="0"/>
                    </a:moveTo>
                    <a:lnTo>
                      <a:pt x="200" y="4"/>
                    </a:lnTo>
                    <a:lnTo>
                      <a:pt x="200" y="19"/>
                    </a:lnTo>
                    <a:lnTo>
                      <a:pt x="194" y="32"/>
                    </a:lnTo>
                    <a:lnTo>
                      <a:pt x="185" y="42"/>
                    </a:lnTo>
                    <a:lnTo>
                      <a:pt x="175" y="53"/>
                    </a:lnTo>
                    <a:lnTo>
                      <a:pt x="158" y="59"/>
                    </a:lnTo>
                    <a:lnTo>
                      <a:pt x="143" y="64"/>
                    </a:lnTo>
                    <a:lnTo>
                      <a:pt x="128" y="68"/>
                    </a:lnTo>
                    <a:lnTo>
                      <a:pt x="11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Freeform 137"/>
              <p:cNvSpPr/>
              <p:nvPr/>
            </p:nvSpPr>
            <p:spPr>
              <a:xfrm flipH="1" rot="19783200">
                <a:off x="2174400" y="5874480"/>
                <a:ext cx="42480" cy="691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80" h="452">
                    <a:moveTo>
                      <a:pt x="0" y="21"/>
                    </a:moveTo>
                    <a:lnTo>
                      <a:pt x="65" y="2"/>
                    </a:lnTo>
                    <a:lnTo>
                      <a:pt x="122" y="0"/>
                    </a:lnTo>
                    <a:lnTo>
                      <a:pt x="170" y="11"/>
                    </a:lnTo>
                    <a:lnTo>
                      <a:pt x="210" y="38"/>
                    </a:lnTo>
                    <a:lnTo>
                      <a:pt x="238" y="70"/>
                    </a:lnTo>
                    <a:lnTo>
                      <a:pt x="261" y="114"/>
                    </a:lnTo>
                    <a:lnTo>
                      <a:pt x="274" y="163"/>
                    </a:lnTo>
                    <a:lnTo>
                      <a:pt x="280" y="215"/>
                    </a:lnTo>
                    <a:lnTo>
                      <a:pt x="274" y="264"/>
                    </a:lnTo>
                    <a:lnTo>
                      <a:pt x="263" y="315"/>
                    </a:lnTo>
                    <a:lnTo>
                      <a:pt x="244" y="361"/>
                    </a:lnTo>
                    <a:lnTo>
                      <a:pt x="217" y="401"/>
                    </a:lnTo>
                    <a:lnTo>
                      <a:pt x="181" y="429"/>
                    </a:lnTo>
                    <a:lnTo>
                      <a:pt x="139" y="448"/>
                    </a:lnTo>
                    <a:lnTo>
                      <a:pt x="86" y="452"/>
                    </a:lnTo>
                    <a:lnTo>
                      <a:pt x="33" y="445"/>
                    </a:lnTo>
                    <a:lnTo>
                      <a:pt x="42" y="336"/>
                    </a:lnTo>
                    <a:lnTo>
                      <a:pt x="156" y="340"/>
                    </a:lnTo>
                    <a:lnTo>
                      <a:pt x="166" y="329"/>
                    </a:lnTo>
                    <a:lnTo>
                      <a:pt x="174" y="319"/>
                    </a:lnTo>
                    <a:lnTo>
                      <a:pt x="179" y="308"/>
                    </a:lnTo>
                    <a:lnTo>
                      <a:pt x="187" y="298"/>
                    </a:lnTo>
                    <a:lnTo>
                      <a:pt x="191" y="287"/>
                    </a:lnTo>
                    <a:lnTo>
                      <a:pt x="194" y="275"/>
                    </a:lnTo>
                    <a:lnTo>
                      <a:pt x="198" y="264"/>
                    </a:lnTo>
                    <a:lnTo>
                      <a:pt x="202" y="253"/>
                    </a:lnTo>
                    <a:lnTo>
                      <a:pt x="202" y="239"/>
                    </a:lnTo>
                    <a:lnTo>
                      <a:pt x="204" y="226"/>
                    </a:lnTo>
                    <a:lnTo>
                      <a:pt x="204" y="215"/>
                    </a:lnTo>
                    <a:lnTo>
                      <a:pt x="204" y="203"/>
                    </a:lnTo>
                    <a:lnTo>
                      <a:pt x="202" y="190"/>
                    </a:lnTo>
                    <a:lnTo>
                      <a:pt x="202" y="177"/>
                    </a:lnTo>
                    <a:lnTo>
                      <a:pt x="202" y="165"/>
                    </a:lnTo>
                    <a:lnTo>
                      <a:pt x="202" y="154"/>
                    </a:lnTo>
                    <a:lnTo>
                      <a:pt x="177" y="150"/>
                    </a:lnTo>
                    <a:lnTo>
                      <a:pt x="147" y="220"/>
                    </a:lnTo>
                    <a:lnTo>
                      <a:pt x="115" y="137"/>
                    </a:lnTo>
                    <a:lnTo>
                      <a:pt x="84" y="228"/>
                    </a:lnTo>
                    <a:lnTo>
                      <a:pt x="75" y="222"/>
                    </a:lnTo>
                    <a:lnTo>
                      <a:pt x="59" y="222"/>
                    </a:lnTo>
                    <a:lnTo>
                      <a:pt x="50" y="224"/>
                    </a:lnTo>
                    <a:lnTo>
                      <a:pt x="46" y="234"/>
                    </a:lnTo>
                    <a:lnTo>
                      <a:pt x="40" y="218"/>
                    </a:lnTo>
                    <a:lnTo>
                      <a:pt x="39" y="207"/>
                    </a:lnTo>
                    <a:lnTo>
                      <a:pt x="33" y="192"/>
                    </a:lnTo>
                    <a:lnTo>
                      <a:pt x="33" y="180"/>
                    </a:lnTo>
                    <a:lnTo>
                      <a:pt x="29" y="165"/>
                    </a:lnTo>
                    <a:lnTo>
                      <a:pt x="27" y="154"/>
                    </a:lnTo>
                    <a:lnTo>
                      <a:pt x="23" y="139"/>
                    </a:lnTo>
                    <a:lnTo>
                      <a:pt x="23" y="127"/>
                    </a:lnTo>
                    <a:lnTo>
                      <a:pt x="21" y="112"/>
                    </a:lnTo>
                    <a:lnTo>
                      <a:pt x="19" y="99"/>
                    </a:lnTo>
                    <a:lnTo>
                      <a:pt x="18" y="83"/>
                    </a:lnTo>
                    <a:lnTo>
                      <a:pt x="16" y="70"/>
                    </a:lnTo>
                    <a:lnTo>
                      <a:pt x="12" y="57"/>
                    </a:lnTo>
                    <a:lnTo>
                      <a:pt x="8" y="43"/>
                    </a:lnTo>
                    <a:lnTo>
                      <a:pt x="4" y="3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Freeform 138"/>
              <p:cNvSpPr/>
              <p:nvPr/>
            </p:nvSpPr>
            <p:spPr>
              <a:xfrm flipH="1" rot="19783200">
                <a:off x="2527560" y="5636160"/>
                <a:ext cx="381240" cy="3456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501" h="229">
                    <a:moveTo>
                      <a:pt x="46" y="145"/>
                    </a:moveTo>
                    <a:lnTo>
                      <a:pt x="843" y="113"/>
                    </a:lnTo>
                    <a:lnTo>
                      <a:pt x="1729" y="57"/>
                    </a:lnTo>
                    <a:lnTo>
                      <a:pt x="1679" y="16"/>
                    </a:lnTo>
                    <a:lnTo>
                      <a:pt x="2044" y="0"/>
                    </a:lnTo>
                    <a:lnTo>
                      <a:pt x="1921" y="57"/>
                    </a:lnTo>
                    <a:lnTo>
                      <a:pt x="2098" y="137"/>
                    </a:lnTo>
                    <a:lnTo>
                      <a:pt x="2501" y="137"/>
                    </a:lnTo>
                    <a:lnTo>
                      <a:pt x="2023" y="194"/>
                    </a:lnTo>
                    <a:lnTo>
                      <a:pt x="1907" y="120"/>
                    </a:lnTo>
                    <a:lnTo>
                      <a:pt x="1778" y="187"/>
                    </a:lnTo>
                    <a:lnTo>
                      <a:pt x="1742" y="99"/>
                    </a:lnTo>
                    <a:lnTo>
                      <a:pt x="1613" y="183"/>
                    </a:lnTo>
                    <a:lnTo>
                      <a:pt x="1563" y="124"/>
                    </a:lnTo>
                    <a:lnTo>
                      <a:pt x="1438" y="166"/>
                    </a:lnTo>
                    <a:lnTo>
                      <a:pt x="1407" y="124"/>
                    </a:lnTo>
                    <a:lnTo>
                      <a:pt x="1291" y="183"/>
                    </a:lnTo>
                    <a:lnTo>
                      <a:pt x="1250" y="103"/>
                    </a:lnTo>
                    <a:lnTo>
                      <a:pt x="966" y="208"/>
                    </a:lnTo>
                    <a:lnTo>
                      <a:pt x="934" y="124"/>
                    </a:lnTo>
                    <a:lnTo>
                      <a:pt x="660" y="187"/>
                    </a:lnTo>
                    <a:lnTo>
                      <a:pt x="423" y="183"/>
                    </a:lnTo>
                    <a:lnTo>
                      <a:pt x="327" y="229"/>
                    </a:lnTo>
                    <a:lnTo>
                      <a:pt x="0" y="219"/>
                    </a:lnTo>
                    <a:lnTo>
                      <a:pt x="46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Freeform 139"/>
              <p:cNvSpPr/>
              <p:nvPr/>
            </p:nvSpPr>
            <p:spPr>
              <a:xfrm flipH="1" rot="19783200">
                <a:off x="2812680" y="5634000"/>
                <a:ext cx="86040" cy="8928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5" h="586">
                    <a:moveTo>
                      <a:pt x="291" y="0"/>
                    </a:moveTo>
                    <a:lnTo>
                      <a:pt x="407" y="4"/>
                    </a:lnTo>
                    <a:lnTo>
                      <a:pt x="352" y="63"/>
                    </a:lnTo>
                    <a:lnTo>
                      <a:pt x="460" y="88"/>
                    </a:lnTo>
                    <a:lnTo>
                      <a:pt x="382" y="190"/>
                    </a:lnTo>
                    <a:lnTo>
                      <a:pt x="485" y="242"/>
                    </a:lnTo>
                    <a:lnTo>
                      <a:pt x="407" y="344"/>
                    </a:lnTo>
                    <a:lnTo>
                      <a:pt x="477" y="378"/>
                    </a:lnTo>
                    <a:lnTo>
                      <a:pt x="428" y="453"/>
                    </a:lnTo>
                    <a:lnTo>
                      <a:pt x="565" y="536"/>
                    </a:lnTo>
                    <a:lnTo>
                      <a:pt x="415" y="586"/>
                    </a:lnTo>
                    <a:lnTo>
                      <a:pt x="344" y="329"/>
                    </a:lnTo>
                    <a:lnTo>
                      <a:pt x="0" y="320"/>
                    </a:lnTo>
                    <a:lnTo>
                      <a:pt x="249" y="266"/>
                    </a:lnTo>
                    <a:lnTo>
                      <a:pt x="215" y="207"/>
                    </a:lnTo>
                    <a:lnTo>
                      <a:pt x="323" y="162"/>
                    </a:lnTo>
                    <a:lnTo>
                      <a:pt x="221" y="53"/>
                    </a:lnTo>
                    <a:lnTo>
                      <a:pt x="352" y="74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Freeform 140"/>
              <p:cNvSpPr/>
              <p:nvPr/>
            </p:nvSpPr>
            <p:spPr>
              <a:xfrm flipH="1" rot="19783200">
                <a:off x="2915280" y="5657400"/>
                <a:ext cx="15840" cy="298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05" h="196">
                    <a:moveTo>
                      <a:pt x="91" y="0"/>
                    </a:moveTo>
                    <a:lnTo>
                      <a:pt x="105" y="196"/>
                    </a:lnTo>
                    <a:lnTo>
                      <a:pt x="0" y="183"/>
                    </a:lnTo>
                    <a:lnTo>
                      <a:pt x="91" y="92"/>
                    </a:lnTo>
                    <a:lnTo>
                      <a:pt x="34" y="1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Freeform 141"/>
              <p:cNvSpPr/>
              <p:nvPr/>
            </p:nvSpPr>
            <p:spPr>
              <a:xfrm flipH="1" rot="19783200">
                <a:off x="2460600" y="5764320"/>
                <a:ext cx="40680" cy="529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8" h="348">
                    <a:moveTo>
                      <a:pt x="0" y="0"/>
                    </a:moveTo>
                    <a:lnTo>
                      <a:pt x="25" y="190"/>
                    </a:lnTo>
                    <a:lnTo>
                      <a:pt x="91" y="316"/>
                    </a:lnTo>
                    <a:lnTo>
                      <a:pt x="112" y="253"/>
                    </a:lnTo>
                    <a:lnTo>
                      <a:pt x="194" y="348"/>
                    </a:lnTo>
                    <a:lnTo>
                      <a:pt x="194" y="281"/>
                    </a:lnTo>
                    <a:lnTo>
                      <a:pt x="268" y="323"/>
                    </a:lnTo>
                    <a:lnTo>
                      <a:pt x="234" y="148"/>
                    </a:lnTo>
                    <a:lnTo>
                      <a:pt x="165" y="200"/>
                    </a:lnTo>
                    <a:lnTo>
                      <a:pt x="145" y="28"/>
                    </a:lnTo>
                    <a:lnTo>
                      <a:pt x="91" y="137"/>
                    </a:lnTo>
                    <a:lnTo>
                      <a:pt x="70" y="4"/>
                    </a:lnTo>
                    <a:lnTo>
                      <a:pt x="36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Freeform 142"/>
              <p:cNvSpPr/>
              <p:nvPr/>
            </p:nvSpPr>
            <p:spPr>
              <a:xfrm flipH="1" rot="19783200">
                <a:off x="2345400" y="5802120"/>
                <a:ext cx="126000" cy="12960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25" h="846">
                    <a:moveTo>
                      <a:pt x="0" y="0"/>
                    </a:moveTo>
                    <a:lnTo>
                      <a:pt x="29" y="365"/>
                    </a:lnTo>
                    <a:lnTo>
                      <a:pt x="133" y="407"/>
                    </a:lnTo>
                    <a:lnTo>
                      <a:pt x="103" y="485"/>
                    </a:lnTo>
                    <a:lnTo>
                      <a:pt x="186" y="544"/>
                    </a:lnTo>
                    <a:lnTo>
                      <a:pt x="173" y="618"/>
                    </a:lnTo>
                    <a:lnTo>
                      <a:pt x="253" y="670"/>
                    </a:lnTo>
                    <a:lnTo>
                      <a:pt x="240" y="702"/>
                    </a:lnTo>
                    <a:lnTo>
                      <a:pt x="344" y="723"/>
                    </a:lnTo>
                    <a:lnTo>
                      <a:pt x="435" y="806"/>
                    </a:lnTo>
                    <a:lnTo>
                      <a:pt x="502" y="786"/>
                    </a:lnTo>
                    <a:lnTo>
                      <a:pt x="531" y="839"/>
                    </a:lnTo>
                    <a:lnTo>
                      <a:pt x="667" y="789"/>
                    </a:lnTo>
                    <a:lnTo>
                      <a:pt x="677" y="846"/>
                    </a:lnTo>
                    <a:lnTo>
                      <a:pt x="793" y="825"/>
                    </a:lnTo>
                    <a:lnTo>
                      <a:pt x="763" y="768"/>
                    </a:lnTo>
                    <a:lnTo>
                      <a:pt x="825" y="727"/>
                    </a:lnTo>
                    <a:lnTo>
                      <a:pt x="576" y="734"/>
                    </a:lnTo>
                    <a:lnTo>
                      <a:pt x="365" y="670"/>
                    </a:lnTo>
                    <a:lnTo>
                      <a:pt x="207" y="474"/>
                    </a:lnTo>
                    <a:lnTo>
                      <a:pt x="179" y="186"/>
                    </a:lnTo>
                    <a:lnTo>
                      <a:pt x="103" y="323"/>
                    </a:lnTo>
                    <a:lnTo>
                      <a:pt x="5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Freeform 143"/>
              <p:cNvSpPr/>
              <p:nvPr/>
            </p:nvSpPr>
            <p:spPr>
              <a:xfrm flipH="1" rot="19783200">
                <a:off x="2244960" y="5736240"/>
                <a:ext cx="152640" cy="160200"/>
              </a:xfrm>
              <a:custGeom>
                <a:avLst/>
                <a:gdLst>
                  <a:gd name="textAreaLeft" fmla="*/ 360 w 152640"/>
                  <a:gd name="textAreaRight" fmla="*/ 153360 w 152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000" h="1048">
                    <a:moveTo>
                      <a:pt x="0" y="112"/>
                    </a:moveTo>
                    <a:lnTo>
                      <a:pt x="171" y="17"/>
                    </a:lnTo>
                    <a:lnTo>
                      <a:pt x="287" y="0"/>
                    </a:lnTo>
                    <a:lnTo>
                      <a:pt x="395" y="72"/>
                    </a:lnTo>
                    <a:lnTo>
                      <a:pt x="466" y="17"/>
                    </a:lnTo>
                    <a:lnTo>
                      <a:pt x="578" y="121"/>
                    </a:lnTo>
                    <a:lnTo>
                      <a:pt x="623" y="62"/>
                    </a:lnTo>
                    <a:lnTo>
                      <a:pt x="684" y="196"/>
                    </a:lnTo>
                    <a:lnTo>
                      <a:pt x="747" y="158"/>
                    </a:lnTo>
                    <a:lnTo>
                      <a:pt x="789" y="325"/>
                    </a:lnTo>
                    <a:lnTo>
                      <a:pt x="859" y="262"/>
                    </a:lnTo>
                    <a:lnTo>
                      <a:pt x="863" y="428"/>
                    </a:lnTo>
                    <a:lnTo>
                      <a:pt x="926" y="420"/>
                    </a:lnTo>
                    <a:lnTo>
                      <a:pt x="975" y="574"/>
                    </a:lnTo>
                    <a:lnTo>
                      <a:pt x="1000" y="764"/>
                    </a:lnTo>
                    <a:lnTo>
                      <a:pt x="1000" y="1048"/>
                    </a:lnTo>
                    <a:lnTo>
                      <a:pt x="975" y="869"/>
                    </a:lnTo>
                    <a:lnTo>
                      <a:pt x="905" y="1038"/>
                    </a:lnTo>
                    <a:lnTo>
                      <a:pt x="905" y="911"/>
                    </a:lnTo>
                    <a:lnTo>
                      <a:pt x="859" y="981"/>
                    </a:lnTo>
                    <a:lnTo>
                      <a:pt x="914" y="690"/>
                    </a:lnTo>
                    <a:lnTo>
                      <a:pt x="884" y="574"/>
                    </a:lnTo>
                    <a:lnTo>
                      <a:pt x="852" y="606"/>
                    </a:lnTo>
                    <a:lnTo>
                      <a:pt x="776" y="374"/>
                    </a:lnTo>
                    <a:lnTo>
                      <a:pt x="614" y="178"/>
                    </a:lnTo>
                    <a:lnTo>
                      <a:pt x="452" y="121"/>
                    </a:lnTo>
                    <a:lnTo>
                      <a:pt x="211" y="133"/>
                    </a:lnTo>
                    <a:lnTo>
                      <a:pt x="38" y="249"/>
                    </a:lnTo>
                    <a:lnTo>
                      <a:pt x="175" y="6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Freeform 144"/>
              <p:cNvSpPr/>
              <p:nvPr/>
            </p:nvSpPr>
            <p:spPr>
              <a:xfrm flipH="1" rot="19783200">
                <a:off x="2228760" y="5887800"/>
                <a:ext cx="17640" cy="345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16" h="224">
                    <a:moveTo>
                      <a:pt x="116" y="0"/>
                    </a:moveTo>
                    <a:lnTo>
                      <a:pt x="91" y="200"/>
                    </a:lnTo>
                    <a:lnTo>
                      <a:pt x="65" y="158"/>
                    </a:lnTo>
                    <a:lnTo>
                      <a:pt x="4" y="224"/>
                    </a:lnTo>
                    <a:lnTo>
                      <a:pt x="0" y="66"/>
                    </a:lnTo>
                    <a:lnTo>
                      <a:pt x="50" y="101"/>
                    </a:lnTo>
                    <a:lnTo>
                      <a:pt x="53" y="13"/>
                    </a:lnTo>
                    <a:lnTo>
                      <a:pt x="82" y="4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reeform 145"/>
              <p:cNvSpPr/>
              <p:nvPr/>
            </p:nvSpPr>
            <p:spPr>
              <a:xfrm flipH="1" rot="19783200">
                <a:off x="2190960" y="5907960"/>
                <a:ext cx="15840" cy="140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04" h="95">
                    <a:moveTo>
                      <a:pt x="0" y="29"/>
                    </a:moveTo>
                    <a:lnTo>
                      <a:pt x="0" y="95"/>
                    </a:lnTo>
                    <a:lnTo>
                      <a:pt x="72" y="92"/>
                    </a:lnTo>
                    <a:lnTo>
                      <a:pt x="104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u"/>
    <p:sndAc>
      <p:stSnd>
        <p:snd r:embed="rId2" name="projctor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9EC5-2AA9-41B9-8FB0-5233076CA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Group 13"/>
          <p:cNvGrpSpPr/>
          <p:nvPr/>
        </p:nvGrpSpPr>
        <p:grpSpPr>
          <a:xfrm>
            <a:off x="152640" y="228600"/>
            <a:ext cx="8883360" cy="762120"/>
            <a:chOff x="152640" y="228600"/>
            <a:chExt cx="8883360" cy="762120"/>
          </a:xfrm>
        </p:grpSpPr>
        <p:grpSp>
          <p:nvGrpSpPr>
            <p:cNvPr id="299" name="Group 10"/>
            <p:cNvGrpSpPr/>
            <p:nvPr/>
          </p:nvGrpSpPr>
          <p:grpSpPr>
            <a:xfrm>
              <a:off x="152640" y="228600"/>
              <a:ext cx="8883360" cy="686880"/>
              <a:chOff x="152640" y="228600"/>
              <a:chExt cx="8883360" cy="686880"/>
            </a:xfrm>
          </p:grpSpPr>
          <p:sp>
            <p:nvSpPr>
              <p:cNvPr id="300" name="Text Box 3"/>
              <p:cNvSpPr/>
              <p:nvPr/>
            </p:nvSpPr>
            <p:spPr>
              <a:xfrm>
                <a:off x="152640" y="344520"/>
                <a:ext cx="28234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Cláusula Principal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5"/>
              <p:cNvSpPr/>
              <p:nvPr/>
            </p:nvSpPr>
            <p:spPr>
              <a:xfrm>
                <a:off x="3811680" y="34452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QUE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Text Box 6"/>
              <p:cNvSpPr/>
              <p:nvPr/>
            </p:nvSpPr>
            <p:spPr>
              <a:xfrm>
                <a:off x="5639760" y="344520"/>
                <a:ext cx="3396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Cláusula Subordinada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Text Box 7"/>
              <p:cNvSpPr/>
              <p:nvPr/>
            </p:nvSpPr>
            <p:spPr>
              <a:xfrm>
                <a:off x="2055600" y="3459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Text Box 8"/>
              <p:cNvSpPr/>
              <p:nvPr/>
            </p:nvSpPr>
            <p:spPr>
              <a:xfrm>
                <a:off x="3139920" y="228600"/>
                <a:ext cx="441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Text Box 9"/>
              <p:cNvSpPr/>
              <p:nvPr/>
            </p:nvSpPr>
            <p:spPr>
              <a:xfrm>
                <a:off x="4954320" y="272880"/>
                <a:ext cx="441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" name="Line 12"/>
            <p:cNvSpPr/>
            <p:nvPr/>
          </p:nvSpPr>
          <p:spPr>
            <a:xfrm>
              <a:off x="304560" y="990720"/>
              <a:ext cx="8610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Text Box 14"/>
          <p:cNvSpPr/>
          <p:nvPr/>
        </p:nvSpPr>
        <p:spPr>
          <a:xfrm>
            <a:off x="360720" y="2021040"/>
            <a:ext cx="288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iv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bo especial”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5937480" y="2057400"/>
            <a:ext cx="27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jeto diferent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juntiv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20"/>
          <p:cNvGrpSpPr/>
          <p:nvPr/>
        </p:nvGrpSpPr>
        <p:grpSpPr>
          <a:xfrm>
            <a:off x="914400" y="3733920"/>
            <a:ext cx="7315200" cy="2827080"/>
            <a:chOff x="914400" y="3733920"/>
            <a:chExt cx="7315200" cy="2827080"/>
          </a:xfrm>
        </p:grpSpPr>
        <p:pic>
          <p:nvPicPr>
            <p:cNvPr id="310" name="Picture 17" descr="C:\Program Files\Microsoft Office\Clipart\Powerpnt\talk1.wmf"/>
            <p:cNvPicPr/>
            <p:nvPr/>
          </p:nvPicPr>
          <p:blipFill>
            <a:blip r:embed="rId1"/>
            <a:stretch/>
          </p:blipFill>
          <p:spPr>
            <a:xfrm>
              <a:off x="914400" y="4114800"/>
              <a:ext cx="85896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AutoShape 18"/>
            <p:cNvSpPr/>
            <p:nvPr/>
          </p:nvSpPr>
          <p:spPr>
            <a:xfrm>
              <a:off x="1981080" y="3733920"/>
              <a:ext cx="6248520" cy="1143000"/>
            </a:xfrm>
            <a:prstGeom prst="wedgeRoundRectCallout">
              <a:avLst>
                <a:gd name="adj1" fmla="val -44129"/>
                <a:gd name="adj2" fmla="val 7666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2069280" y="4038480"/>
              <a:ext cx="60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necesi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QU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s estudiante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haga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 tarea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2" name="projctor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435C-F76E-4A44-B3B3-9819C81E3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834840" y="390600"/>
            <a:ext cx="464040" cy="5946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W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I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D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287440" y="38088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W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ish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346120" y="15238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motio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2905560" y="259092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mpersonal Expressions (Es + adj.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354040" y="365760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equest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406240" y="48006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oubt /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eni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493360" y="5867280"/>
            <a:ext cx="26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bligation /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jalá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D4B4-6133-42F8-A2EB-89CE8732F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76920" y="304920"/>
            <a:ext cx="618228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rbos especiales” de…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8"/>
          <p:cNvGrpSpPr/>
          <p:nvPr/>
        </p:nvGrpSpPr>
        <p:grpSpPr>
          <a:xfrm>
            <a:off x="457200" y="1371600"/>
            <a:ext cx="1849320" cy="1739880"/>
            <a:chOff x="457200" y="1371600"/>
            <a:chExt cx="1849320" cy="1739880"/>
          </a:xfrm>
        </p:grpSpPr>
        <p:pic>
          <p:nvPicPr>
            <p:cNvPr id="324" name="Picture 2" descr="c:\Program Files\Common Files\Microsoft Shared\Clipart\cagcat50\bd07175_.wmf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184932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7"/>
            <p:cNvSpPr/>
            <p:nvPr/>
          </p:nvSpPr>
          <p:spPr>
            <a:xfrm>
              <a:off x="623520" y="2590920"/>
              <a:ext cx="15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Emoción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6248520" y="4648320"/>
            <a:ext cx="2057400" cy="1892160"/>
            <a:chOff x="6248520" y="4648320"/>
            <a:chExt cx="2057400" cy="1892160"/>
          </a:xfrm>
        </p:grpSpPr>
        <p:pic>
          <p:nvPicPr>
            <p:cNvPr id="327" name="Picture 3" descr="c:\Program Files\Common Files\Microsoft Shared\Clipart\cagcat50\bd04956_.wmf"/>
            <p:cNvPicPr/>
            <p:nvPr/>
          </p:nvPicPr>
          <p:blipFill>
            <a:blip r:embed="rId2"/>
            <a:stretch/>
          </p:blipFill>
          <p:spPr>
            <a:xfrm>
              <a:off x="6248520" y="4648320"/>
              <a:ext cx="20574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9"/>
            <p:cNvSpPr/>
            <p:nvPr/>
          </p:nvSpPr>
          <p:spPr>
            <a:xfrm>
              <a:off x="6565320" y="6019920"/>
              <a:ext cx="150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Mandato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2057400" y="4038480"/>
            <a:ext cx="1525680" cy="2349360"/>
            <a:chOff x="2057400" y="4038480"/>
            <a:chExt cx="1525680" cy="2349360"/>
          </a:xfrm>
        </p:grpSpPr>
        <p:pic>
          <p:nvPicPr>
            <p:cNvPr id="330" name="Picture 4" descr="c:\Program Files\Common Files\Microsoft Shared\Clipart\cagcat50\bd04912_.wmf"/>
            <p:cNvPicPr/>
            <p:nvPr/>
          </p:nvPicPr>
          <p:blipFill>
            <a:blip r:embed="rId3"/>
            <a:stretch/>
          </p:blipFill>
          <p:spPr>
            <a:xfrm>
              <a:off x="2057400" y="4038480"/>
              <a:ext cx="15256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11"/>
            <p:cNvSpPr/>
            <p:nvPr/>
          </p:nvSpPr>
          <p:spPr>
            <a:xfrm>
              <a:off x="2325960" y="586728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Duda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Group 14"/>
          <p:cNvGrpSpPr/>
          <p:nvPr/>
        </p:nvGrpSpPr>
        <p:grpSpPr>
          <a:xfrm>
            <a:off x="4876920" y="1600200"/>
            <a:ext cx="1827000" cy="2273040"/>
            <a:chOff x="4876920" y="1600200"/>
            <a:chExt cx="1827000" cy="2273040"/>
          </a:xfrm>
        </p:grpSpPr>
        <p:pic>
          <p:nvPicPr>
            <p:cNvPr id="333" name="Picture 5" descr="c:\Office2000\Clipart\Pub60Cor\bd00146_.wmf"/>
            <p:cNvPicPr/>
            <p:nvPr/>
          </p:nvPicPr>
          <p:blipFill>
            <a:blip r:embed="rId4"/>
            <a:stretch/>
          </p:blipFill>
          <p:spPr>
            <a:xfrm>
              <a:off x="4876920" y="1600200"/>
              <a:ext cx="182700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3"/>
            <p:cNvSpPr/>
            <p:nvPr/>
          </p:nvSpPr>
          <p:spPr>
            <a:xfrm>
              <a:off x="4932000" y="335268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Influencia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5" name="projctor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A479-7BA2-42A8-B58E-94B849B14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Group 25"/>
          <p:cNvGrpSpPr/>
          <p:nvPr/>
        </p:nvGrpSpPr>
        <p:grpSpPr>
          <a:xfrm>
            <a:off x="359640" y="304920"/>
            <a:ext cx="5386320" cy="1221480"/>
            <a:chOff x="359640" y="304920"/>
            <a:chExt cx="5386320" cy="1221480"/>
          </a:xfrm>
        </p:grpSpPr>
        <p:grpSp>
          <p:nvGrpSpPr>
            <p:cNvPr id="337" name="Group 17"/>
            <p:cNvGrpSpPr/>
            <p:nvPr/>
          </p:nvGrpSpPr>
          <p:grpSpPr>
            <a:xfrm>
              <a:off x="359640" y="304920"/>
              <a:ext cx="1316160" cy="1221480"/>
              <a:chOff x="359640" y="304920"/>
              <a:chExt cx="1316160" cy="1221480"/>
            </a:xfrm>
          </p:grpSpPr>
          <p:pic>
            <p:nvPicPr>
              <p:cNvPr id="338" name="Picture 3" descr="c:\Program Files\Common Files\Microsoft Shared\Clipart\cagcat50\bd07175_.wmf"/>
              <p:cNvPicPr/>
              <p:nvPr/>
            </p:nvPicPr>
            <p:blipFill>
              <a:blip r:embed="rId1"/>
              <a:stretch/>
            </p:blipFill>
            <p:spPr>
              <a:xfrm>
                <a:off x="380880" y="304920"/>
                <a:ext cx="1257480" cy="82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Text Box 4"/>
              <p:cNvSpPr/>
              <p:nvPr/>
            </p:nvSpPr>
            <p:spPr>
              <a:xfrm>
                <a:off x="359640" y="106668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moción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21"/>
            <p:cNvSpPr/>
            <p:nvPr/>
          </p:nvSpPr>
          <p:spPr>
            <a:xfrm>
              <a:off x="1950480" y="320400"/>
              <a:ext cx="37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legrarse de, tener miedo de,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emer, gustar, molestar, etc…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Group 26"/>
          <p:cNvGrpSpPr/>
          <p:nvPr/>
        </p:nvGrpSpPr>
        <p:grpSpPr>
          <a:xfrm>
            <a:off x="305280" y="3581280"/>
            <a:ext cx="6498000" cy="1678680"/>
            <a:chOff x="305280" y="3581280"/>
            <a:chExt cx="6498000" cy="1678680"/>
          </a:xfrm>
        </p:grpSpPr>
        <p:grpSp>
          <p:nvGrpSpPr>
            <p:cNvPr id="342" name="Group 18"/>
            <p:cNvGrpSpPr/>
            <p:nvPr/>
          </p:nvGrpSpPr>
          <p:grpSpPr>
            <a:xfrm>
              <a:off x="305280" y="3581280"/>
              <a:ext cx="1503720" cy="1678680"/>
              <a:chOff x="305280" y="3581280"/>
              <a:chExt cx="1503720" cy="1678680"/>
            </a:xfrm>
          </p:grpSpPr>
          <p:pic>
            <p:nvPicPr>
              <p:cNvPr id="343" name="Picture 6" descr="c:\Office2000\Clipart\Pub60Cor\bd00146_.wmf"/>
              <p:cNvPicPr/>
              <p:nvPr/>
            </p:nvPicPr>
            <p:blipFill>
              <a:blip r:embed="rId2"/>
              <a:stretch/>
            </p:blipFill>
            <p:spPr>
              <a:xfrm>
                <a:off x="457200" y="3581280"/>
                <a:ext cx="1241640" cy="12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7"/>
              <p:cNvSpPr/>
              <p:nvPr/>
            </p:nvSpPr>
            <p:spPr>
              <a:xfrm>
                <a:off x="305280" y="4800240"/>
                <a:ext cx="150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Influencia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Text Box 22"/>
            <p:cNvSpPr/>
            <p:nvPr/>
          </p:nvSpPr>
          <p:spPr>
            <a:xfrm>
              <a:off x="1811160" y="3749400"/>
              <a:ext cx="499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querer, requerer, desear, sugerir, 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edir, preferir, necesitar, decir, esperar,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nsistir en etc. . .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Group 27"/>
          <p:cNvGrpSpPr/>
          <p:nvPr/>
        </p:nvGrpSpPr>
        <p:grpSpPr>
          <a:xfrm>
            <a:off x="3273840" y="1600200"/>
            <a:ext cx="5230440" cy="1755000"/>
            <a:chOff x="3273840" y="1600200"/>
            <a:chExt cx="5230440" cy="1755000"/>
          </a:xfrm>
        </p:grpSpPr>
        <p:grpSp>
          <p:nvGrpSpPr>
            <p:cNvPr id="347" name="Group 19"/>
            <p:cNvGrpSpPr/>
            <p:nvPr/>
          </p:nvGrpSpPr>
          <p:grpSpPr>
            <a:xfrm>
              <a:off x="7467480" y="1600200"/>
              <a:ext cx="1036800" cy="1755000"/>
              <a:chOff x="7467480" y="1600200"/>
              <a:chExt cx="1036800" cy="1755000"/>
            </a:xfrm>
          </p:grpSpPr>
          <p:pic>
            <p:nvPicPr>
              <p:cNvPr id="348" name="Picture 10" descr="c:\Program Files\Common Files\Microsoft Shared\Clipart\cagcat50\bd04912_.wmf"/>
              <p:cNvPicPr/>
              <p:nvPr/>
            </p:nvPicPr>
            <p:blipFill>
              <a:blip r:embed="rId3"/>
              <a:stretch/>
            </p:blipFill>
            <p:spPr>
              <a:xfrm>
                <a:off x="7467480" y="1600200"/>
                <a:ext cx="103680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Text Box 11"/>
              <p:cNvSpPr/>
              <p:nvPr/>
            </p:nvSpPr>
            <p:spPr>
              <a:xfrm>
                <a:off x="7504920" y="289548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uda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0" name="Text Box 23"/>
            <p:cNvSpPr/>
            <p:nvPr/>
          </p:nvSpPr>
          <p:spPr>
            <a:xfrm>
              <a:off x="3273840" y="1828800"/>
              <a:ext cx="403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udar, no creer, no pensar,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o estar seguro de, negar, etc…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Group 28"/>
          <p:cNvGrpSpPr/>
          <p:nvPr/>
        </p:nvGrpSpPr>
        <p:grpSpPr>
          <a:xfrm>
            <a:off x="2743200" y="5181480"/>
            <a:ext cx="5970600" cy="1297800"/>
            <a:chOff x="2743200" y="5181480"/>
            <a:chExt cx="5970600" cy="1297800"/>
          </a:xfrm>
        </p:grpSpPr>
        <p:grpSp>
          <p:nvGrpSpPr>
            <p:cNvPr id="352" name="Group 20"/>
            <p:cNvGrpSpPr/>
            <p:nvPr/>
          </p:nvGrpSpPr>
          <p:grpSpPr>
            <a:xfrm>
              <a:off x="7315200" y="5181480"/>
              <a:ext cx="1398600" cy="1297800"/>
              <a:chOff x="7315200" y="5181480"/>
              <a:chExt cx="1398600" cy="1297800"/>
            </a:xfrm>
          </p:grpSpPr>
          <p:pic>
            <p:nvPicPr>
              <p:cNvPr id="353" name="Picture 14" descr="c:\Program Files\Common Files\Microsoft Shared\Clipart\cagcat50\bd04956_.wmf"/>
              <p:cNvPicPr/>
              <p:nvPr/>
            </p:nvPicPr>
            <p:blipFill>
              <a:blip r:embed="rId4"/>
              <a:stretch/>
            </p:blipFill>
            <p:spPr>
              <a:xfrm>
                <a:off x="7315200" y="5181480"/>
                <a:ext cx="1398600" cy="94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Text Box 15"/>
              <p:cNvSpPr/>
              <p:nvPr/>
            </p:nvSpPr>
            <p:spPr>
              <a:xfrm>
                <a:off x="7392960" y="60195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Mandato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5" name="Text Box 24"/>
            <p:cNvSpPr/>
            <p:nvPr/>
          </p:nvSpPr>
          <p:spPr>
            <a:xfrm>
              <a:off x="2743200" y="5486040"/>
              <a:ext cx="470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andar, demandar, prohibir, ordenar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5" name="projctor.wav"/>
      </p:stSnd>
    </p:sndAc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2EA6-E033-4685-8FD1-0410A1C50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1195920" y="225360"/>
            <a:ext cx="676152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Las Expresiones Impersonale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60440" y="1523880"/>
            <a:ext cx="55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Requieren el uso del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bjuntiv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Group 11"/>
          <p:cNvGrpSpPr/>
          <p:nvPr/>
        </p:nvGrpSpPr>
        <p:grpSpPr>
          <a:xfrm>
            <a:off x="685800" y="2209680"/>
            <a:ext cx="7945920" cy="1557000"/>
            <a:chOff x="685800" y="2209680"/>
            <a:chExt cx="7945920" cy="1557000"/>
          </a:xfrm>
        </p:grpSpPr>
        <p:sp>
          <p:nvSpPr>
            <p:cNvPr id="360" name="Text Box 4"/>
            <p:cNvSpPr/>
            <p:nvPr/>
          </p:nvSpPr>
          <p:spPr>
            <a:xfrm>
              <a:off x="685800" y="2209680"/>
              <a:ext cx="5486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s necesario, es preciso, es posible, es imposible, es probable, es importante, es una lástima, es increíble, es mejor, más vale, está bien, etc…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5"/>
            <p:cNvSpPr/>
            <p:nvPr/>
          </p:nvSpPr>
          <p:spPr>
            <a:xfrm>
              <a:off x="6615360" y="2657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6"/>
            <p:cNvSpPr/>
            <p:nvPr/>
          </p:nvSpPr>
          <p:spPr>
            <a:xfrm>
              <a:off x="7682760" y="268128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QUE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Text Box 7"/>
          <p:cNvSpPr/>
          <p:nvPr/>
        </p:nvSpPr>
        <p:spPr>
          <a:xfrm>
            <a:off x="463320" y="4724280"/>
            <a:ext cx="57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V  O  C  E  S -- Usan el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dicativ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Group 12"/>
          <p:cNvGrpSpPr/>
          <p:nvPr/>
        </p:nvGrpSpPr>
        <p:grpSpPr>
          <a:xfrm>
            <a:off x="1319040" y="5502240"/>
            <a:ext cx="6490440" cy="825480"/>
            <a:chOff x="1319040" y="5502240"/>
            <a:chExt cx="6490440" cy="825480"/>
          </a:xfrm>
        </p:grpSpPr>
        <p:sp>
          <p:nvSpPr>
            <p:cNvPr id="365" name="Text Box 8"/>
            <p:cNvSpPr/>
            <p:nvPr/>
          </p:nvSpPr>
          <p:spPr>
            <a:xfrm>
              <a:off x="1319040" y="5502240"/>
              <a:ext cx="393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rdad, 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vio, 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erto,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laro, 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idente, 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guro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Text Box 9"/>
            <p:cNvSpPr/>
            <p:nvPr/>
          </p:nvSpPr>
          <p:spPr>
            <a:xfrm>
              <a:off x="5793120" y="5729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Text Box 10"/>
            <p:cNvSpPr/>
            <p:nvPr/>
          </p:nvSpPr>
          <p:spPr>
            <a:xfrm>
              <a:off x="6860520" y="572940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QUE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1" name="projctor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5508-61BA-4A59-890A-34F3C0B2A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228600" y="342900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19669" dir="34818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oudy Stout"/>
              </a:rPr>
              <a:t>El present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oudy Stout"/>
              </a:rPr>
              <a:t>Del subjuntivo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BE30-195B-4592-B65A-2D9FF5F37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951840" y="60948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-is used when the action of the verb i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n the present or future tense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404720" y="2286000"/>
            <a:ext cx="63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jalá que Juan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venga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a la fiesta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825120" y="3733920"/>
            <a:ext cx="76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-notice how we can assume that the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arty is in progress or is being planned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3131-1060-471D-B82F-A3DF27B1A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9"/>
          <p:cNvGrpSpPr/>
          <p:nvPr/>
        </p:nvGrpSpPr>
        <p:grpSpPr>
          <a:xfrm>
            <a:off x="457200" y="349200"/>
            <a:ext cx="7571520" cy="1936800"/>
            <a:chOff x="457200" y="349200"/>
            <a:chExt cx="7571520" cy="1936800"/>
          </a:xfrm>
        </p:grpSpPr>
        <p:pic>
          <p:nvPicPr>
            <p:cNvPr id="376" name="Picture 7" descr="C:\Program Files\Microsoft Office\Clipart\Scrbeans\NEEDHELP.WMF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1957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8"/>
            <p:cNvSpPr/>
            <p:nvPr/>
          </p:nvSpPr>
          <p:spPr>
            <a:xfrm>
              <a:off x="2137680" y="349200"/>
              <a:ext cx="58910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¿Cómo se forma el subjuntivo?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Text Box 10"/>
          <p:cNvSpPr/>
          <p:nvPr/>
        </p:nvSpPr>
        <p:spPr>
          <a:xfrm>
            <a:off x="2977920" y="1638360"/>
            <a:ext cx="573588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Empezar con la forma “YO”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Quitar la “o”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Poner las </a:t>
            </a:r>
            <a:r>
              <a:rPr b="1" i="1" lang="en-US" sz="2400" spc="-1" strike="noStrike">
                <a:solidFill>
                  <a:srgbClr val="ffffff"/>
                </a:solidFill>
                <a:latin typeface="Century Schoolbook"/>
              </a:rPr>
              <a:t>terminaciones opuest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R: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mos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s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é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R / -IR: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s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á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156A-E678-4136-821A-29FFFC965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Group 23"/>
          <p:cNvGrpSpPr/>
          <p:nvPr/>
        </p:nvGrpSpPr>
        <p:grpSpPr>
          <a:xfrm>
            <a:off x="165960" y="200520"/>
            <a:ext cx="5223600" cy="1780560"/>
            <a:chOff x="165960" y="200520"/>
            <a:chExt cx="5223600" cy="1780560"/>
          </a:xfrm>
        </p:grpSpPr>
        <p:sp>
          <p:nvSpPr>
            <p:cNvPr id="381" name="Text Box 2"/>
            <p:cNvSpPr/>
            <p:nvPr/>
          </p:nvSpPr>
          <p:spPr>
            <a:xfrm>
              <a:off x="1373040" y="228600"/>
              <a:ext cx="40165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</a:rPr>
                <a:t>Pero, ¡</a:t>
              </a:r>
              <a:r>
                <a:rPr b="1" i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recuerden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</a:rPr>
                <a:t>…!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Group 22"/>
            <p:cNvGrpSpPr/>
            <p:nvPr/>
          </p:nvGrpSpPr>
          <p:grpSpPr>
            <a:xfrm>
              <a:off x="165960" y="200520"/>
              <a:ext cx="1111680" cy="1780560"/>
              <a:chOff x="165960" y="200520"/>
              <a:chExt cx="1111680" cy="1780560"/>
            </a:xfrm>
          </p:grpSpPr>
          <p:pic>
            <p:nvPicPr>
              <p:cNvPr id="383" name="Picture 21" descr="C:\Program Files\Microsoft Office\Clipart\Powerpnt\finger2.wmf"/>
              <p:cNvPicPr/>
              <p:nvPr/>
            </p:nvPicPr>
            <p:blipFill>
              <a:blip r:embed="rId1"/>
              <a:stretch/>
            </p:blipFill>
            <p:spPr>
              <a:xfrm>
                <a:off x="474840" y="334080"/>
                <a:ext cx="802800" cy="164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4" name="Group 19"/>
              <p:cNvGrpSpPr/>
              <p:nvPr/>
            </p:nvGrpSpPr>
            <p:grpSpPr>
              <a:xfrm>
                <a:off x="165960" y="200520"/>
                <a:ext cx="962640" cy="684000"/>
                <a:chOff x="165960" y="200520"/>
                <a:chExt cx="962640" cy="684000"/>
              </a:xfrm>
            </p:grpSpPr>
            <p:grpSp>
              <p:nvGrpSpPr>
                <p:cNvPr id="385" name="Group 18"/>
                <p:cNvGrpSpPr/>
                <p:nvPr/>
              </p:nvGrpSpPr>
              <p:grpSpPr>
                <a:xfrm>
                  <a:off x="165960" y="200520"/>
                  <a:ext cx="962640" cy="684000"/>
                  <a:chOff x="165960" y="200520"/>
                  <a:chExt cx="962640" cy="684000"/>
                </a:xfrm>
              </p:grpSpPr>
              <p:sp>
                <p:nvSpPr>
                  <p:cNvPr id="386" name="Freeform 10"/>
                  <p:cNvSpPr/>
                  <p:nvPr/>
                </p:nvSpPr>
                <p:spPr>
                  <a:xfrm rot="18609000">
                    <a:off x="703080" y="290520"/>
                    <a:ext cx="334080" cy="209520"/>
                  </a:xfrm>
                  <a:custGeom>
                    <a:avLst/>
                    <a:gdLst>
                      <a:gd name="textAreaLeft" fmla="*/ 0 w 334080"/>
                      <a:gd name="textAreaRight" fmla="*/ 334080 w 33408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229" h="145">
                        <a:moveTo>
                          <a:pt x="0" y="19"/>
                        </a:moveTo>
                        <a:lnTo>
                          <a:pt x="14" y="36"/>
                        </a:lnTo>
                        <a:lnTo>
                          <a:pt x="26" y="52"/>
                        </a:lnTo>
                        <a:lnTo>
                          <a:pt x="38" y="65"/>
                        </a:lnTo>
                        <a:lnTo>
                          <a:pt x="48" y="76"/>
                        </a:lnTo>
                        <a:lnTo>
                          <a:pt x="60" y="88"/>
                        </a:lnTo>
                        <a:lnTo>
                          <a:pt x="73" y="98"/>
                        </a:lnTo>
                        <a:lnTo>
                          <a:pt x="86" y="110"/>
                        </a:lnTo>
                        <a:lnTo>
                          <a:pt x="104" y="123"/>
                        </a:lnTo>
                        <a:lnTo>
                          <a:pt x="118" y="133"/>
                        </a:lnTo>
                        <a:lnTo>
                          <a:pt x="134" y="140"/>
                        </a:lnTo>
                        <a:lnTo>
                          <a:pt x="150" y="144"/>
                        </a:lnTo>
                        <a:lnTo>
                          <a:pt x="166" y="145"/>
                        </a:lnTo>
                        <a:lnTo>
                          <a:pt x="182" y="144"/>
                        </a:lnTo>
                        <a:lnTo>
                          <a:pt x="197" y="138"/>
                        </a:lnTo>
                        <a:lnTo>
                          <a:pt x="211" y="129"/>
                        </a:lnTo>
                        <a:lnTo>
                          <a:pt x="221" y="115"/>
                        </a:lnTo>
                        <a:lnTo>
                          <a:pt x="228" y="97"/>
                        </a:lnTo>
                        <a:lnTo>
                          <a:pt x="229" y="79"/>
                        </a:lnTo>
                        <a:lnTo>
                          <a:pt x="224" y="61"/>
                        </a:lnTo>
                        <a:lnTo>
                          <a:pt x="213" y="44"/>
                        </a:lnTo>
                        <a:lnTo>
                          <a:pt x="197" y="30"/>
                        </a:lnTo>
                        <a:lnTo>
                          <a:pt x="179" y="17"/>
                        </a:lnTo>
                        <a:lnTo>
                          <a:pt x="157" y="8"/>
                        </a:lnTo>
                        <a:lnTo>
                          <a:pt x="133" y="4"/>
                        </a:lnTo>
                        <a:lnTo>
                          <a:pt x="109" y="1"/>
                        </a:lnTo>
                        <a:lnTo>
                          <a:pt x="91" y="0"/>
                        </a:lnTo>
                        <a:lnTo>
                          <a:pt x="75" y="0"/>
                        </a:lnTo>
                        <a:lnTo>
                          <a:pt x="62" y="0"/>
                        </a:lnTo>
                        <a:lnTo>
                          <a:pt x="50" y="2"/>
                        </a:lnTo>
                        <a:lnTo>
                          <a:pt x="38" y="4"/>
                        </a:lnTo>
                        <a:lnTo>
                          <a:pt x="26" y="6"/>
                        </a:lnTo>
                        <a:lnTo>
                          <a:pt x="14" y="8"/>
                        </a:lnTo>
                        <a:lnTo>
                          <a:pt x="25" y="22"/>
                        </a:lnTo>
                        <a:lnTo>
                          <a:pt x="36" y="20"/>
                        </a:lnTo>
                        <a:lnTo>
                          <a:pt x="47" y="19"/>
                        </a:lnTo>
                        <a:lnTo>
                          <a:pt x="60" y="16"/>
                        </a:lnTo>
                        <a:lnTo>
                          <a:pt x="74" y="15"/>
                        </a:lnTo>
                        <a:lnTo>
                          <a:pt x="89" y="15"/>
                        </a:lnTo>
                        <a:lnTo>
                          <a:pt x="106" y="16"/>
                        </a:lnTo>
                        <a:lnTo>
                          <a:pt x="126" y="19"/>
                        </a:lnTo>
                        <a:lnTo>
                          <a:pt x="146" y="23"/>
                        </a:lnTo>
                        <a:lnTo>
                          <a:pt x="165" y="29"/>
                        </a:lnTo>
                        <a:lnTo>
                          <a:pt x="181" y="38"/>
                        </a:lnTo>
                        <a:lnTo>
                          <a:pt x="192" y="47"/>
                        </a:lnTo>
                        <a:lnTo>
                          <a:pt x="202" y="58"/>
                        </a:lnTo>
                        <a:lnTo>
                          <a:pt x="207" y="68"/>
                        </a:lnTo>
                        <a:lnTo>
                          <a:pt x="211" y="79"/>
                        </a:lnTo>
                        <a:lnTo>
                          <a:pt x="212" y="88"/>
                        </a:lnTo>
                        <a:lnTo>
                          <a:pt x="212" y="96"/>
                        </a:lnTo>
                        <a:lnTo>
                          <a:pt x="210" y="103"/>
                        </a:lnTo>
                        <a:lnTo>
                          <a:pt x="205" y="111"/>
                        </a:lnTo>
                        <a:lnTo>
                          <a:pt x="198" y="117"/>
                        </a:lnTo>
                        <a:lnTo>
                          <a:pt x="189" y="122"/>
                        </a:lnTo>
                        <a:lnTo>
                          <a:pt x="179" y="126"/>
                        </a:lnTo>
                        <a:lnTo>
                          <a:pt x="166" y="128"/>
                        </a:lnTo>
                        <a:lnTo>
                          <a:pt x="153" y="127"/>
                        </a:lnTo>
                        <a:lnTo>
                          <a:pt x="139" y="123"/>
                        </a:lnTo>
                        <a:lnTo>
                          <a:pt x="128" y="118"/>
                        </a:lnTo>
                        <a:lnTo>
                          <a:pt x="113" y="108"/>
                        </a:lnTo>
                        <a:lnTo>
                          <a:pt x="97" y="96"/>
                        </a:lnTo>
                        <a:lnTo>
                          <a:pt x="81" y="81"/>
                        </a:lnTo>
                        <a:lnTo>
                          <a:pt x="65" y="66"/>
                        </a:lnTo>
                        <a:lnTo>
                          <a:pt x="50" y="51"/>
                        </a:lnTo>
                        <a:lnTo>
                          <a:pt x="36" y="36"/>
                        </a:lnTo>
                        <a:lnTo>
                          <a:pt x="25" y="22"/>
                        </a:lnTo>
                        <a:lnTo>
                          <a:pt x="14" y="8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Freeform 11"/>
                  <p:cNvSpPr/>
                  <p:nvPr/>
                </p:nvSpPr>
                <p:spPr>
                  <a:xfrm rot="18609000">
                    <a:off x="216000" y="362880"/>
                    <a:ext cx="292680" cy="267480"/>
                  </a:xfrm>
                  <a:custGeom>
                    <a:avLst/>
                    <a:gdLst>
                      <a:gd name="textAreaLeft" fmla="*/ 0 w 292680"/>
                      <a:gd name="textAreaRight" fmla="*/ 293040 w 292680"/>
                      <a:gd name="textAreaTop" fmla="*/ 0 h 267480"/>
                      <a:gd name="textAreaBottom" fmla="*/ 267840 h 267480"/>
                    </a:gdLst>
                    <a:ahLst/>
                    <a:rect l="textAreaLeft" t="textAreaTop" r="textAreaRight" b="textAreaBottom"/>
                    <a:pathLst>
                      <a:path w="202" h="186">
                        <a:moveTo>
                          <a:pt x="202" y="172"/>
                        </a:moveTo>
                        <a:lnTo>
                          <a:pt x="181" y="168"/>
                        </a:lnTo>
                        <a:lnTo>
                          <a:pt x="165" y="165"/>
                        </a:lnTo>
                        <a:lnTo>
                          <a:pt x="145" y="159"/>
                        </a:lnTo>
                        <a:lnTo>
                          <a:pt x="123" y="151"/>
                        </a:lnTo>
                        <a:lnTo>
                          <a:pt x="102" y="142"/>
                        </a:lnTo>
                        <a:lnTo>
                          <a:pt x="81" y="132"/>
                        </a:lnTo>
                        <a:lnTo>
                          <a:pt x="62" y="121"/>
                        </a:lnTo>
                        <a:lnTo>
                          <a:pt x="46" y="111"/>
                        </a:lnTo>
                        <a:lnTo>
                          <a:pt x="36" y="103"/>
                        </a:lnTo>
                        <a:lnTo>
                          <a:pt x="21" y="77"/>
                        </a:lnTo>
                        <a:lnTo>
                          <a:pt x="20" y="55"/>
                        </a:lnTo>
                        <a:lnTo>
                          <a:pt x="27" y="37"/>
                        </a:lnTo>
                        <a:lnTo>
                          <a:pt x="37" y="24"/>
                        </a:lnTo>
                        <a:lnTo>
                          <a:pt x="44" y="20"/>
                        </a:lnTo>
                        <a:lnTo>
                          <a:pt x="53" y="17"/>
                        </a:lnTo>
                        <a:lnTo>
                          <a:pt x="65" y="17"/>
                        </a:lnTo>
                        <a:lnTo>
                          <a:pt x="77" y="19"/>
                        </a:lnTo>
                        <a:lnTo>
                          <a:pt x="90" y="23"/>
                        </a:lnTo>
                        <a:lnTo>
                          <a:pt x="104" y="31"/>
                        </a:lnTo>
                        <a:lnTo>
                          <a:pt x="118" y="42"/>
                        </a:lnTo>
                        <a:lnTo>
                          <a:pt x="130" y="57"/>
                        </a:lnTo>
                        <a:lnTo>
                          <a:pt x="143" y="75"/>
                        </a:lnTo>
                        <a:lnTo>
                          <a:pt x="153" y="91"/>
                        </a:lnTo>
                        <a:lnTo>
                          <a:pt x="160" y="107"/>
                        </a:lnTo>
                        <a:lnTo>
                          <a:pt x="167" y="121"/>
                        </a:lnTo>
                        <a:lnTo>
                          <a:pt x="172" y="134"/>
                        </a:lnTo>
                        <a:lnTo>
                          <a:pt x="175" y="147"/>
                        </a:lnTo>
                        <a:lnTo>
                          <a:pt x="179" y="158"/>
                        </a:lnTo>
                        <a:lnTo>
                          <a:pt x="181" y="168"/>
                        </a:lnTo>
                        <a:lnTo>
                          <a:pt x="202" y="172"/>
                        </a:lnTo>
                        <a:lnTo>
                          <a:pt x="197" y="159"/>
                        </a:lnTo>
                        <a:lnTo>
                          <a:pt x="193" y="149"/>
                        </a:lnTo>
                        <a:lnTo>
                          <a:pt x="189" y="137"/>
                        </a:lnTo>
                        <a:lnTo>
                          <a:pt x="186" y="126"/>
                        </a:lnTo>
                        <a:lnTo>
                          <a:pt x="180" y="113"/>
                        </a:lnTo>
                        <a:lnTo>
                          <a:pt x="174" y="99"/>
                        </a:lnTo>
                        <a:lnTo>
                          <a:pt x="166" y="82"/>
                        </a:lnTo>
                        <a:lnTo>
                          <a:pt x="155" y="62"/>
                        </a:lnTo>
                        <a:lnTo>
                          <a:pt x="141" y="43"/>
                        </a:lnTo>
                        <a:lnTo>
                          <a:pt x="125" y="26"/>
                        </a:lnTo>
                        <a:lnTo>
                          <a:pt x="106" y="13"/>
                        </a:lnTo>
                        <a:lnTo>
                          <a:pt x="88" y="4"/>
                        </a:lnTo>
                        <a:lnTo>
                          <a:pt x="69" y="0"/>
                        </a:lnTo>
                        <a:lnTo>
                          <a:pt x="51" y="1"/>
                        </a:lnTo>
                        <a:lnTo>
                          <a:pt x="34" y="9"/>
                        </a:lnTo>
                        <a:lnTo>
                          <a:pt x="17" y="24"/>
                        </a:lnTo>
                        <a:lnTo>
                          <a:pt x="6" y="42"/>
                        </a:lnTo>
                        <a:lnTo>
                          <a:pt x="0" y="59"/>
                        </a:lnTo>
                        <a:lnTo>
                          <a:pt x="1" y="75"/>
                        </a:lnTo>
                        <a:lnTo>
                          <a:pt x="7" y="90"/>
                        </a:lnTo>
                        <a:lnTo>
                          <a:pt x="15" y="103"/>
                        </a:lnTo>
                        <a:lnTo>
                          <a:pt x="27" y="115"/>
                        </a:lnTo>
                        <a:lnTo>
                          <a:pt x="40" y="126"/>
                        </a:lnTo>
                        <a:lnTo>
                          <a:pt x="54" y="135"/>
                        </a:lnTo>
                        <a:lnTo>
                          <a:pt x="73" y="145"/>
                        </a:lnTo>
                        <a:lnTo>
                          <a:pt x="89" y="153"/>
                        </a:lnTo>
                        <a:lnTo>
                          <a:pt x="103" y="160"/>
                        </a:lnTo>
                        <a:lnTo>
                          <a:pt x="116" y="165"/>
                        </a:lnTo>
                        <a:lnTo>
                          <a:pt x="130" y="170"/>
                        </a:lnTo>
                        <a:lnTo>
                          <a:pt x="146" y="174"/>
                        </a:lnTo>
                        <a:lnTo>
                          <a:pt x="164" y="180"/>
                        </a:lnTo>
                        <a:lnTo>
                          <a:pt x="186" y="186"/>
                        </a:lnTo>
                        <a:lnTo>
                          <a:pt x="202" y="17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Freeform 12"/>
                  <p:cNvSpPr/>
                  <p:nvPr/>
                </p:nvSpPr>
                <p:spPr>
                  <a:xfrm rot="18609000">
                    <a:off x="198360" y="643680"/>
                    <a:ext cx="433440" cy="91080"/>
                  </a:xfrm>
                  <a:custGeom>
                    <a:avLst/>
                    <a:gdLst>
                      <a:gd name="textAreaLeft" fmla="*/ 0 w 433440"/>
                      <a:gd name="textAreaRight" fmla="*/ 433800 w 433440"/>
                      <a:gd name="textAreaTop" fmla="*/ 0 h 91080"/>
                      <a:gd name="textAreaBottom" fmla="*/ 91440 h 91080"/>
                    </a:gdLst>
                    <a:ahLst/>
                    <a:rect l="textAreaLeft" t="textAreaTop" r="textAreaRight" b="textAreaBottom"/>
                    <a:pathLst>
                      <a:path w="298" h="64">
                        <a:moveTo>
                          <a:pt x="275" y="42"/>
                        </a:moveTo>
                        <a:lnTo>
                          <a:pt x="267" y="45"/>
                        </a:lnTo>
                        <a:lnTo>
                          <a:pt x="255" y="49"/>
                        </a:lnTo>
                        <a:lnTo>
                          <a:pt x="240" y="52"/>
                        </a:lnTo>
                        <a:lnTo>
                          <a:pt x="224" y="55"/>
                        </a:lnTo>
                        <a:lnTo>
                          <a:pt x="207" y="59"/>
                        </a:lnTo>
                        <a:lnTo>
                          <a:pt x="188" y="61"/>
                        </a:lnTo>
                        <a:lnTo>
                          <a:pt x="171" y="62"/>
                        </a:lnTo>
                        <a:lnTo>
                          <a:pt x="154" y="64"/>
                        </a:lnTo>
                        <a:lnTo>
                          <a:pt x="136" y="62"/>
                        </a:lnTo>
                        <a:lnTo>
                          <a:pt x="116" y="60"/>
                        </a:lnTo>
                        <a:lnTo>
                          <a:pt x="95" y="55"/>
                        </a:lnTo>
                        <a:lnTo>
                          <a:pt x="73" y="50"/>
                        </a:lnTo>
                        <a:lnTo>
                          <a:pt x="52" y="44"/>
                        </a:lnTo>
                        <a:lnTo>
                          <a:pt x="35" y="38"/>
                        </a:lnTo>
                        <a:lnTo>
                          <a:pt x="19" y="32"/>
                        </a:lnTo>
                        <a:lnTo>
                          <a:pt x="9" y="27"/>
                        </a:lnTo>
                        <a:lnTo>
                          <a:pt x="0" y="0"/>
                        </a:lnTo>
                        <a:lnTo>
                          <a:pt x="18" y="12"/>
                        </a:lnTo>
                        <a:lnTo>
                          <a:pt x="37" y="21"/>
                        </a:lnTo>
                        <a:lnTo>
                          <a:pt x="59" y="30"/>
                        </a:lnTo>
                        <a:lnTo>
                          <a:pt x="81" y="37"/>
                        </a:lnTo>
                        <a:lnTo>
                          <a:pt x="103" y="43"/>
                        </a:lnTo>
                        <a:lnTo>
                          <a:pt x="123" y="46"/>
                        </a:lnTo>
                        <a:lnTo>
                          <a:pt x="139" y="50"/>
                        </a:lnTo>
                        <a:lnTo>
                          <a:pt x="150" y="51"/>
                        </a:lnTo>
                        <a:lnTo>
                          <a:pt x="171" y="51"/>
                        </a:lnTo>
                        <a:lnTo>
                          <a:pt x="192" y="49"/>
                        </a:lnTo>
                        <a:lnTo>
                          <a:pt x="213" y="45"/>
                        </a:lnTo>
                        <a:lnTo>
                          <a:pt x="234" y="42"/>
                        </a:lnTo>
                        <a:lnTo>
                          <a:pt x="254" y="37"/>
                        </a:lnTo>
                        <a:lnTo>
                          <a:pt x="271" y="32"/>
                        </a:lnTo>
                        <a:lnTo>
                          <a:pt x="286" y="28"/>
                        </a:lnTo>
                        <a:lnTo>
                          <a:pt x="298" y="23"/>
                        </a:lnTo>
                        <a:lnTo>
                          <a:pt x="275" y="4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Freeform 13"/>
                  <p:cNvSpPr/>
                  <p:nvPr/>
                </p:nvSpPr>
                <p:spPr>
                  <a:xfrm rot="18609000">
                    <a:off x="781560" y="359640"/>
                    <a:ext cx="253080" cy="363600"/>
                  </a:xfrm>
                  <a:custGeom>
                    <a:avLst/>
                    <a:gdLst>
                      <a:gd name="textAreaLeft" fmla="*/ 0 w 253080"/>
                      <a:gd name="textAreaRight" fmla="*/ 253440 w 253080"/>
                      <a:gd name="textAreaTop" fmla="*/ 0 h 363600"/>
                      <a:gd name="textAreaBottom" fmla="*/ 363960 h 363600"/>
                    </a:gdLst>
                    <a:ahLst/>
                    <a:rect l="textAreaLeft" t="textAreaTop" r="textAreaRight" b="textAreaBottom"/>
                    <a:pathLst>
                      <a:path w="174" h="252">
                        <a:moveTo>
                          <a:pt x="0" y="12"/>
                        </a:moveTo>
                        <a:lnTo>
                          <a:pt x="2" y="21"/>
                        </a:lnTo>
                        <a:lnTo>
                          <a:pt x="6" y="34"/>
                        </a:lnTo>
                        <a:lnTo>
                          <a:pt x="10" y="50"/>
                        </a:lnTo>
                        <a:lnTo>
                          <a:pt x="16" y="68"/>
                        </a:lnTo>
                        <a:lnTo>
                          <a:pt x="23" y="88"/>
                        </a:lnTo>
                        <a:lnTo>
                          <a:pt x="31" y="108"/>
                        </a:lnTo>
                        <a:lnTo>
                          <a:pt x="39" y="126"/>
                        </a:lnTo>
                        <a:lnTo>
                          <a:pt x="47" y="142"/>
                        </a:lnTo>
                        <a:lnTo>
                          <a:pt x="56" y="157"/>
                        </a:lnTo>
                        <a:lnTo>
                          <a:pt x="68" y="173"/>
                        </a:lnTo>
                        <a:lnTo>
                          <a:pt x="82" y="189"/>
                        </a:lnTo>
                        <a:lnTo>
                          <a:pt x="97" y="206"/>
                        </a:lnTo>
                        <a:lnTo>
                          <a:pt x="113" y="222"/>
                        </a:lnTo>
                        <a:lnTo>
                          <a:pt x="127" y="234"/>
                        </a:lnTo>
                        <a:lnTo>
                          <a:pt x="139" y="245"/>
                        </a:lnTo>
                        <a:lnTo>
                          <a:pt x="150" y="252"/>
                        </a:lnTo>
                        <a:lnTo>
                          <a:pt x="174" y="248"/>
                        </a:lnTo>
                        <a:lnTo>
                          <a:pt x="155" y="239"/>
                        </a:lnTo>
                        <a:lnTo>
                          <a:pt x="138" y="225"/>
                        </a:lnTo>
                        <a:lnTo>
                          <a:pt x="120" y="210"/>
                        </a:lnTo>
                        <a:lnTo>
                          <a:pt x="104" y="193"/>
                        </a:lnTo>
                        <a:lnTo>
                          <a:pt x="89" y="177"/>
                        </a:lnTo>
                        <a:lnTo>
                          <a:pt x="76" y="162"/>
                        </a:lnTo>
                        <a:lnTo>
                          <a:pt x="66" y="148"/>
                        </a:lnTo>
                        <a:lnTo>
                          <a:pt x="60" y="139"/>
                        </a:lnTo>
                        <a:lnTo>
                          <a:pt x="51" y="121"/>
                        </a:lnTo>
                        <a:lnTo>
                          <a:pt x="41" y="102"/>
                        </a:lnTo>
                        <a:lnTo>
                          <a:pt x="34" y="82"/>
                        </a:lnTo>
                        <a:lnTo>
                          <a:pt x="29" y="63"/>
                        </a:lnTo>
                        <a:lnTo>
                          <a:pt x="23" y="44"/>
                        </a:lnTo>
                        <a:lnTo>
                          <a:pt x="19" y="27"/>
                        </a:lnTo>
                        <a:lnTo>
                          <a:pt x="16" y="12"/>
                        </a:lnTo>
                        <a:lnTo>
                          <a:pt x="15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0" name="Freeform 14"/>
                <p:cNvSpPr/>
                <p:nvPr/>
              </p:nvSpPr>
              <p:spPr>
                <a:xfrm rot="18609000">
                  <a:off x="555120" y="400320"/>
                  <a:ext cx="133560" cy="13032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92" h="89">
                      <a:moveTo>
                        <a:pt x="28" y="59"/>
                      </a:moveTo>
                      <a:lnTo>
                        <a:pt x="13" y="40"/>
                      </a:lnTo>
                      <a:lnTo>
                        <a:pt x="4" y="26"/>
                      </a:lnTo>
                      <a:lnTo>
                        <a:pt x="1" y="17"/>
                      </a:lnTo>
                      <a:lnTo>
                        <a:pt x="0" y="14"/>
                      </a:lnTo>
                      <a:lnTo>
                        <a:pt x="16" y="0"/>
                      </a:lnTo>
                      <a:lnTo>
                        <a:pt x="18" y="6"/>
                      </a:lnTo>
                      <a:lnTo>
                        <a:pt x="25" y="18"/>
                      </a:lnTo>
                      <a:lnTo>
                        <a:pt x="34" y="33"/>
                      </a:lnTo>
                      <a:lnTo>
                        <a:pt x="45" y="46"/>
                      </a:lnTo>
                      <a:lnTo>
                        <a:pt x="50" y="51"/>
                      </a:lnTo>
                      <a:lnTo>
                        <a:pt x="57" y="56"/>
                      </a:lnTo>
                      <a:lnTo>
                        <a:pt x="65" y="61"/>
                      </a:lnTo>
                      <a:lnTo>
                        <a:pt x="73" y="67"/>
                      </a:lnTo>
                      <a:lnTo>
                        <a:pt x="80" y="71"/>
                      </a:lnTo>
                      <a:lnTo>
                        <a:pt x="86" y="75"/>
                      </a:lnTo>
                      <a:lnTo>
                        <a:pt x="91" y="77"/>
                      </a:lnTo>
                      <a:lnTo>
                        <a:pt x="92" y="78"/>
                      </a:lnTo>
                      <a:lnTo>
                        <a:pt x="78" y="89"/>
                      </a:lnTo>
                      <a:lnTo>
                        <a:pt x="77" y="89"/>
                      </a:lnTo>
                      <a:lnTo>
                        <a:pt x="73" y="87"/>
                      </a:lnTo>
                      <a:lnTo>
                        <a:pt x="69" y="86"/>
                      </a:lnTo>
                      <a:lnTo>
                        <a:pt x="62" y="83"/>
                      </a:lnTo>
                      <a:lnTo>
                        <a:pt x="55" y="79"/>
                      </a:lnTo>
                      <a:lnTo>
                        <a:pt x="47" y="74"/>
                      </a:lnTo>
                      <a:lnTo>
                        <a:pt x="38" y="67"/>
                      </a:lnTo>
                      <a:lnTo>
                        <a:pt x="28" y="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1" name="Group 62"/>
          <p:cNvGrpSpPr/>
          <p:nvPr/>
        </p:nvGrpSpPr>
        <p:grpSpPr>
          <a:xfrm>
            <a:off x="1600200" y="1294920"/>
            <a:ext cx="3048120" cy="1618920"/>
            <a:chOff x="1600200" y="1294920"/>
            <a:chExt cx="3048120" cy="1618920"/>
          </a:xfrm>
        </p:grpSpPr>
        <p:grpSp>
          <p:nvGrpSpPr>
            <p:cNvPr id="392" name="Group 46"/>
            <p:cNvGrpSpPr/>
            <p:nvPr/>
          </p:nvGrpSpPr>
          <p:grpSpPr>
            <a:xfrm>
              <a:off x="1600200" y="1294920"/>
              <a:ext cx="533520" cy="389160"/>
              <a:chOff x="1600200" y="1294920"/>
              <a:chExt cx="533520" cy="389160"/>
            </a:xfrm>
          </p:grpSpPr>
          <p:sp>
            <p:nvSpPr>
              <p:cNvPr id="393" name="Freeform 42"/>
              <p:cNvSpPr/>
              <p:nvPr/>
            </p:nvSpPr>
            <p:spPr>
              <a:xfrm rot="16200000">
                <a:off x="1682280" y="1232280"/>
                <a:ext cx="387360" cy="5155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1043" h="1388">
                    <a:moveTo>
                      <a:pt x="812" y="0"/>
                    </a:moveTo>
                    <a:lnTo>
                      <a:pt x="228" y="0"/>
                    </a:lnTo>
                    <a:lnTo>
                      <a:pt x="228" y="867"/>
                    </a:lnTo>
                    <a:lnTo>
                      <a:pt x="0" y="867"/>
                    </a:lnTo>
                    <a:lnTo>
                      <a:pt x="522" y="1388"/>
                    </a:lnTo>
                    <a:lnTo>
                      <a:pt x="1043" y="867"/>
                    </a:lnTo>
                    <a:lnTo>
                      <a:pt x="812" y="867"/>
                    </a:lnTo>
                    <a:lnTo>
                      <a:pt x="8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Rectangle 43"/>
              <p:cNvSpPr/>
              <p:nvPr/>
            </p:nvSpPr>
            <p:spPr>
              <a:xfrm rot="16200000">
                <a:off x="1501920" y="1481400"/>
                <a:ext cx="213840" cy="17640"/>
              </a:xfrm>
              <a:prstGeom prst="rect">
                <a:avLst/>
              </a:prstGeom>
              <a:solidFill>
                <a:srgbClr val="c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 rot="16200000">
                <a:off x="1882800" y="1626840"/>
                <a:ext cx="84960" cy="2916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9" h="79">
                    <a:moveTo>
                      <a:pt x="229" y="0"/>
                    </a:moveTo>
                    <a:lnTo>
                      <a:pt x="229" y="79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 rot="16200000">
                <a:off x="1882080" y="1323720"/>
                <a:ext cx="86760" cy="29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4" h="79">
                    <a:moveTo>
                      <a:pt x="234" y="0"/>
                    </a:moveTo>
                    <a:lnTo>
                      <a:pt x="233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7" name="Text Box 47"/>
            <p:cNvSpPr/>
            <p:nvPr/>
          </p:nvSpPr>
          <p:spPr>
            <a:xfrm>
              <a:off x="2343240" y="1295280"/>
              <a:ext cx="2305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Irregular en “YO”: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Tene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Cabe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Coge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Group 61"/>
          <p:cNvGrpSpPr/>
          <p:nvPr/>
        </p:nvGrpSpPr>
        <p:grpSpPr>
          <a:xfrm>
            <a:off x="1600200" y="3276720"/>
            <a:ext cx="2815560" cy="1618560"/>
            <a:chOff x="1600200" y="3276720"/>
            <a:chExt cx="2815560" cy="1618560"/>
          </a:xfrm>
        </p:grpSpPr>
        <p:grpSp>
          <p:nvGrpSpPr>
            <p:cNvPr id="399" name="Group 54"/>
            <p:cNvGrpSpPr/>
            <p:nvPr/>
          </p:nvGrpSpPr>
          <p:grpSpPr>
            <a:xfrm>
              <a:off x="1600200" y="3276720"/>
              <a:ext cx="533520" cy="388800"/>
              <a:chOff x="1600200" y="3276720"/>
              <a:chExt cx="533520" cy="388800"/>
            </a:xfrm>
          </p:grpSpPr>
          <p:sp>
            <p:nvSpPr>
              <p:cNvPr id="400" name="Freeform 55"/>
              <p:cNvSpPr/>
              <p:nvPr/>
            </p:nvSpPr>
            <p:spPr>
              <a:xfrm rot="16200000">
                <a:off x="1682280" y="3213720"/>
                <a:ext cx="387000" cy="51552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1043" h="1388">
                    <a:moveTo>
                      <a:pt x="812" y="0"/>
                    </a:moveTo>
                    <a:lnTo>
                      <a:pt x="228" y="0"/>
                    </a:lnTo>
                    <a:lnTo>
                      <a:pt x="228" y="867"/>
                    </a:lnTo>
                    <a:lnTo>
                      <a:pt x="0" y="867"/>
                    </a:lnTo>
                    <a:lnTo>
                      <a:pt x="522" y="1388"/>
                    </a:lnTo>
                    <a:lnTo>
                      <a:pt x="1043" y="867"/>
                    </a:lnTo>
                    <a:lnTo>
                      <a:pt x="812" y="867"/>
                    </a:lnTo>
                    <a:lnTo>
                      <a:pt x="8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Rectangle 56"/>
              <p:cNvSpPr/>
              <p:nvPr/>
            </p:nvSpPr>
            <p:spPr>
              <a:xfrm rot="16200000">
                <a:off x="1501920" y="3462840"/>
                <a:ext cx="213840" cy="17640"/>
              </a:xfrm>
              <a:prstGeom prst="rect">
                <a:avLst/>
              </a:prstGeom>
              <a:solidFill>
                <a:srgbClr val="c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Freeform 57"/>
              <p:cNvSpPr/>
              <p:nvPr/>
            </p:nvSpPr>
            <p:spPr>
              <a:xfrm rot="16200000">
                <a:off x="1883160" y="3608640"/>
                <a:ext cx="84600" cy="29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9" h="79">
                    <a:moveTo>
                      <a:pt x="229" y="0"/>
                    </a:moveTo>
                    <a:lnTo>
                      <a:pt x="229" y="79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Freeform 58"/>
              <p:cNvSpPr/>
              <p:nvPr/>
            </p:nvSpPr>
            <p:spPr>
              <a:xfrm rot="16200000">
                <a:off x="1882080" y="3305520"/>
                <a:ext cx="86760" cy="29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4" h="79">
                    <a:moveTo>
                      <a:pt x="234" y="0"/>
                    </a:moveTo>
                    <a:lnTo>
                      <a:pt x="233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4" name="Text Box 60"/>
            <p:cNvSpPr/>
            <p:nvPr/>
          </p:nvSpPr>
          <p:spPr>
            <a:xfrm>
              <a:off x="2380320" y="3276720"/>
              <a:ext cx="2035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ambios de raíz: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ncontra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ode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ormir**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Group 75"/>
          <p:cNvGrpSpPr/>
          <p:nvPr/>
        </p:nvGrpSpPr>
        <p:grpSpPr>
          <a:xfrm>
            <a:off x="1600200" y="5257800"/>
            <a:ext cx="3206160" cy="1328040"/>
            <a:chOff x="1600200" y="5257800"/>
            <a:chExt cx="3206160" cy="1328040"/>
          </a:xfrm>
        </p:grpSpPr>
        <p:grpSp>
          <p:nvGrpSpPr>
            <p:cNvPr id="406" name="Group 49"/>
            <p:cNvGrpSpPr/>
            <p:nvPr/>
          </p:nvGrpSpPr>
          <p:grpSpPr>
            <a:xfrm>
              <a:off x="1600200" y="5257800"/>
              <a:ext cx="533520" cy="388800"/>
              <a:chOff x="1600200" y="5257800"/>
              <a:chExt cx="533520" cy="388800"/>
            </a:xfrm>
          </p:grpSpPr>
          <p:sp>
            <p:nvSpPr>
              <p:cNvPr id="407" name="Freeform 50"/>
              <p:cNvSpPr/>
              <p:nvPr/>
            </p:nvSpPr>
            <p:spPr>
              <a:xfrm rot="16200000">
                <a:off x="1682280" y="5194800"/>
                <a:ext cx="387000" cy="51552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1043" h="1388">
                    <a:moveTo>
                      <a:pt x="812" y="0"/>
                    </a:moveTo>
                    <a:lnTo>
                      <a:pt x="228" y="0"/>
                    </a:lnTo>
                    <a:lnTo>
                      <a:pt x="228" y="867"/>
                    </a:lnTo>
                    <a:lnTo>
                      <a:pt x="0" y="867"/>
                    </a:lnTo>
                    <a:lnTo>
                      <a:pt x="522" y="1388"/>
                    </a:lnTo>
                    <a:lnTo>
                      <a:pt x="1043" y="867"/>
                    </a:lnTo>
                    <a:lnTo>
                      <a:pt x="812" y="867"/>
                    </a:lnTo>
                    <a:lnTo>
                      <a:pt x="8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Rectangle 51"/>
              <p:cNvSpPr/>
              <p:nvPr/>
            </p:nvSpPr>
            <p:spPr>
              <a:xfrm rot="16200000">
                <a:off x="1501920" y="5443920"/>
                <a:ext cx="213840" cy="17640"/>
              </a:xfrm>
              <a:prstGeom prst="rect">
                <a:avLst/>
              </a:prstGeom>
              <a:solidFill>
                <a:srgbClr val="c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Freeform 52"/>
              <p:cNvSpPr/>
              <p:nvPr/>
            </p:nvSpPr>
            <p:spPr>
              <a:xfrm rot="16200000">
                <a:off x="1883160" y="5589720"/>
                <a:ext cx="84600" cy="29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9" h="79">
                    <a:moveTo>
                      <a:pt x="229" y="0"/>
                    </a:moveTo>
                    <a:lnTo>
                      <a:pt x="229" y="79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Freeform 53"/>
              <p:cNvSpPr/>
              <p:nvPr/>
            </p:nvSpPr>
            <p:spPr>
              <a:xfrm rot="16200000">
                <a:off x="1882080" y="5286600"/>
                <a:ext cx="86760" cy="29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4" h="79">
                    <a:moveTo>
                      <a:pt x="234" y="0"/>
                    </a:moveTo>
                    <a:lnTo>
                      <a:pt x="233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1" name="Text Box 63"/>
            <p:cNvSpPr/>
            <p:nvPr/>
          </p:nvSpPr>
          <p:spPr>
            <a:xfrm>
              <a:off x="2194920" y="5272200"/>
              <a:ext cx="261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ambios ortográficos: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-ca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-ga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-za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" name="Group 73"/>
          <p:cNvGrpSpPr/>
          <p:nvPr/>
        </p:nvGrpSpPr>
        <p:grpSpPr>
          <a:xfrm>
            <a:off x="5791320" y="3241800"/>
            <a:ext cx="2710080" cy="459720"/>
            <a:chOff x="5791320" y="3241800"/>
            <a:chExt cx="2710080" cy="459720"/>
          </a:xfrm>
        </p:grpSpPr>
        <p:grpSp>
          <p:nvGrpSpPr>
            <p:cNvPr id="413" name="Group 65"/>
            <p:cNvGrpSpPr/>
            <p:nvPr/>
          </p:nvGrpSpPr>
          <p:grpSpPr>
            <a:xfrm>
              <a:off x="5791320" y="3276720"/>
              <a:ext cx="533160" cy="388800"/>
              <a:chOff x="5791320" y="3276720"/>
              <a:chExt cx="533160" cy="388800"/>
            </a:xfrm>
          </p:grpSpPr>
          <p:sp>
            <p:nvSpPr>
              <p:cNvPr id="414" name="Freeform 66"/>
              <p:cNvSpPr/>
              <p:nvPr/>
            </p:nvSpPr>
            <p:spPr>
              <a:xfrm rot="16200000">
                <a:off x="5873400" y="3214080"/>
                <a:ext cx="387000" cy="51516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515160"/>
                  <a:gd name="textAreaBottom" fmla="*/ 515160 h 515160"/>
                </a:gdLst>
                <a:ahLst/>
                <a:rect l="textAreaLeft" t="textAreaTop" r="textAreaRight" b="textAreaBottom"/>
                <a:pathLst>
                  <a:path w="1043" h="1388">
                    <a:moveTo>
                      <a:pt x="812" y="0"/>
                    </a:moveTo>
                    <a:lnTo>
                      <a:pt x="228" y="0"/>
                    </a:lnTo>
                    <a:lnTo>
                      <a:pt x="228" y="867"/>
                    </a:lnTo>
                    <a:lnTo>
                      <a:pt x="0" y="867"/>
                    </a:lnTo>
                    <a:lnTo>
                      <a:pt x="522" y="1388"/>
                    </a:lnTo>
                    <a:lnTo>
                      <a:pt x="1043" y="867"/>
                    </a:lnTo>
                    <a:lnTo>
                      <a:pt x="812" y="867"/>
                    </a:lnTo>
                    <a:lnTo>
                      <a:pt x="8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Rectangle 67"/>
              <p:cNvSpPr/>
              <p:nvPr/>
            </p:nvSpPr>
            <p:spPr>
              <a:xfrm rot="16200000">
                <a:off x="5693040" y="3462840"/>
                <a:ext cx="213840" cy="17640"/>
              </a:xfrm>
              <a:prstGeom prst="rect">
                <a:avLst/>
              </a:prstGeom>
              <a:solidFill>
                <a:srgbClr val="c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Freeform 68"/>
              <p:cNvSpPr/>
              <p:nvPr/>
            </p:nvSpPr>
            <p:spPr>
              <a:xfrm rot="16200000">
                <a:off x="6074280" y="3608640"/>
                <a:ext cx="84600" cy="29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9" h="79">
                    <a:moveTo>
                      <a:pt x="229" y="0"/>
                    </a:moveTo>
                    <a:lnTo>
                      <a:pt x="229" y="79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Freeform 69"/>
              <p:cNvSpPr/>
              <p:nvPr/>
            </p:nvSpPr>
            <p:spPr>
              <a:xfrm rot="16200000">
                <a:off x="6073200" y="3305520"/>
                <a:ext cx="86760" cy="29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4" h="79">
                    <a:moveTo>
                      <a:pt x="234" y="0"/>
                    </a:moveTo>
                    <a:lnTo>
                      <a:pt x="233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8" name="Text Box 71"/>
            <p:cNvSpPr/>
            <p:nvPr/>
          </p:nvSpPr>
          <p:spPr>
            <a:xfrm>
              <a:off x="6441480" y="3241800"/>
              <a:ext cx="20599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D  I  S  H  E  S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9" name="Text Box 72"/>
          <p:cNvSpPr/>
          <p:nvPr/>
        </p:nvSpPr>
        <p:spPr>
          <a:xfrm>
            <a:off x="6463440" y="3889440"/>
            <a:ext cx="977760" cy="2288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Hab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st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ab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Group 83"/>
          <p:cNvGrpSpPr/>
          <p:nvPr/>
        </p:nvGrpSpPr>
        <p:grpSpPr>
          <a:xfrm>
            <a:off x="5797440" y="1295280"/>
            <a:ext cx="3379320" cy="1313640"/>
            <a:chOff x="5797440" y="1295280"/>
            <a:chExt cx="3379320" cy="1313640"/>
          </a:xfrm>
        </p:grpSpPr>
        <p:grpSp>
          <p:nvGrpSpPr>
            <p:cNvPr id="421" name="Group 77"/>
            <p:cNvGrpSpPr/>
            <p:nvPr/>
          </p:nvGrpSpPr>
          <p:grpSpPr>
            <a:xfrm>
              <a:off x="5797440" y="1295280"/>
              <a:ext cx="533520" cy="388800"/>
              <a:chOff x="5797440" y="1295280"/>
              <a:chExt cx="533520" cy="388800"/>
            </a:xfrm>
          </p:grpSpPr>
          <p:sp>
            <p:nvSpPr>
              <p:cNvPr id="422" name="Freeform 78"/>
              <p:cNvSpPr/>
              <p:nvPr/>
            </p:nvSpPr>
            <p:spPr>
              <a:xfrm rot="16200000">
                <a:off x="5879520" y="1232280"/>
                <a:ext cx="387000" cy="51552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1043" h="1388">
                    <a:moveTo>
                      <a:pt x="812" y="0"/>
                    </a:moveTo>
                    <a:lnTo>
                      <a:pt x="228" y="0"/>
                    </a:lnTo>
                    <a:lnTo>
                      <a:pt x="228" y="867"/>
                    </a:lnTo>
                    <a:lnTo>
                      <a:pt x="0" y="867"/>
                    </a:lnTo>
                    <a:lnTo>
                      <a:pt x="522" y="1388"/>
                    </a:lnTo>
                    <a:lnTo>
                      <a:pt x="1043" y="867"/>
                    </a:lnTo>
                    <a:lnTo>
                      <a:pt x="812" y="867"/>
                    </a:lnTo>
                    <a:lnTo>
                      <a:pt x="8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Rectangle 79"/>
              <p:cNvSpPr/>
              <p:nvPr/>
            </p:nvSpPr>
            <p:spPr>
              <a:xfrm rot="16200000">
                <a:off x="5699160" y="1481400"/>
                <a:ext cx="213840" cy="17640"/>
              </a:xfrm>
              <a:prstGeom prst="rect">
                <a:avLst/>
              </a:prstGeom>
              <a:solidFill>
                <a:srgbClr val="c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Freeform 80"/>
              <p:cNvSpPr/>
              <p:nvPr/>
            </p:nvSpPr>
            <p:spPr>
              <a:xfrm rot="16200000">
                <a:off x="6080400" y="1627200"/>
                <a:ext cx="84600" cy="29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9" h="79">
                    <a:moveTo>
                      <a:pt x="229" y="0"/>
                    </a:moveTo>
                    <a:lnTo>
                      <a:pt x="229" y="79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Freeform 81"/>
              <p:cNvSpPr/>
              <p:nvPr/>
            </p:nvSpPr>
            <p:spPr>
              <a:xfrm rot="16200000">
                <a:off x="6079320" y="1324080"/>
                <a:ext cx="86760" cy="29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4" h="79">
                    <a:moveTo>
                      <a:pt x="234" y="0"/>
                    </a:moveTo>
                    <a:lnTo>
                      <a:pt x="233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Text Box 82"/>
            <p:cNvSpPr/>
            <p:nvPr/>
          </p:nvSpPr>
          <p:spPr>
            <a:xfrm>
              <a:off x="6333120" y="1295280"/>
              <a:ext cx="2843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Verbos como “dormir”: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Tienen un cambio en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nosotros / vosotros”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mamos…d</a:t>
              </a:r>
              <a:r>
                <a:rPr b="0" i="1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máis…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2" name="projctor.wav"/>
      </p:stSnd>
    </p:sndAc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38AE-8B08-4FDA-A71A-B4AB21894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951120" y="1219320"/>
            <a:ext cx="71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-there are 4 tenses of the Subjunctiv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Presen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Imperfec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Present Perfec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Past Perfect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462B-600A-4193-B182-B8782408D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427320" y="228600"/>
            <a:ext cx="7857720" cy="1827360"/>
            <a:chOff x="427320" y="228600"/>
            <a:chExt cx="7857720" cy="1827360"/>
          </a:xfrm>
        </p:grpSpPr>
        <p:sp>
          <p:nvSpPr>
            <p:cNvPr id="429" name="Text Box 2"/>
            <p:cNvSpPr/>
            <p:nvPr/>
          </p:nvSpPr>
          <p:spPr>
            <a:xfrm>
              <a:off x="427320" y="654120"/>
              <a:ext cx="59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</a:rPr>
                <a:t>Unos irregulares, </a:t>
              </a:r>
              <a:r>
                <a:rPr b="1" i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or ejemplo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0" name="Picture 3" descr="c:\Program Files\Microsoft Office\Clipart\standard\stddir1\bd07213_.wmf"/>
            <p:cNvPicPr/>
            <p:nvPr/>
          </p:nvPicPr>
          <p:blipFill>
            <a:blip r:embed="rId1"/>
            <a:stretch/>
          </p:blipFill>
          <p:spPr>
            <a:xfrm>
              <a:off x="6781680" y="228600"/>
              <a:ext cx="1503360" cy="182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1" name="Text Box 5"/>
          <p:cNvSpPr/>
          <p:nvPr/>
        </p:nvSpPr>
        <p:spPr>
          <a:xfrm>
            <a:off x="824040" y="12952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caber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815400" y="189216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a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a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á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a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841680" y="30481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coger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832320" y="364500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a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a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á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a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5108400" y="243828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poder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100120" y="3035160"/>
            <a:ext cx="31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ued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oda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ueda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odá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ued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ueda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840960" y="48769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buscar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833400" y="5473800"/>
            <a:ext cx="34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e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e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é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e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5114880" y="441972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dormir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5122440" y="5016600"/>
            <a:ext cx="33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erm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urma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erma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urmá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erm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erma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177D-67DD-4191-B47B-FFDC4A2EC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466560" y="390600"/>
            <a:ext cx="406440" cy="5946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D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I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H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906840" y="3808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893880" y="152388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914040" y="25909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970200" y="36576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ab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958320" y="48006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st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970200" y="586728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ab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2747520" y="43020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dé, des, dé, demos, deis, de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042000" y="1573200"/>
            <a:ext cx="51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vaya, vayas, vaya, vayamos, vayáis, vaya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2867400" y="263988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sea, seas, sea, seamos, seáis, sea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3049920" y="3706920"/>
            <a:ext cx="526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haya, hayas, haya, hayamos, hayáis, haya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2867040" y="4849920"/>
            <a:ext cx="46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esté, estés, esté, estemos, esté, esté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3006360" y="5916600"/>
            <a:ext cx="522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sepa, sepas, sepa, sepamos, sepáis, sepa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1D48-EDDA-4C59-AE97-2E168B005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Box 2"/>
          <p:cNvSpPr/>
          <p:nvPr/>
        </p:nvSpPr>
        <p:spPr>
          <a:xfrm>
            <a:off x="946080" y="228600"/>
            <a:ext cx="73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Uses of the subjuntive include: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Box 3"/>
          <p:cNvSpPr/>
          <p:nvPr/>
        </p:nvSpPr>
        <p:spPr>
          <a:xfrm>
            <a:off x="788400" y="1066680"/>
            <a:ext cx="5863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indirect/implied comm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mandato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Qué coma!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Box 4"/>
          <p:cNvSpPr/>
          <p:nvPr/>
        </p:nvSpPr>
        <p:spPr>
          <a:xfrm>
            <a:off x="1828800" y="22096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causal verb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i mamá dice que haga la cama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i papá quiere que tomen geometría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254160" y="3733920"/>
            <a:ext cx="582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After verbs expressing emotion/doubt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o dudo que vengamos a la fiesta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4287600" y="4724280"/>
            <a:ext cx="46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*After impersonal expression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s posible que estudies más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Box 7"/>
          <p:cNvSpPr/>
          <p:nvPr/>
        </p:nvSpPr>
        <p:spPr>
          <a:xfrm>
            <a:off x="633960" y="5867280"/>
            <a:ext cx="553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After expressions that suggest hope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jala que recuerdes tu tarea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FBAD-2C4C-4A72-B648-FDE923813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Box 2"/>
          <p:cNvSpPr/>
          <p:nvPr/>
        </p:nvSpPr>
        <p:spPr>
          <a:xfrm>
            <a:off x="16920" y="228600"/>
            <a:ext cx="30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racticamos. . 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Box 3"/>
          <p:cNvSpPr/>
          <p:nvPr/>
        </p:nvSpPr>
        <p:spPr>
          <a:xfrm>
            <a:off x="31320" y="990720"/>
            <a:ext cx="891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spero que mi amigo ______ la paciencia necesari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ra hacer el proyecto hoy. (tener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20520" y="2209680"/>
            <a:ext cx="881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seaba que tú ____ la película con nosotros ayer.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ver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Box 5"/>
          <p:cNvSpPr/>
          <p:nvPr/>
        </p:nvSpPr>
        <p:spPr>
          <a:xfrm>
            <a:off x="30600" y="3200400"/>
            <a:ext cx="808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s importante que los estudiantes ____ a clas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odos los dias. (ir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2040" y="4343400"/>
            <a:ext cx="86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eimos la leccion antes de que ellos nos ___ sobr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l tema. (hablar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36000" y="5562720"/>
            <a:ext cx="92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is amigos creen que tú ___ muchas cartas. (escribir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9985-D899-4C34-9813-F08C8F876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Group 4"/>
          <p:cNvGrpSpPr/>
          <p:nvPr/>
        </p:nvGrpSpPr>
        <p:grpSpPr>
          <a:xfrm>
            <a:off x="228600" y="4332240"/>
            <a:ext cx="3817800" cy="2308320"/>
            <a:chOff x="228600" y="4332240"/>
            <a:chExt cx="3817800" cy="2308320"/>
          </a:xfrm>
        </p:grpSpPr>
        <p:pic>
          <p:nvPicPr>
            <p:cNvPr id="471" name="Picture 2" descr="C:\Program Files\Microsoft Office\Clipart\Powerpnt\hmm.wmf"/>
            <p:cNvPicPr/>
            <p:nvPr/>
          </p:nvPicPr>
          <p:blipFill>
            <a:blip r:embed="rId1"/>
            <a:stretch/>
          </p:blipFill>
          <p:spPr>
            <a:xfrm>
              <a:off x="228600" y="4332240"/>
              <a:ext cx="852840" cy="23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 Box 3"/>
            <p:cNvSpPr/>
            <p:nvPr/>
          </p:nvSpPr>
          <p:spPr>
            <a:xfrm>
              <a:off x="1149840" y="4762800"/>
              <a:ext cx="289656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¿Cómo se dicen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estas frases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en español?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Text Box 5"/>
          <p:cNvSpPr/>
          <p:nvPr/>
        </p:nvSpPr>
        <p:spPr>
          <a:xfrm>
            <a:off x="286560" y="30492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ope the new girl is very pretty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3258720" y="160020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ay that she is from Spain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600920" y="290988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nts me to call her tonight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4419720" y="428148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ll call her before we eat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574920" y="888840"/>
            <a:ext cx="47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spero que la chica nueva sea bonita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3684960" y="219852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llos dicen que ella es de España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1762920" y="35560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lla quiere que yo le llame esta noche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4419720" y="48769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Le llamo antes de que comamos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EDFB-276C-4D7F-868E-0BF4E5884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" name="Group 2"/>
          <p:cNvGrpSpPr/>
          <p:nvPr/>
        </p:nvGrpSpPr>
        <p:grpSpPr>
          <a:xfrm>
            <a:off x="5327640" y="152280"/>
            <a:ext cx="3817800" cy="2308320"/>
            <a:chOff x="5327640" y="152280"/>
            <a:chExt cx="3817800" cy="2308320"/>
          </a:xfrm>
        </p:grpSpPr>
        <p:pic>
          <p:nvPicPr>
            <p:cNvPr id="483" name="Picture 3" descr="C:\Program Files\Microsoft Office\Clipart\Powerpnt\hmm.wmf"/>
            <p:cNvPicPr/>
            <p:nvPr/>
          </p:nvPicPr>
          <p:blipFill>
            <a:blip r:embed="rId1"/>
            <a:stretch/>
          </p:blipFill>
          <p:spPr>
            <a:xfrm>
              <a:off x="5327640" y="152280"/>
              <a:ext cx="852840" cy="23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4"/>
            <p:cNvSpPr/>
            <p:nvPr/>
          </p:nvSpPr>
          <p:spPr>
            <a:xfrm>
              <a:off x="6248880" y="582840"/>
              <a:ext cx="289656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¿Cómo se dicen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estas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frases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en español?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Text Box 5"/>
          <p:cNvSpPr/>
          <p:nvPr/>
        </p:nvSpPr>
        <p:spPr>
          <a:xfrm>
            <a:off x="3669120" y="551196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found one that is perfect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3759840" y="26780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m not sure that we’ll find it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39560" y="4002120"/>
            <a:ext cx="59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ope there is one near the university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80880" y="547560"/>
            <a:ext cx="436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 an apartment that has 2 bathrooms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906720" y="6095880"/>
            <a:ext cx="43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ncontramos uno que es perfecto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3654720" y="327672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o estoy seguro de que lo encontremos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563400" y="4648320"/>
            <a:ext cx="56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spero que haya uno cerca de la universidad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380880" y="1523880"/>
            <a:ext cx="43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Queremos un apartamento que tenga 2 baños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86B8-E23C-488A-9387-FA4F4447E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Los Modos Verbales: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02" name="Group 13"/>
          <p:cNvGrpSpPr/>
          <p:nvPr/>
        </p:nvGrpSpPr>
        <p:grpSpPr>
          <a:xfrm>
            <a:off x="3219480" y="5384880"/>
            <a:ext cx="5619600" cy="1168200"/>
            <a:chOff x="3219480" y="5384880"/>
            <a:chExt cx="5619600" cy="1168200"/>
          </a:xfrm>
        </p:grpSpPr>
        <p:pic>
          <p:nvPicPr>
            <p:cNvPr id="103" name="Picture 6" descr="c:\Program Files\Common Files\Microsoft Shared\Clipart\cagcat50\bd06663_.wmf"/>
            <p:cNvPicPr/>
            <p:nvPr/>
          </p:nvPicPr>
          <p:blipFill>
            <a:blip r:embed="rId1"/>
            <a:stretch/>
          </p:blipFill>
          <p:spPr>
            <a:xfrm>
              <a:off x="7493040" y="5384880"/>
              <a:ext cx="134604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9"/>
            <p:cNvSpPr/>
            <p:nvPr/>
          </p:nvSpPr>
          <p:spPr>
            <a:xfrm>
              <a:off x="3219480" y="5638680"/>
              <a:ext cx="4343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0033"/>
                </a:buClr>
                <a:buSzPct val="12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l Modo Subjuntivo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Group 16"/>
          <p:cNvGrpSpPr/>
          <p:nvPr/>
        </p:nvGrpSpPr>
        <p:grpSpPr>
          <a:xfrm>
            <a:off x="1822320" y="3352680"/>
            <a:ext cx="5568840" cy="1204920"/>
            <a:chOff x="1822320" y="3352680"/>
            <a:chExt cx="5568840" cy="1204920"/>
          </a:xfrm>
        </p:grpSpPr>
        <p:pic>
          <p:nvPicPr>
            <p:cNvPr id="106" name="Picture 5" descr="C:\Program Files\Microsoft Office\Clipart\Powerpnt\finger.wmf"/>
            <p:cNvPicPr/>
            <p:nvPr/>
          </p:nvPicPr>
          <p:blipFill>
            <a:blip r:embed="rId2"/>
            <a:stretch/>
          </p:blipFill>
          <p:spPr>
            <a:xfrm>
              <a:off x="6095880" y="3352680"/>
              <a:ext cx="129528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0"/>
            <p:cNvSpPr/>
            <p:nvPr/>
          </p:nvSpPr>
          <p:spPr>
            <a:xfrm>
              <a:off x="1822320" y="3657240"/>
              <a:ext cx="4343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0033"/>
                </a:buClr>
                <a:buSzPct val="12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l Modo Imperativo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Group 17"/>
          <p:cNvGrpSpPr/>
          <p:nvPr/>
        </p:nvGrpSpPr>
        <p:grpSpPr>
          <a:xfrm>
            <a:off x="152280" y="1600200"/>
            <a:ext cx="5645160" cy="1201680"/>
            <a:chOff x="152280" y="1600200"/>
            <a:chExt cx="5645160" cy="1201680"/>
          </a:xfrm>
        </p:grpSpPr>
        <p:pic>
          <p:nvPicPr>
            <p:cNvPr id="109" name="Picture 8" descr="c:\Program Files\Common Files\Microsoft Shared\Clipart\cagcat50\bs00554_.wmf"/>
            <p:cNvPicPr/>
            <p:nvPr/>
          </p:nvPicPr>
          <p:blipFill>
            <a:blip r:embed="rId3"/>
            <a:stretch/>
          </p:blipFill>
          <p:spPr>
            <a:xfrm>
              <a:off x="4419360" y="1600200"/>
              <a:ext cx="13780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5"/>
            <p:cNvSpPr/>
            <p:nvPr/>
          </p:nvSpPr>
          <p:spPr>
            <a:xfrm>
              <a:off x="152280" y="1905120"/>
              <a:ext cx="4343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0033"/>
                </a:buClr>
                <a:buSzPct val="12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l Modo Indicativo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4" name="projctor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E235-119C-4F26-8A29-60E7A237A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Group 15"/>
          <p:cNvGrpSpPr/>
          <p:nvPr/>
        </p:nvGrpSpPr>
        <p:grpSpPr>
          <a:xfrm>
            <a:off x="457200" y="380880"/>
            <a:ext cx="8001000" cy="1524240"/>
            <a:chOff x="457200" y="380880"/>
            <a:chExt cx="8001000" cy="1524240"/>
          </a:xfrm>
        </p:grpSpPr>
        <p:sp>
          <p:nvSpPr>
            <p:cNvPr id="113" name="Text Box 2"/>
            <p:cNvSpPr/>
            <p:nvPr/>
          </p:nvSpPr>
          <p:spPr>
            <a:xfrm>
              <a:off x="457200" y="447840"/>
              <a:ext cx="296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El Modo Indicativo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4"/>
            <p:cNvSpPr/>
            <p:nvPr/>
          </p:nvSpPr>
          <p:spPr>
            <a:xfrm>
              <a:off x="4794840" y="482760"/>
              <a:ext cx="3571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Habla de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hecho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Habla de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certidumbre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Habla de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la realidad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457200" y="380880"/>
              <a:ext cx="297180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24280" y="380880"/>
              <a:ext cx="3733920" cy="1524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>
              <a:off x="3809880" y="76212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Group 16"/>
          <p:cNvGrpSpPr/>
          <p:nvPr/>
        </p:nvGrpSpPr>
        <p:grpSpPr>
          <a:xfrm>
            <a:off x="304920" y="3276720"/>
            <a:ext cx="8576280" cy="3276360"/>
            <a:chOff x="304920" y="3276720"/>
            <a:chExt cx="8576280" cy="3276360"/>
          </a:xfrm>
        </p:grpSpPr>
        <p:sp>
          <p:nvSpPr>
            <p:cNvPr id="119" name="Text Box 3"/>
            <p:cNvSpPr/>
            <p:nvPr/>
          </p:nvSpPr>
          <p:spPr>
            <a:xfrm>
              <a:off x="472680" y="3657600"/>
              <a:ext cx="308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El Modo Subjuntivo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5"/>
            <p:cNvSpPr/>
            <p:nvPr/>
          </p:nvSpPr>
          <p:spPr>
            <a:xfrm>
              <a:off x="4793400" y="3706920"/>
              <a:ext cx="40878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Expresa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la duda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Expresa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los deseo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Expresa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la incertidumbre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osas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irreale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osas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contrarias a la 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realidad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Oval 8"/>
            <p:cNvSpPr/>
            <p:nvPr/>
          </p:nvSpPr>
          <p:spPr>
            <a:xfrm>
              <a:off x="304920" y="3429000"/>
              <a:ext cx="3352680" cy="10666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4419720" y="3276720"/>
              <a:ext cx="4419360" cy="3276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3809880" y="396252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1" name="projctor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A7FE-8C2B-45BC-9FFA-A3450E206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295280" y="6094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What is a clause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3400" y="1676520"/>
            <a:ext cx="771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-is a group of words with a grammatical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ubject, understood or expressed, and a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njugated verb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164960" y="3657600"/>
            <a:ext cx="709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-in Spanish we worry about the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ependent clauses (subordinated)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eaning they tell the listener WHA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s asserted by the speaker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73C9-7224-4019-81ED-9E28CABD5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48400" y="838080"/>
            <a:ext cx="886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Times New Roman"/>
              </a:rPr>
              <a:t>Jane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hope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at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he boy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s tall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Times New Roman"/>
              </a:rPr>
              <a:t>We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pref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at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he computer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ork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Times New Roman"/>
              </a:rPr>
              <a:t>We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know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at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here are four bird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n the roof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589920" y="320040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QU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573840" y="4267080"/>
            <a:ext cx="783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entences have 2 parts connected by the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ord QUE will require the subjunctive,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ong with 2 different subject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EE32-A3B9-4DA7-8EDD-9763366EF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455760" y="914400"/>
            <a:ext cx="4895640" cy="1101600"/>
            <a:chOff x="455760" y="914400"/>
            <a:chExt cx="4895640" cy="1101600"/>
          </a:xfrm>
        </p:grpSpPr>
        <p:pic>
          <p:nvPicPr>
            <p:cNvPr id="134" name="Picture 3" descr="c:\Program Files\Microsoft Office\Clipart\standard\stddir1\bd05090_.wmf"/>
            <p:cNvPicPr/>
            <p:nvPr/>
          </p:nvPicPr>
          <p:blipFill>
            <a:blip r:embed="rId1"/>
            <a:stretch/>
          </p:blipFill>
          <p:spPr>
            <a:xfrm>
              <a:off x="455760" y="914400"/>
              <a:ext cx="121896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2890800" y="1177920"/>
              <a:ext cx="246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Goudy Stout"/>
                </a:rPr>
                <a:t>Noun Clause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Group 12"/>
          <p:cNvGrpSpPr/>
          <p:nvPr/>
        </p:nvGrpSpPr>
        <p:grpSpPr>
          <a:xfrm>
            <a:off x="3117600" y="2092320"/>
            <a:ext cx="5635800" cy="1203480"/>
            <a:chOff x="3117600" y="2092320"/>
            <a:chExt cx="5635800" cy="1203480"/>
          </a:xfrm>
        </p:grpSpPr>
        <p:pic>
          <p:nvPicPr>
            <p:cNvPr id="137" name="Picture 4" descr="c:\Program Files\Microsoft Office\Clipart\standard\stddir3\hh00779_.wmf"/>
            <p:cNvPicPr/>
            <p:nvPr/>
          </p:nvPicPr>
          <p:blipFill>
            <a:blip r:embed="rId2"/>
            <a:stretch/>
          </p:blipFill>
          <p:spPr>
            <a:xfrm>
              <a:off x="7999560" y="2092320"/>
              <a:ext cx="753840" cy="12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8"/>
            <p:cNvSpPr/>
            <p:nvPr/>
          </p:nvSpPr>
          <p:spPr>
            <a:xfrm>
              <a:off x="3117600" y="2487600"/>
              <a:ext cx="309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Goudy Stout"/>
                </a:rPr>
                <a:t>Adjective Clause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Group 13"/>
          <p:cNvGrpSpPr/>
          <p:nvPr/>
        </p:nvGrpSpPr>
        <p:grpSpPr>
          <a:xfrm>
            <a:off x="484200" y="3540240"/>
            <a:ext cx="5444280" cy="1101600"/>
            <a:chOff x="484200" y="3540240"/>
            <a:chExt cx="5444280" cy="1101600"/>
          </a:xfrm>
        </p:grpSpPr>
        <p:pic>
          <p:nvPicPr>
            <p:cNvPr id="140" name="Picture 5" descr="c:\Program Files\Microsoft Office\Clipart\standard\stddir2\bs00747_.wmf"/>
            <p:cNvPicPr/>
            <p:nvPr/>
          </p:nvPicPr>
          <p:blipFill>
            <a:blip r:embed="rId3"/>
            <a:stretch/>
          </p:blipFill>
          <p:spPr>
            <a:xfrm>
              <a:off x="484200" y="3540240"/>
              <a:ext cx="119052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9"/>
            <p:cNvSpPr/>
            <p:nvPr/>
          </p:nvSpPr>
          <p:spPr>
            <a:xfrm>
              <a:off x="3199680" y="3844800"/>
              <a:ext cx="27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Goudy Stout"/>
                </a:rPr>
                <a:t>Adverb Clause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Group 14"/>
          <p:cNvGrpSpPr/>
          <p:nvPr/>
        </p:nvGrpSpPr>
        <p:grpSpPr>
          <a:xfrm>
            <a:off x="2170440" y="4800600"/>
            <a:ext cx="6821280" cy="1143000"/>
            <a:chOff x="2170440" y="4800600"/>
            <a:chExt cx="6821280" cy="1143000"/>
          </a:xfrm>
        </p:grpSpPr>
        <p:pic>
          <p:nvPicPr>
            <p:cNvPr id="143" name="Picture 6" descr="c:\Program Files\Common Files\Microsoft Shared\Clipart\cagcat50\BD05219_.WMF"/>
            <p:cNvPicPr/>
            <p:nvPr/>
          </p:nvPicPr>
          <p:blipFill>
            <a:blip r:embed="rId4"/>
            <a:stretch/>
          </p:blipFill>
          <p:spPr>
            <a:xfrm>
              <a:off x="7770960" y="4800600"/>
              <a:ext cx="122076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/>
            <p:cNvSpPr/>
            <p:nvPr/>
          </p:nvSpPr>
          <p:spPr>
            <a:xfrm>
              <a:off x="2170440" y="5292720"/>
              <a:ext cx="349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Goudy Stout"/>
                </a:rPr>
                <a:t>Conditional Clause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TextBox 14"/>
          <p:cNvSpPr/>
          <p:nvPr/>
        </p:nvSpPr>
        <p:spPr>
          <a:xfrm>
            <a:off x="2231640" y="304920"/>
            <a:ext cx="43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our types of Claus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5" name="projctor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E491-E49F-44D7-B160-4F533D40E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19669" dir="3481869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oudy Stout"/>
              </a:rPr>
              <a:t>Noun Clau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Las Cláusulas Sustantiva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6553-6C64-43B1-AFFA-AFF960321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1142640" y="409680"/>
            <a:ext cx="68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Noun Clauses, the Subjunctive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oes not just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happe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it i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ause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85800" y="25146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use for the subjunctive is in the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cipal clause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 cláusula princip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bjunctive is in the subordina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use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 cláusula subordina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c:\Program Files\Common Files\Microsoft Shared\Clipart\cagcat50\BD04956_.WMF"/>
          <p:cNvPicPr/>
          <p:nvPr/>
        </p:nvPicPr>
        <p:blipFill>
          <a:blip r:embed="rId1"/>
          <a:stretch/>
        </p:blipFill>
        <p:spPr>
          <a:xfrm>
            <a:off x="3122640" y="4838760"/>
            <a:ext cx="297324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2" name="projctor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2:24:20Z</dcterms:created>
  <dc:creator>Thomas and Jennifer Duggan</dc:creator>
  <dc:description/>
  <dc:language>en-US</dc:language>
  <cp:lastModifiedBy> </cp:lastModifiedBy>
  <dcterms:modified xsi:type="dcterms:W3CDTF">2012-01-31T22:04:29Z</dcterms:modified>
  <cp:revision>170</cp:revision>
  <dc:subject/>
  <dc:title>El Modo Subjuntivo</dc:title>
</cp:coreProperties>
</file>